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BAC-04FB-4EC3-8731-7DFA6CE2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352-4DCD-4BD7-9043-00950645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D93-3D93-4A9A-B7C3-E28959A7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753-43AB-4B61-B057-466C0E62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182-BD9F-45C6-846F-EB84E924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1B4-97EC-4784-83A8-B86D0FB4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21A-9619-4C67-9DDE-EB44D9E5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CB4-155B-4408-8B88-E31727BC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81E-A514-474A-9B42-41AC71DD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F51-D1B3-4917-936F-F7E14ED8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19D-D3F7-4440-AF04-F421A340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C90-1453-4CF8-B846-15E443B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6793-DC73-4968-87ED-5608ADD3B5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gif"/><Relationship Id="rId3" Type="http://schemas.openxmlformats.org/officeDocument/2006/relationships/slide" Target="slide5.xml"/><Relationship Id="rId4" Type="http://schemas.openxmlformats.org/officeDocument/2006/relationships/image" Target="../media/image4.gif"/><Relationship Id="rId5" Type="http://schemas.openxmlformats.org/officeDocument/2006/relationships/slide" Target="slide6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gif"/><Relationship Id="rId3" Type="http://schemas.openxmlformats.org/officeDocument/2006/relationships/slide" Target="slide4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u1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0" y="1295280"/>
            <a:ext cx="68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女娲造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5240" y="236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524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efaul1" descr="wpe1.jpg (24486 bytes)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vwa" descr=""/>
          <p:cNvPicPr/>
          <p:nvPr/>
        </p:nvPicPr>
        <p:blipFill>
          <a:blip r:embed="rId1"/>
          <a:stretch/>
        </p:blipFill>
        <p:spPr>
          <a:xfrm>
            <a:off x="304920" y="0"/>
            <a:ext cx="2192040" cy="263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0400" y="228600"/>
            <a:ext cx="556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《风俗通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9144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通常说天地开辟以后，还没有人类。女娲揉团黄土造成人。这项工作太费力了，女娲忙不过来，就把一根绳子放到泥浆中，拉出来，溅出的泥点子就成了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3434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女娲在神祠里祷告，祈求神任命她做女媒。于是女娲就安排男女婚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398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9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朗读课文，画出短文所没有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85800"/>
            <a:ext cx="807696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女娲造人的具体过程是真的吗？你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怎样理解这种写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66688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也发挥自己的想象，对女娲造人的动机、经过做另一种推测，说给大家听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探究品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876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华文新魏"/>
                <a:ea typeface="华文新魏"/>
              </a:rPr>
              <a:t>说说你对女娲的认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4864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画出文中表现对人类诞生的喜悦心情的句子，讨论交流一下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3808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59" name="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5880" y="22096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60" name="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53080" y="6095880"/>
            <a:ext cx="4683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1430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0"/>
            <a:ext cx="8229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、女娲造人的具体过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7621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、人造出来后的欢心喜悦场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600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、女娲象人一样具有心理活动和</a:t>
            </a:r>
            <a:r>
              <a:rPr b="1" lang="zh-CN" sz="4000" spc="-1" strike="noStrike" u="sng">
                <a:solidFill>
                  <a:srgbClr val="009900"/>
                </a:solidFill>
                <a:uFillTx/>
                <a:latin typeface="华文新魏"/>
                <a:ea typeface="华文新魏"/>
              </a:rPr>
              <a:t>喜怒哀乐的情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神话是在科学水平不发达的远古时代产生的，那时的人们无法对人的诞生做出科学的准确的解释。但是，人类又想探求自身起源，所以，只好借助于想象来解决这个问题了。这种想象体现了远古时代人们那种强烈的探求欲望。同时，这种奇特的想象也创造了古代的神话故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57800" y="228600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67" name="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4120" y="6435720"/>
            <a:ext cx="4683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、比较《女娲造人》与《伊甸园里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你喜欢那一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2096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总结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：</a:t>
            </a: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女娲造人，体现了人类可贵的创造精神，也使我们感受到生而为人的自豪。今天，我们面对的广大世界，依然有许多未知领域，等待我们去探求，去追索，去感受那创造成功的喜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5228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字词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600200"/>
            <a:ext cx="8839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女娲  茫莽榛榛  澄澈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掺合 揉团 掘起 捏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1430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w ā           mǎng     zhēn     ché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272736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chān           róu          jué           ni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6880" y="43527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解词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41008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Times New Roman"/>
              </a:rPr>
              <a:t>开辟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古代神话，盘古氏开天辟地，简称开辟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2860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澄澈</a:t>
            </a:r>
            <a:r>
              <a:rPr b="0" lang="zh-CN" sz="6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：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清澈透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3716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绵延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延续不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971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兴高采烈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兴致高，精神足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49568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Times New Roman"/>
              </a:rPr>
              <a:t>女娲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传说中造人，补天的神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形近字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371600"/>
            <a:ext cx="556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掘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42244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倔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7524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33640" y="9907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掺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6280" y="19051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惨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9257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渗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21932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990720"/>
            <a:ext cx="38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踪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1905120"/>
            <a:ext cx="2895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棕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92572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综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1295280"/>
            <a:ext cx="457200" cy="2514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962520"/>
            <a:ext cx="624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山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崖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天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343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03848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泥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502920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</a:rPr>
              <a:t>船</a:t>
            </a:r>
            <a:r>
              <a:rPr b="1" lang="zh-CN" sz="6600" spc="-1" strike="noStrike">
                <a:solidFill>
                  <a:srgbClr val="009900"/>
                </a:solidFill>
                <a:latin typeface="Times New Roman"/>
              </a:rPr>
              <a:t>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4419720"/>
            <a:ext cx="76320" cy="167616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2:48:48Z</dcterms:created>
  <dc:creator>wutao</dc:creator>
  <dc:description/>
  <dc:language>en-US</dc:language>
  <cp:lastModifiedBy>1</cp:lastModifiedBy>
  <dcterms:modified xsi:type="dcterms:W3CDTF">2002-12-24T01:28:56Z</dcterms:modified>
  <cp:revision>100</cp:revision>
  <dc:subject/>
  <dc:title>PowerPoint 演示文稿</dc:title>
</cp:coreProperties>
</file>