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23.jpeg" ContentType="image/jpeg"/>
  <Override PartName="/ppt/media/image21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F06-1421-4405-93D5-CD8FC07E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E48-8CE8-4FA7-880C-5FE2AA68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64301-E372-464E-B2A3-723794F2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3E685-4AB8-4BA8-8F42-97A37511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7E69E-373B-4CFC-B876-62149140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196E7-30C8-4ED4-9693-21465EA4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580F9-AC3A-49C6-A5ED-6EA12F8E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D57F6-37C4-4CDC-BCF8-2CB6AE73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ABCBE-D923-4D29-A5C7-30FE0F31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5B5EC-4531-47BF-B4CF-4C903682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D385E-CDCA-4AF1-B2F4-63B02598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E818A-E51A-4F73-8E4A-D04AB807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87CF-73BB-42DB-9ADE-885972E7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1407A-A5EF-4835-9C82-D85C539E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E7B81-8B3E-48E9-B20E-264137E6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63468-28A6-4717-AAE5-DEA0FFDE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3F1EC-DEC9-4A7F-99B3-7B8CCF52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5CBF8-1501-440A-B0C1-84736722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0D4D9-B771-4409-9458-A8820ACA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378A0-97AB-4033-A371-753B226C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69D7E-93A7-40F4-922A-1BC18DB1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A5285-C50D-408C-A185-D2FFA139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32643-8007-481F-A20D-992D2ACD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4CD-789D-4535-A62B-0B32853A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08F02-A969-4145-AF6C-69A0FB61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60809-52C1-4058-A745-400A1F17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8B234-CDF6-4B63-99F2-74CE7CE5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E8122-5E96-4043-89B2-1716753F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859F6-3A1B-463D-A4AD-8E0BF5F4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3A4EC-7E45-4BF0-8A42-7592C44D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56A70-0004-4123-B2B0-E3CF3CB5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04185-38C5-4111-B5BA-1BDC7F52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724A4-8DCE-46BD-AE04-0CD29099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D6908-017F-4DB5-8762-690D7C3D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9D1D-F4EE-42F4-A09A-EAFCFAA6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FFD1C-6FC1-4243-B5B6-75694EDB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FE04D-868D-4A71-9973-269CD8C4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43404-716F-46CA-A872-9956DE0A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A35AB-9955-48E1-A41E-5126E930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4028E-7326-4172-BB0A-B7941AEC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4E4D6-D85A-46AB-A9BC-B54ECA70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A132D-4E61-403D-B209-B726A9E0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AE668-59BD-4303-9FC1-414241ED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F72B1-C5EB-4375-8CE0-1E74173A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DA5B8-61D4-4E4F-96E2-921B1AD7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E72A-A1A0-4893-9A47-36B7D94E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15F7A-4B4A-4B25-B753-5BEC4DB0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00991-C3D9-45B1-89F6-C4CAD391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78506-B29A-450B-A6F1-12FD697E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F699C-A629-45D2-9208-94B9A3BD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AC27C-5FCD-4309-A613-951ADC52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AF5B-1B1A-4AEC-A499-2C497F15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3CC8AD-4CAF-4199-8105-8786ECD9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02C86-11BC-4322-9BE1-79A2787C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4CC61-CAD7-46A2-84C3-1033B299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93E8-F68B-4817-B285-2C057087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0CD17-2869-4050-A111-80BABB27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93D08-82AF-4760-8B14-C6119828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E35E1-4952-46A9-AD50-C35D9F6C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D8C3A-F9DD-43A6-9107-A309F938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A9ACE0-C4D5-4CF1-BF12-13B89633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B4D90-7803-4D1F-B272-5B0EED9A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6FC8F0-9976-4C2B-88CD-B129DC7A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9F32A8-F0BE-4C0B-9184-5BF6EE91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43323-F9D0-4092-92B3-9F208C32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43FC3-4E66-4B4C-B65E-3C7AA1C2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D135-B6BF-45F9-B2E4-9F154CFF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A5876A-6660-4F69-B20C-F44E1BCD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3BAB1-8EC0-46EA-8908-F3CD20C6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91C21-E503-4ACA-86CD-2A91BDAA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6A9EB-65F0-4337-BBB9-02543C24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C2EEF-21C6-4BCF-984A-C60F0779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4D554-9AAD-4FA1-BDB9-055806CF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E6656-DDA9-4F7B-BD06-8524000E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2F1BE-0034-4326-A86E-19A68740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60AF2D-3BC1-43CA-BE46-D45BFDCE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2EFE6-A1CB-42AC-8ACC-15A8030D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0203-C156-469D-AE54-0BC96600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112B5-2FE9-4A70-B880-1CD9F37D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11D0FE-BB3F-43DC-85DE-E39CA5BD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C2367-BDC2-41BD-903C-3565F846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DCCBE7-15BB-46C2-8CBB-E082DC61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E62B06-07B7-4FE8-88FF-76F4A886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65E308-63E2-4CD2-AD82-99BE3D2D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AAECA-2E53-4913-B47E-35B4B3A2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8D48DF-BB69-41E2-9688-2735A5C9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1EFA22-15BA-4525-BB26-68B67044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7DFB15-A251-4C56-812C-D7FC879E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9FB7-C334-4B38-89F8-4BE98030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894FD9-8086-4CE5-9905-630858B9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43BD0A-25F4-4943-8CD7-9B5D76BC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55D2A2-EF7C-49ED-ADEC-1AA2992F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3713A6-F41E-4689-8CCF-A749A5C5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17874C-A24F-47AF-A203-CE699D05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1BDBE4-72CB-4070-A6BE-DF995959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5D388F-F297-428C-ADBC-B6ED050F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167051-6330-4038-978A-4F522E59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26DFDB-8B53-4AFD-BE7D-7C85A560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83AA83-5F36-4774-B02C-5931F0BF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81F-8FD8-41E2-9D2F-22C3712B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3249-55CA-4438-A31C-4E0FEB10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15B1F2-13D9-4E77-86C7-ADFA8FF9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F70824-B037-4F56-997B-4E3AE00A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2A8278-697A-48A1-9AA8-9CCEA760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7F6F2B-7D61-4E7B-9856-A73B9FB7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A5D0E0-76FB-453C-9ACA-F774E92D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D52183-59AD-4FC0-A6DF-3DBD64C2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AC7675-D27C-41D1-A9D4-7B547832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688A4D-3525-4ED6-8665-3FD3B012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4066F0-69E8-4A20-A93B-97C3B992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CF7149-F3A7-4417-A3F9-910DF11E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6E14-6ADB-4BAC-B1AC-37CE9411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543E66-0135-46C6-905E-6E8C104A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BCB609-9010-47C3-A326-EF3E11DB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EBC178-BD0E-4F03-9974-12FA0C2B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82C037-AFA9-41BA-AA66-69989061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F151E1-2ADB-419D-8C35-AD4DA48E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628BF7-1D13-4D06-AC17-73595F08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DDD7DB-FE1F-410A-9D36-8E5B3A73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509AEE-66EB-4244-A37B-D9731424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224A39-2354-4CB8-B77D-B24C3041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1F9770-283D-4FFE-95E6-2EFFD70D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7B44-B3AD-451E-8EB5-1DF0484E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8A8176-57BA-4600-BC31-0B8A595B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CE9386-BAA0-4BD8-B3C2-C3C83B16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BC75C5-C932-45B9-A6DC-1D93A6D7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DB78E5-29DD-4B5E-A0C8-4D714389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FCD708-D204-4671-9F0C-752929A2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B5412C-E678-4A76-90A3-113508E5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F04A7B-D11A-44B8-8ADB-AB5AB989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8528F6-E82D-4B01-8FC4-8ED8131B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54FA65-EC18-45E9-9D88-3F8418ED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BC09E8-BEDD-4032-B0AC-D934624C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A680-4548-409B-92D8-0B844115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4F4070-119A-4546-94DA-31D335E6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6FC90A-B8C4-41AB-B621-6A8127F6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3AF7C6-6DCF-45EF-923E-1B09DD03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21CDD6-767A-4973-B531-04F6D741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6D1FB7-8E8A-4FCE-8C32-930E70D0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593CA7-3331-444C-B50D-FC8D55C2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E9479D-D986-490C-98E7-5FA2A1D2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1722EE-774B-4692-8252-36B691B6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963412-0D8A-4848-A0B3-D289E789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1CE9B7-C8FA-40A4-8C00-7ACEA8AD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4C12-9033-43C6-99B3-279185ED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694AA3-0BD3-400A-867D-2EC64807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A7AB25-0A7A-4436-B346-A6CA54C4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90FA9F-2A8E-4F4D-B8C3-6C289FE5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898FF1-C743-4E08-838B-70349372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0B33C5-EC4B-427B-AA61-C39C5FBD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374420-F3BE-4AC4-A44F-40C543E5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8D636F-9331-49D4-B28D-78000BBD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F1242D-F5F9-4DCD-9A0D-6314F8EF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EB5B86-317C-4388-AC09-784C0FF5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5847B9-FED7-4503-930F-B9B01029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31C3-0557-445C-8CE7-480F8501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553ED6-1B0F-40C1-9FE4-BC5E43C6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635476-A2D7-45A2-BBE4-5BAF406E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92602B-5DBB-4B58-87A9-74B4B5BB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FF0CF7-A669-4771-985D-A340910E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83D9BD-071C-4BDF-B945-FF4C1DEC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C486BC-3CDE-40FA-A634-410F2837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95911A-DDB9-4DDD-A9DB-61D64677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092A88-4A80-4BF9-A6B7-E925789B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08485F-2F27-4F33-A4E0-4A967575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8D04CA-6D0A-47E9-AE37-8A2140C5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224C0-DC3C-49BC-957B-616DA032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9847E1-764C-4AAF-8BD0-3A2D87D0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75CD8B-8FEE-4765-8C64-FEFAA38B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0AD3E9-52F1-4280-B598-0ABA3ADE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9B4D54-8260-40F1-9C0E-3A0BDEAA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47EAB4-6026-4370-A3F9-C1A3B853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1F4D76-BD37-433B-9132-ED7D0232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D0BDA7-CA27-488D-9DFF-CF494504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7C88CC-948F-47BF-9247-45D8E126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CC0BC5-29AE-4BD8-9943-2F1FD927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2E6252-011D-4205-AB28-52A61362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8B230-439D-4635-958E-06752427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4A33EF-127B-41CE-8BE9-BEE49C45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B42900-FA17-4DBB-850D-75AB0E59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C0FACF-DBD5-43C8-960C-9E5B77F4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2D3044-BF94-486C-B2A8-172FDB16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326867-D7CD-4ACB-B061-9A29AA93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818BCA-2215-4BA4-8042-24F96F91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88B503-3DD1-47D4-A54B-31552318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E1EC4D-F801-4927-BC78-144D6BE8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B2836F-2A18-4735-8FDD-F61231B2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92BC4B-CB11-4CB0-88F4-0AAEB177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BF897-431B-4CD2-9138-E0B99B70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920BEF-D889-4F8E-994F-8547CFEA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8796E6-8261-4EC5-B770-AEB5F0BA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98E974-DDE5-44CA-BE91-CB035BDF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ED9D6F-BCF1-4D89-B345-BA19D566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CAC3C1-0894-47B5-BB59-C0F2F0AE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60B50B-64B6-4853-9667-C4012705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50FDC8-6AC9-4CE2-8DD8-2D27A253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172E18-7B7E-44CF-BA10-0E0B09F0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71428F-E65F-4E20-B707-03AA533D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D7A23B-667F-40B6-B1AF-E8E25591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46EDA-1522-4A19-909B-9A170B6D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06B3BD-5030-4A61-9BF7-FE754D2D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C1595D-7147-4139-94D9-0D972A5B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E481A8-A461-44AB-9A08-EA641191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2BB93A-1828-4112-872C-FEEE5082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5AC218-8916-43F1-8F96-D75C943D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F3BB43-31A6-426C-8900-A90367A9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842D7D-3420-4F58-B01A-D9B33E9B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4A4B97-0B12-420B-B48A-00DF6EF0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3DB1CA-B12D-4A55-9774-4E5B58A2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97F43D-77E0-464C-BC44-25FE1B6D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8E3-C660-43A3-AE82-76836DB5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D75FE-3BF6-4E11-83B5-294171FE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A67911-979A-41F4-AEB3-FBFC5246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621209-FFF1-4746-A5F7-5472792D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81B3AB-0E19-48C4-A512-E868AC62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AE49D7-1D9B-4D03-A2FD-41E8F57E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646E4E-A7DF-467F-AFF5-01B54156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164ADB-F0BB-4730-B333-EE86E4AA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3D3D71-CA72-4198-BD9C-BC76CAD4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EF97F1-69BA-4062-A900-66F37A7C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1CD800-0BC8-4BBC-8A77-29536EE7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F39BE9-E7D3-4F3A-AA4D-FDF2BB5C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02BBD-051B-4D39-BF2E-74B0562D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600A64-DC66-42D7-871E-A823299F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956BE5-5E7F-404C-8ABE-4EFA4684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4721A1-D356-4DD7-B58F-BA548147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44353E-BF3A-4D59-A1D1-469EE314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E3D12D-9662-4E99-89D3-83DC2F35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6C2708-6B04-436E-B559-EE42615C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D78814-BC33-4BC1-BC32-5715F3EE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CFF4D0-E7B3-473C-8CF2-79CC7D22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167933-7D8D-465B-80C4-229DB4CB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A1D9ED-3D6A-4C72-A70C-824CEEA4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B4BF2-3DE8-4A9B-A113-8CA556E7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28CE06-F872-4C03-BAAF-FDDE8A62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90B16E-2378-4D18-8E45-313990BC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9CD56E-6D3B-430C-9693-5779B1F3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526C34-8198-417B-853D-5A992812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D52D3A-3D7F-40C4-ADD6-9D03D30D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FC8A72-CEDE-421C-9C91-9DDCCE1D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F48047-C96A-4A7F-B682-78D0BABB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804DFA-5EED-45A8-9E55-CE49EF3B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F726A4-EFB2-4062-9CCC-E8AAF5F0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CB95AB-0899-49B2-8AD6-896D2D68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34E9A-8593-4E6B-B37A-0B1A1B0D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9248BE-979F-49EB-839E-F22565E6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B84FD8-F4F2-430F-A066-04A50554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8C79C8-9BA3-42D2-BB4C-18CC3FB6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C0B7E0-54DD-4155-A91B-2CFCAB8D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35D2C2-A05C-483A-8ED3-5AF4F739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3A449B-27EC-4CF6-A53D-5CD9663E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A7B9FD-25E4-49B5-9EBB-BA991CCF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7E8BD-0989-4A99-AE72-90B4C4B7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7D798-0B02-4EFF-BB4F-35AEF271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0381B-E773-49F2-9517-8D6BF6D7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D0023-2F15-4AB4-8E42-85C4B2D5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1A71D-2D49-40C8-A963-19480AD7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8FB65-0DA3-483D-9271-F760F8CE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C35-D503-464B-AAD0-2C1CFE6B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C42BF-811F-46C9-8A1A-5E556466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67541-A3B5-4534-8ED4-622E68DC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43D59-884E-421F-8E76-4B23F2D7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228D2-7610-4B5B-904E-B67DBF37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F34CA-E01C-47B6-BBC6-9D1C5B6E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49730-6DF0-4531-BF82-F8DF6AA0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66AB5-7B8A-4279-9E43-8486B875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C3A41-D6B5-41D6-BC72-5E73D33C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59F1E-4590-49A5-8609-9BC4B31E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F69FF-AE99-4EC4-8FDF-76CEE1DB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F45-0B0F-44A7-9EF3-9776B931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81552-0DD4-423E-972A-55931B08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494DF-2BC3-446C-836D-3B01F613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5AC9A-69A2-4B79-8EE0-F9F2ED86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01BCC-8F53-4425-B0CF-5B7CBA5E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5A372-6181-4DB5-978F-A3C4DFB0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F1085-48EA-4BB3-B9FA-8311D018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8CEBB-8080-475A-87AA-A20A5FAF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EBB9C-6B55-4930-AEE0-520EBA28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55EDF-B418-4EAD-BCB7-4250E599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EAFE4-9DD7-4827-9E67-7158DD49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C47-0535-4368-B18D-33BF033C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8D6C3-804F-4931-9587-2390C3BF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10878-B86E-4506-AF9C-F1F9C15D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76C15-3F8D-4D83-AC87-91781F72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E593A-EB7D-4D9D-8A60-9B3D7BE2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052D3-CE9C-4A3F-9C9C-FB7EBCFF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A724A-5E1A-4951-B6F0-2FBFA905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F882A-2CD2-49D4-92F0-BA6AF78A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E36DD-5F72-4DC0-9CDE-C2E74012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55C1A-52A5-4FB1-AE3E-184A9E93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7266E-DC5F-4CD0-8136-F0425C76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68FF-B604-4F6E-AC50-21781E43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BFE0C-C2A4-4877-963B-7B1BF23C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2C1E3-5048-4C4D-B67F-4D7F88AC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F24C7-373C-4CB4-BA1C-EA6DC42C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2E1F1-A593-4D31-B8F4-DF1A5CE7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4A995-2B96-4CC1-A388-5F183E70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E690B-F18C-4F70-AAB9-2F7E63B2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7F58E-A5F6-4622-9468-DA84E517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C711E-9961-406F-A654-AE692793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B3026-7AEA-4F52-8A26-77999034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A43F7-ECA2-477C-B7EE-2DF10F2B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1BE-708B-401B-8249-C7BECF3C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2BDB6-568B-46E3-8A82-AC2EC047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2DF1E-B9AB-4FA0-9333-758C7065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C3786-FA29-4535-B42A-E7C9B03E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18CF0-6A13-4CCC-9970-E1BB8A59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205F0-BC7B-4517-ABD9-40571E0C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63D74-EA64-4969-B3E7-97D71565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340C4-D90D-428F-A36E-00376A14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861F0-9D16-4467-AC87-9FCC372E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1EB86-2DDF-4108-BF4D-0E38AE15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587EF-D38F-4A1E-9DBB-9CE274BB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9FD-54B9-4A40-BAE7-841FF173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04F75-118F-4B2B-8C22-601FDD12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0AD14-B443-416A-ACBA-3EC4F25C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47D2D-531F-4CA2-BFE6-4D2B3AB0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D53A0-D909-4E20-93F9-4972DFC0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2F615-D3F6-4E52-AE13-3249A316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1F9B2-85FF-4A71-B0D4-B6AD240F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805AF-49FE-4680-A22F-DF9E8BA2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B1A4F-570A-464E-8C45-BFC43916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6C11F-86A3-4680-B8F9-7A887731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D5C7F-ED05-4BDF-83DD-E3D3830B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7CF9-48EB-4397-87AD-ED36C816F8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8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C934-ADD2-4DCB-B4D0-90939F1E60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1B0B-B43C-4B16-B3B9-5C971F2AC3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0FF4-5661-46E0-86AB-52501CFCB6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9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800F-0CED-4343-9E11-F61B2F0287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14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18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0879-2419-47F8-99D4-D299C4B5E37B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62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65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dt" idx="4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ftr" idx="4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sldNum" idx="4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D39F-F175-40BF-87C2-6DCA363BFB49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0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0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2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dt" idx="4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B7B6-8F4E-4415-AF67-553B5EF3AE6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0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0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1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dt" idx="4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D021-ED16-4E7F-86F4-BC840FA6AD25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1095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142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159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6" name="PlaceHolder 3"/>
          <p:cNvSpPr>
            <a:spLocks noGrp="1"/>
          </p:cNvSpPr>
          <p:nvPr>
            <p:ph type="dt" idx="52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53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54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95C9-51B6-46F4-8E3A-D7843EA19A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953C-5825-4EFA-B984-D885B6AB39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209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256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273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dt" idx="55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ftr" idx="56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sldNum" idx="57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EC1B-B522-4440-A781-8A63FEA9B8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2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30" name="PlaceHolder 1"/>
          <p:cNvSpPr>
            <a:spLocks noGrp="1"/>
          </p:cNvSpPr>
          <p:nvPr>
            <p:ph type="dt" idx="5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ftr" idx="5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 type="sldNum" idx="6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3C28-FDCA-4EFD-86F0-CE7F2B385D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7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dt" idx="6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6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6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DA07-668E-40B7-AFA0-24E594B13D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 type="dt" idx="6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 type="ftr" idx="6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 type="sldNum" idx="6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FAA3-E49B-41DD-91FF-CBC4F98298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dt" idx="6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228D-2589-4097-9D5D-FC2C2585EC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 type="dt" idx="7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 type="ftr" idx="7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 type="sldNum" idx="7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3BF4-1580-442A-8B2B-71B2CFDA499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5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5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5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5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dt" idx="7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ftr" idx="7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sldNum" idx="7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927E-6C02-40BB-BAD0-56EA22AC14B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7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598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599" name="" descr="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0" name="" descr="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3B4F-2F47-443E-A0AF-CEA1D03DA2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2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643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644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5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CE77-AF07-4F86-9CCE-D98218143F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B066-D5A4-486C-8C92-486F7FC427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D4DD-9835-45B9-8EE0-3EC01414E4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0683-F5CC-4299-BA96-7E1D12626E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82C3-8BB3-4616-AFA1-4D0ADC027B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7257-DCCC-482E-99B9-231E9350F0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F77F-875D-45BF-ADAC-6BB1D1785C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8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85000"/>
              <a:buFont typeface="Wingdings 2" charset="2"/>
              <a:buChar char="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7D1C-73AF-46DF-B300-AA8AFB8ABD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6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io-engine.com/" TargetMode="External"/><Relationship Id="rId2" Type="http://schemas.openxmlformats.org/officeDocument/2006/relationships/hyperlink" Target="http://www.hhfg.org/" TargetMode="External"/><Relationship Id="rId3" Type="http://schemas.openxmlformats.org/officeDocument/2006/relationships/hyperlink" Target="http://www.gz-todag.com/" TargetMode="External"/><Relationship Id="rId4" Type="http://schemas.openxmlformats.org/officeDocument/2006/relationships/hyperlink" Target="http://www.guanzhong.gd.cn/" TargetMode="External"/><Relationship Id="rId5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COCHET.WAV" TargetMode="External"/><Relationship Id="rId2" Type="http://schemas.microsoft.com/office/2007/relationships/media" Target="file:///tmp/home/.config/libreoffice/4/user/gallery/RICOCHET.WAV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-1116360" y="685440"/>
            <a:ext cx="95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 你喜欢我创造的女娲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形象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77384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请以文中的语句加以说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要求：</a:t>
            </a: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隶书"/>
              </a:rPr>
              <a:t>有感情的读出原文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华文细黑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/>
          </p:nvPr>
        </p:nvSpPr>
        <p:spPr>
          <a:xfrm>
            <a:off x="1979640" y="234900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99"/>
                </a:solidFill>
                <a:latin typeface="Arial Narrow"/>
                <a:ea typeface="华文行楷"/>
              </a:rPr>
              <a:t>   </a:t>
            </a:r>
            <a:r>
              <a:rPr b="0" lang="zh-CN" sz="4000" spc="-1" strike="noStrike">
                <a:solidFill>
                  <a:srgbClr val="ffcc99"/>
                </a:solidFill>
                <a:latin typeface="华文行楷"/>
                <a:ea typeface="华文行楷"/>
              </a:rPr>
              <a:t>3</a:t>
            </a:r>
            <a:r>
              <a:rPr b="0" lang="zh-CN" sz="4000" spc="-1" strike="noStrike">
                <a:solidFill>
                  <a:srgbClr val="ffcc99"/>
                </a:solidFill>
                <a:latin typeface="华文行楷"/>
                <a:ea typeface="华文行楷"/>
              </a:rPr>
              <a:t>、</a:t>
            </a:r>
            <a:r>
              <a:rPr b="0" lang="zh-CN" sz="6000" spc="-1" strike="noStrike">
                <a:solidFill>
                  <a:srgbClr val="ffcc99"/>
                </a:solidFill>
                <a:latin typeface="Arial Narrow"/>
                <a:ea typeface="华文行楷"/>
              </a:rPr>
              <a:t> </a:t>
            </a:r>
            <a:r>
              <a:rPr b="0" lang="zh-CN" sz="4000" spc="-1" strike="noStrike">
                <a:solidFill>
                  <a:srgbClr val="ffcc99"/>
                </a:solidFill>
                <a:latin typeface="Arial Narrow"/>
                <a:ea typeface="方正舒体"/>
              </a:rPr>
              <a:t>你能就我的这个故事谈谈你对神话的认识吗？（神话的特点）</a:t>
            </a:r>
            <a:endParaRPr b="0" lang="en-US" sz="40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1547640" y="0"/>
            <a:ext cx="259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走近神话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-1621080" y="-36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6699"/>
                </a:solidFill>
                <a:latin typeface="Arial Black"/>
                <a:ea typeface="华文行楷"/>
              </a:rPr>
              <a:t>神话的特点：</a:t>
            </a:r>
            <a:endParaRPr b="0" lang="en-US" sz="48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神话是原始人对自然和社会的认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神话富有幻想的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神话中的人物形象都是神或半人半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/>
          </p:nvPr>
        </p:nvSpPr>
        <p:spPr>
          <a:xfrm>
            <a:off x="301680" y="1267920"/>
            <a:ext cx="85406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你能对女娲造人的动机、方法作新的想像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要求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前后桌为小组讨论，一人记录，一人                 主持发言，其他成员参与想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00"/>
                </a:solidFill>
                <a:uFillTx/>
                <a:latin typeface="Arial"/>
                <a:ea typeface="华文行楷"/>
              </a:rPr>
              <a:t>时间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天地初开后随便一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00"/>
                </a:solidFill>
                <a:uFillTx/>
                <a:latin typeface="Arial"/>
                <a:ea typeface="华文行楷"/>
              </a:rPr>
              <a:t>地点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球范围内任意一旮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 txBox="1"/>
          <p:nvPr/>
        </p:nvSpPr>
        <p:spPr>
          <a:xfrm rot="21275400">
            <a:off x="539640" y="404280"/>
            <a:ext cx="32004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放飞想像的翅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"/>
          <p:cNvSpPr/>
          <p:nvPr/>
        </p:nvSpPr>
        <p:spPr>
          <a:xfrm>
            <a:off x="609480" y="228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eec94"/>
                </a:solidFill>
                <a:latin typeface="Times New Roman"/>
                <a:ea typeface="隶书"/>
              </a:rPr>
              <a:t>推荐资料及网站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380880" y="91440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380880" y="99072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609480" y="380880"/>
            <a:ext cx="0" cy="5943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990720" y="1486080"/>
            <a:ext cx="6705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、《中国科普佳作精选 》第一部（方宗熙著）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、《进化论思想》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、《中国文学史》 第一章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1"/>
              </a:rPr>
              <a:t>http://www.bio-engine.co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2"/>
              </a:rPr>
              <a:t>http://www.hhfg.o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3"/>
              </a:rPr>
              <a:t>http://www.gz-todag.co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4"/>
              </a:rPr>
              <a:t>http://www.guanzhong.gd.c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"/>
          <p:cNvSpPr txBox="1"/>
          <p:nvPr/>
        </p:nvSpPr>
        <p:spPr>
          <a:xfrm rot="451200">
            <a:off x="755280" y="907920"/>
            <a:ext cx="1057320" cy="9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作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课外阅读有关人类起源问题的资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将文中的故事或自己改编的故事讲给你的父母或朋友听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4" name=""/>
          <p:cNvSpPr txBox="1"/>
          <p:nvPr/>
        </p:nvSpPr>
        <p:spPr>
          <a:xfrm>
            <a:off x="2340000" y="1844640"/>
            <a:ext cx="4537080" cy="24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7451640" y="691920"/>
            <a:ext cx="10065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6699"/>
                </a:solidFill>
                <a:latin typeface="Arial Black"/>
                <a:ea typeface="黑体"/>
              </a:rPr>
              <a:t>盘古开天辟地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pic>
        <p:nvPicPr>
          <p:cNvPr id="16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308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7884720" y="764640"/>
            <a:ext cx="801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后羿射日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89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956360" y="1197000"/>
            <a:ext cx="8269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嫦娥奔月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7740720" y="274680"/>
            <a:ext cx="94608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女娲造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女娲造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袁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/>
          </p:nvPr>
        </p:nvSpPr>
        <p:spPr>
          <a:xfrm>
            <a:off x="324000" y="2362320"/>
            <a:ext cx="8820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003366"/>
                </a:solidFill>
                <a:latin typeface="方正舒体"/>
                <a:ea typeface="方正舒体"/>
              </a:rPr>
              <a:t>大家好</a:t>
            </a:r>
            <a:r>
              <a:rPr b="0" lang="zh-CN" sz="4400" spc="-1" strike="noStrike">
                <a:solidFill>
                  <a:srgbClr val="003366"/>
                </a:solidFill>
                <a:latin typeface="方正舒体"/>
                <a:ea typeface="方正舒体"/>
              </a:rPr>
              <a:t>!</a:t>
            </a:r>
            <a:r>
              <a:rPr b="0" lang="zh-CN" sz="4400" spc="-1" strike="noStrike">
                <a:solidFill>
                  <a:srgbClr val="003366"/>
                </a:solidFill>
                <a:latin typeface="方正舒体"/>
                <a:ea typeface="方正舒体"/>
              </a:rPr>
              <a:t>我是袁珂。很高兴能与你们一起探讨神话。在探讨过程中，我将向你们提问四大问题，你们有信心解答吗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971640" y="981000"/>
            <a:ext cx="182880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走近袁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/>
          <p:nvPr/>
        </p:nvSpPr>
        <p:spPr>
          <a:xfrm>
            <a:off x="6785640" y="1844640"/>
            <a:ext cx="667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《风俗通》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5415480" y="1700280"/>
            <a:ext cx="12772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1c1c1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通常说天地开辟以后，还没有人类。女娲揉团黄土造成人。这项工作太费力了，女娲忙不过来，就把一根绳子放到泥浆中，拉出来，溅出的泥点子就成了人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04520" y="1700280"/>
            <a:ext cx="2313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女娲在神祠里祷告，祈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神任命她做女媒。于是女娲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就安排男女婚配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153280" y="6324480"/>
            <a:ext cx="83844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上一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68360" y="0"/>
            <a:ext cx="755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250920" y="69228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请认真比较我的《女娲造人》与《风俗通》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的资料记载，请概括说说我丰富了哪些内容？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女娲造人的动机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女娲造人的具体过程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人造出来之后欢欣喜悦的场面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女娲像人一样具有心理活动和喜怒哀乐等情绪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5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我的评述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395280" y="69228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区别如下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5:21:57Z</dcterms:created>
  <dc:creator>wutao</dc:creator>
  <dc:description/>
  <dc:language>en-US</dc:language>
  <cp:lastModifiedBy>zyb</cp:lastModifiedBy>
  <dcterms:modified xsi:type="dcterms:W3CDTF">2004-12-15T07:17:56Z</dcterms:modified>
  <cp:revision>100</cp:revision>
  <dc:subject/>
  <dc:title>幻灯片 1</dc:title>
</cp:coreProperties>
</file>