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B4F-4929-46C7-84DE-14B85A99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2DB-7EDF-4C24-9DFB-81CFA48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E47-6EFF-458A-A2CC-27E9D3AE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E20-68FA-4E8C-94EA-3CCFADB8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6FD-E492-40E8-A0D8-FB791480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39B-C3FD-4488-A5CB-C605928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325-E47A-4CDA-990C-C5D2CD8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EB8-F387-412B-A0B1-5D23CB2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036-A6B0-437C-A056-525F41F7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CDA-EB03-4351-91B9-6FA3AD7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BB4-653F-460B-A71F-DC9B685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E01-4E2B-4FBA-893D-B0BE10E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5311-81C2-4F04-BF03-7FCFCEB87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37800" cy="745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781680" y="16765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629400" y="18288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6477120" y="19810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324480" y="21337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6172200" y="22860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19920" y="24382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5867280" y="25909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715000" y="274320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5562720" y="289548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486400" y="30481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590920"/>
            <a:ext cx="5486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欢迎莅临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z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5400000">
            <a:off x="3429000" y="32004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神话与科幻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-4191120" y="20574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充满想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充满想象和科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-12952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朦胧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概念明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25146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感性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理性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6629400" y="44956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艺术形式来表达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以数据来描绘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6934320" y="167652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神话是对未知世界浪漫的设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科幻是如今一定不可能将   来一定有可能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615636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它们都是人们的情感寄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35053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8080"/>
                </a:solidFill>
                <a:latin typeface="Times New Roman"/>
              </a:rPr>
              <a:t>它们都是厚重的文化现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981080"/>
            <a:ext cx="6172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践与创作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创作一个神，用来表达你的情感，寄托你的愿望。文章既要有大胆的想象，又要符合现实逻辑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8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71800" y="198108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再见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u1" descr=""/>
          <p:cNvPicPr/>
          <p:nvPr/>
        </p:nvPicPr>
        <p:blipFill>
          <a:blip r:embed="rId1"/>
          <a:stretch/>
        </p:blipFill>
        <p:spPr>
          <a:xfrm>
            <a:off x="0" y="2685960"/>
            <a:ext cx="9144000" cy="4172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457200"/>
            <a:ext cx="6248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Times New Roman"/>
                <a:ea typeface="黑体"/>
              </a:rPr>
              <a:t>28    </a:t>
            </a:r>
            <a:r>
              <a:rPr b="0" lang="zh-CN" sz="7000" spc="-1" strike="noStrike">
                <a:solidFill>
                  <a:srgbClr val="ffffff"/>
                </a:solidFill>
                <a:latin typeface="Times New Roman"/>
                <a:ea typeface="黑体"/>
              </a:rPr>
              <a:t>女娲造人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905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作者：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nu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96568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nu4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26942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nu6" descr=""/>
          <p:cNvPicPr/>
          <p:nvPr/>
        </p:nvPicPr>
        <p:blipFill>
          <a:blip r:embed="rId3"/>
          <a:stretch/>
        </p:blipFill>
        <p:spPr>
          <a:xfrm>
            <a:off x="4038480" y="0"/>
            <a:ext cx="3060720" cy="4602240"/>
          </a:xfrm>
          <a:prstGeom prst="rect">
            <a:avLst/>
          </a:prstGeom>
          <a:ln w="0">
            <a:noFill/>
          </a:ln>
        </p:spPr>
      </p:pic>
      <p:pic>
        <p:nvPicPr>
          <p:cNvPr id="76" name="nu8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2451240" cy="203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289548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7621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617220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609588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7724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17524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处世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6668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塑泥为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5812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挥浆为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95680"/>
            <a:ext cx="2362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代绵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47920" y="1905120"/>
            <a:ext cx="2590560" cy="3047760"/>
            <a:chOff x="1447920" y="1905120"/>
            <a:chExt cx="2590560" cy="3047760"/>
          </a:xfrm>
        </p:grpSpPr>
        <p:sp>
          <p:nvSpPr>
            <p:cNvPr id="87" name=""/>
            <p:cNvSpPr/>
            <p:nvPr/>
          </p:nvSpPr>
          <p:spPr>
            <a:xfrm>
              <a:off x="1447920" y="3124080"/>
              <a:ext cx="198108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女娲造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33920" y="1905120"/>
              <a:ext cx="304560" cy="3047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58"/>
                  </a:lnTo>
                  <a:cubicBezTo>
                    <a:pt x="10800" y="10058"/>
                    <a:pt x="5400" y="10958"/>
                    <a:pt x="0" y="10958"/>
                  </a:cubicBezTo>
                  <a:cubicBezTo>
                    <a:pt x="5400" y="10958"/>
                    <a:pt x="10800" y="11858"/>
                    <a:pt x="10800" y="1275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0000"/>
            </a:solidFill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533520"/>
            <a:ext cx="8281800" cy="6324480"/>
            <a:chOff x="304920" y="533520"/>
            <a:chExt cx="8281800" cy="6324480"/>
          </a:xfrm>
        </p:grpSpPr>
        <p:pic>
          <p:nvPicPr>
            <p:cNvPr id="90" name="men2" descr=""/>
            <p:cNvPicPr/>
            <p:nvPr/>
          </p:nvPicPr>
          <p:blipFill>
            <a:blip r:embed="rId1"/>
            <a:stretch/>
          </p:blipFill>
          <p:spPr>
            <a:xfrm>
              <a:off x="5562720" y="1752480"/>
              <a:ext cx="3024000" cy="40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men3" descr=""/>
            <p:cNvPicPr/>
            <p:nvPr/>
          </p:nvPicPr>
          <p:blipFill>
            <a:blip r:embed="rId2"/>
            <a:stretch/>
          </p:blipFill>
          <p:spPr>
            <a:xfrm>
              <a:off x="1981080" y="3886200"/>
              <a:ext cx="29386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menggu3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5321160" cy="26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angu" descr=""/>
            <p:cNvPicPr/>
            <p:nvPr/>
          </p:nvPicPr>
          <p:blipFill>
            <a:blip r:embed="rId4"/>
            <a:stretch/>
          </p:blipFill>
          <p:spPr>
            <a:xfrm>
              <a:off x="3124080" y="533520"/>
              <a:ext cx="342900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80880" y="0"/>
            <a:ext cx="8452080" cy="6858000"/>
            <a:chOff x="380880" y="0"/>
            <a:chExt cx="8452080" cy="6858000"/>
          </a:xfrm>
        </p:grpSpPr>
        <p:pic>
          <p:nvPicPr>
            <p:cNvPr id="95" name="10" descr=""/>
            <p:cNvPicPr/>
            <p:nvPr/>
          </p:nvPicPr>
          <p:blipFill>
            <a:blip r:embed="rId1"/>
            <a:stretch/>
          </p:blipFill>
          <p:spPr>
            <a:xfrm>
              <a:off x="380880" y="0"/>
              <a:ext cx="5241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7" descr=""/>
            <p:cNvPicPr/>
            <p:nvPr/>
          </p:nvPicPr>
          <p:blipFill>
            <a:blip r:embed="rId2"/>
            <a:stretch/>
          </p:blipFill>
          <p:spPr>
            <a:xfrm>
              <a:off x="1600200" y="3413160"/>
              <a:ext cx="2341440" cy="34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8" descr=""/>
            <p:cNvPicPr/>
            <p:nvPr/>
          </p:nvPicPr>
          <p:blipFill>
            <a:blip r:embed="rId3"/>
            <a:stretch/>
          </p:blipFill>
          <p:spPr>
            <a:xfrm>
              <a:off x="5791320" y="1295280"/>
              <a:ext cx="304164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9" descr=""/>
            <p:cNvPicPr/>
            <p:nvPr/>
          </p:nvPicPr>
          <p:blipFill>
            <a:blip r:embed="rId4"/>
            <a:stretch/>
          </p:blipFill>
          <p:spPr>
            <a:xfrm>
              <a:off x="4952880" y="3505320"/>
              <a:ext cx="25671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yishie" descr=""/>
            <p:cNvPicPr/>
            <p:nvPr/>
          </p:nvPicPr>
          <p:blipFill>
            <a:blip r:embed="rId5"/>
            <a:stretch/>
          </p:blipFill>
          <p:spPr>
            <a:xfrm>
              <a:off x="6019920" y="6207120"/>
              <a:ext cx="259380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3520" y="380880"/>
            <a:ext cx="8610480" cy="6073560"/>
            <a:chOff x="533520" y="380880"/>
            <a:chExt cx="8610480" cy="6073560"/>
          </a:xfrm>
        </p:grpSpPr>
        <p:pic>
          <p:nvPicPr>
            <p:cNvPr id="101" name="15" descr=""/>
            <p:cNvPicPr/>
            <p:nvPr/>
          </p:nvPicPr>
          <p:blipFill>
            <a:blip r:embed="rId1"/>
            <a:stretch/>
          </p:blipFill>
          <p:spPr>
            <a:xfrm>
              <a:off x="1066680" y="990360"/>
              <a:ext cx="3886200" cy="26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11" descr=""/>
            <p:cNvPicPr/>
            <p:nvPr/>
          </p:nvPicPr>
          <p:blipFill>
            <a:blip r:embed="rId2"/>
            <a:stretch/>
          </p:blipFill>
          <p:spPr>
            <a:xfrm>
              <a:off x="533520" y="3885840"/>
              <a:ext cx="2895480" cy="25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16" descr=""/>
            <p:cNvPicPr/>
            <p:nvPr/>
          </p:nvPicPr>
          <p:blipFill>
            <a:blip r:embed="rId3"/>
            <a:stretch/>
          </p:blipFill>
          <p:spPr>
            <a:xfrm>
              <a:off x="5257800" y="380880"/>
              <a:ext cx="2790720" cy="28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7" descr=""/>
            <p:cNvPicPr/>
            <p:nvPr/>
          </p:nvPicPr>
          <p:blipFill>
            <a:blip r:embed="rId4"/>
            <a:stretch/>
          </p:blipFill>
          <p:spPr>
            <a:xfrm>
              <a:off x="4952880" y="3885840"/>
              <a:ext cx="4191120" cy="25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676520" y="22860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UFO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04920" y="152280"/>
            <a:ext cx="8839080" cy="6477120"/>
            <a:chOff x="304920" y="152280"/>
            <a:chExt cx="8839080" cy="6477120"/>
          </a:xfrm>
        </p:grpSpPr>
        <p:pic>
          <p:nvPicPr>
            <p:cNvPr id="107" name="22" descr=""/>
            <p:cNvPicPr/>
            <p:nvPr/>
          </p:nvPicPr>
          <p:blipFill>
            <a:blip r:embed="rId1"/>
            <a:stretch/>
          </p:blipFill>
          <p:spPr>
            <a:xfrm>
              <a:off x="609480" y="4114800"/>
              <a:ext cx="19432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3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33" descr=""/>
            <p:cNvPicPr/>
            <p:nvPr/>
          </p:nvPicPr>
          <p:blipFill>
            <a:blip r:embed="rId3"/>
            <a:stretch/>
          </p:blipFill>
          <p:spPr>
            <a:xfrm>
              <a:off x="6553080" y="152280"/>
              <a:ext cx="221004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34" descr=""/>
            <p:cNvPicPr/>
            <p:nvPr/>
          </p:nvPicPr>
          <p:blipFill>
            <a:blip r:embed="rId4"/>
            <a:stretch/>
          </p:blipFill>
          <p:spPr>
            <a:xfrm>
              <a:off x="5410080" y="48006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37" descr=""/>
            <p:cNvPicPr/>
            <p:nvPr/>
          </p:nvPicPr>
          <p:blipFill>
            <a:blip r:embed="rId5"/>
            <a:stretch/>
          </p:blipFill>
          <p:spPr>
            <a:xfrm>
              <a:off x="2743200" y="137160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45" descr=""/>
            <p:cNvPicPr/>
            <p:nvPr/>
          </p:nvPicPr>
          <p:blipFill>
            <a:blip r:embed="rId6"/>
            <a:stretch/>
          </p:blipFill>
          <p:spPr>
            <a:xfrm>
              <a:off x="304920" y="609480"/>
              <a:ext cx="2361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47" descr=""/>
            <p:cNvPicPr/>
            <p:nvPr/>
          </p:nvPicPr>
          <p:blipFill>
            <a:blip r:embed="rId7"/>
            <a:stretch/>
          </p:blipFill>
          <p:spPr>
            <a:xfrm>
              <a:off x="2743200" y="43434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40" descr=""/>
            <p:cNvPicPr/>
            <p:nvPr/>
          </p:nvPicPr>
          <p:blipFill>
            <a:blip r:embed="rId8"/>
            <a:stretch/>
          </p:blipFill>
          <p:spPr>
            <a:xfrm>
              <a:off x="7162920" y="3352680"/>
              <a:ext cx="19810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380880"/>
            <a:ext cx="31240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外星人图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066680" y="1295280"/>
          <a:ext cx="7315200" cy="3810240"/>
        </p:xfrm>
        <a:graphic>
          <a:graphicData uri="http://schemas.openxmlformats.org/drawingml/2006/table">
            <a:tbl>
              <a:tblPr/>
              <a:tblGrid>
                <a:gridCol w="2387880"/>
                <a:gridCol w="2463480"/>
                <a:gridCol w="2463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990720" y="1447920"/>
            <a:ext cx="7467480" cy="1053720"/>
            <a:chOff x="990720" y="1447920"/>
            <a:chExt cx="7467480" cy="1053720"/>
          </a:xfrm>
        </p:grpSpPr>
        <p:grpSp>
          <p:nvGrpSpPr>
            <p:cNvPr id="118" name=""/>
            <p:cNvGrpSpPr/>
            <p:nvPr/>
          </p:nvGrpSpPr>
          <p:grpSpPr>
            <a:xfrm>
              <a:off x="990720" y="1447920"/>
              <a:ext cx="4800600" cy="1053720"/>
              <a:chOff x="990720" y="1447920"/>
              <a:chExt cx="4800600" cy="1053720"/>
            </a:xfrm>
          </p:grpSpPr>
          <p:sp>
            <p:nvSpPr>
              <p:cNvPr id="119" name=""/>
              <p:cNvSpPr/>
              <p:nvPr/>
            </p:nvSpPr>
            <p:spPr>
              <a:xfrm>
                <a:off x="990720" y="1981080"/>
                <a:ext cx="48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Times New Roman"/>
                  </a:rPr>
                  <a:t>疑惑生存环境 《女娲造人》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44792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Times New Roman"/>
                  </a:rPr>
                  <a:t>神       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943600" y="1447920"/>
              <a:ext cx="251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科幻作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《幽浮人种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143000" y="2590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忧患生存环境 《鲧禹治水》     《彗星撞地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2767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改善生存环境 《西游记》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《超人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表达美好愿望 《牛郎织女》    《机器猫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495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……                    ……                 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2:55:22Z</dcterms:created>
  <dc:creator>wutao</dc:creator>
  <dc:description/>
  <dc:language>en-US</dc:language>
  <cp:lastModifiedBy>zyb</cp:lastModifiedBy>
  <dcterms:modified xsi:type="dcterms:W3CDTF">2004-12-15T07:18:34Z</dcterms:modified>
  <cp:revision>100</cp:revision>
  <dc:subject/>
  <dc:title>PowerPoint 演示文稿</dc:title>
</cp:coreProperties>
</file>