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media/image10.gif" ContentType="image/gif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165-5388-4614-9281-A305646D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2A4-7030-4318-A619-227EEB00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CB8-CAA3-453A-A854-6944C803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2EA-84F8-42B0-AFEC-90815E64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428F-B14A-4629-9047-68BEA53C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4F10-1D72-4D87-BABE-AB3C2231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42CD-F9A5-46C3-86CF-7DB9121C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9D24-8DB0-4918-B4A1-42A55501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FB3A-4A37-4440-BCAE-F07D4FAB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4335-E4E9-4A6B-B04F-76CDCFC4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D1FF-2FF2-421C-8C43-6E3A88B9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AB0-4A85-4CBF-BB6E-9BFC1DB8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8BAF-FE98-45E7-A012-B5D16CFF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1E27-0F3C-4661-ACD1-7FAF1C3F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0EB9-6FD6-425E-B07F-D6F077AC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E034-4FA4-4901-A8EB-352B9EC1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9E0D-DE27-46CD-93AC-1E7542CF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AB8-9C00-4DF5-89BD-EFE6E117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EC1-3BDC-4E1F-96C3-4EFEA1EF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3F9-9525-4ADE-8D27-08598604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003-B318-4DEB-8F2B-572D3F6D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E1C-DB21-453D-96DE-56D4493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1CB-EE6E-4685-9CB6-FCA4FC97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6D1-400D-47AC-8966-9D008161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5CCD-DDA1-4A6D-949E-F0F7569BA5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39D3-0754-4FEF-B5EF-22FA7EA967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23880" y="1447920"/>
            <a:ext cx="510552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女娲造人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58000" y="50292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7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47920" y="1600200"/>
            <a:ext cx="5867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3400" y="2209680"/>
            <a:ext cx="441108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比较体会想象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理解人物形象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3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热爱生命和生活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教学目标</a:t>
            </a:r>
            <a:endParaRPr b="1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蜡烛" descr=""/>
          <p:cNvPicPr/>
          <p:nvPr/>
        </p:nvPicPr>
        <p:blipFill>
          <a:blip r:embed="rId1"/>
          <a:stretch/>
        </p:blipFill>
        <p:spPr>
          <a:xfrm>
            <a:off x="7647120" y="4800600"/>
            <a:ext cx="585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《风俗通》中关于女娲的记载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66440" y="2133720"/>
            <a:ext cx="4082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通常说天地开辟以后，还没有人类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女娲揉团黄土造成人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项工作太费力了，女娲忙不过来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就把一根绳子放到泥浆中，拉出来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溅出的泥点子就成了人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女娲在神祠里祷告，祈求神任命她做女媒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于是女娲就安排男女婚配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26320" y="1960560"/>
            <a:ext cx="618804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女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娲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wā)  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澄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chéng):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清澈透明　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绵延：延续不断　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莽莽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榛榛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zhēn)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草木丛生的样子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1c1c1c"/>
                </a:solidFill>
                <a:latin typeface="Times New Roman"/>
              </a:rPr>
              <a:t>生字解词</a:t>
            </a:r>
            <a:endParaRPr b="1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02" descr=""/>
          <p:cNvPicPr/>
          <p:nvPr/>
        </p:nvPicPr>
        <p:blipFill>
          <a:blip r:embed="rId2"/>
          <a:stretch/>
        </p:blipFill>
        <p:spPr>
          <a:xfrm>
            <a:off x="838080" y="6035760"/>
            <a:ext cx="73152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038480" y="8380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盘古开天辟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7432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女娲补天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190512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女娲像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234468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638680" y="388620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4800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女娲造人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743200"/>
            <a:ext cx="784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对照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风俗通》中关于女娲的</a:t>
            </a:r>
            <a:r>
              <a:rPr b="0" lang="zh-CN" sz="4000" spc="-1" strike="noStrike" u="sng">
                <a:solidFill>
                  <a:srgbClr val="0099ff"/>
                </a:solidFill>
                <a:uFillTx/>
                <a:latin typeface="Times New Roman"/>
                <a:hlinkClick r:id="rId2" action="ppaction://hlinksldjump"/>
              </a:rPr>
              <a:t>记载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，找出课文丰富了哪些内容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，体会想象的写法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4240" y="1828800"/>
            <a:ext cx="53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学生快速阅读课文（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注意</a:t>
            </a:r>
            <a:r>
              <a:rPr b="0" lang="zh-CN" sz="2800" spc="-1" strike="noStrike" u="sng">
                <a:solidFill>
                  <a:srgbClr val="0099ff"/>
                </a:solidFill>
                <a:uFillTx/>
                <a:latin typeface="Times New Roman"/>
                <a:hlinkClick r:id="rId3" action="ppaction://hlinksldjump"/>
              </a:rPr>
              <a:t>基础知识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课文分析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28600" y="5410080"/>
            <a:ext cx="11430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人物分析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350720" cy="1701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4720" y="281952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女娲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性格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分析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13200" y="25909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聪明、活泼、好奇心强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7916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63720" y="41911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勤劳、智慧、伟大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79160" y="4191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4382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ff00"/>
                </a:solidFill>
                <a:latin typeface="Times New Roman"/>
              </a:rPr>
              <a:t>｛</a:t>
            </a:r>
            <a:endParaRPr b="0" lang="en-US" sz="15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24720" y="3933720"/>
            <a:ext cx="1054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课文中的大胆想象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5600" y="2514600"/>
            <a:ext cx="34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女娲造人的具体过程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1400" y="3657600"/>
            <a:ext cx="46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人造出来之后的欢欣喜悦场面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85600" y="4800600"/>
            <a:ext cx="34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3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女娲具备了人的情绪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0440" y="2362320"/>
            <a:ext cx="707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收集相关的神话故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给弟妹听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查资料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搞清人类的起源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想象练习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请你再想出一种造人的方法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要求有新意，要大胆合理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</a:rPr>
              <a:t>布置作业</a:t>
            </a:r>
            <a:endParaRPr b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蜡烛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4748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your name</cp:lastModifiedBy>
  <dcterms:modified xsi:type="dcterms:W3CDTF">2003-12-24T13:32:45Z</dcterms:modified>
  <cp:revision>100</cp:revision>
  <dc:subject/>
  <dc:title>PowerPoint Presentation</dc:title>
</cp:coreProperties>
</file>