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6DF-3DAF-43A9-BDAD-724BEC85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2BC-3B77-4CFC-ADDC-FAFC3F01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D9B-9CCE-4046-A519-6B6B2572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41EC-9DE5-4F62-8DAD-DFC956F2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B986-434A-4D10-A272-A6CC845C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8CB1-B28E-44F0-8B96-7C9C922D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C13C-ADAD-460B-9B37-A00171D0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37D8-9C3E-4DB7-B17E-87B12BB2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9577-E4AF-40F4-A155-19DC89E4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51D8-E1F6-4897-B959-4F200A84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0ABB-860C-4DCF-B2B6-D6BD9B6B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745-E9CF-4C35-A0BD-C8B49318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16E6-2CF1-45DC-B464-FA3E5B2B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CA90-0BAD-4A2E-91DF-F655B315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F043-B207-43BA-96D3-A4A6BA27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97FE-3D43-4184-B503-0F3B3BF8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434B-B97E-4988-8685-609E7F39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F0B-D141-4419-A2E0-32F1CF7E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3AF-BEF4-44EA-A62C-55E84C23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D80-C8CF-4047-AF6F-E07B8C04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ABE3-E26A-42A3-BACA-8285C91A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EDF4-63B4-4686-8122-17EC708A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1C1-11AE-4FB3-9B0F-1EC867F9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CFD0-1608-4B0C-A838-A074FC5D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B380-9D07-41CE-9EAA-A85820B8E51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61A4-C149-4726-BEF5-479A519CCA1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5219640" cy="3500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048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大家喜欢神话吗？你们熟悉的神话都有哪些？那么这些故事是不是真有其事？明明知道这些并不存在，可我们听起来还是觉得津津有味，为什么？确实如此，神话故事当中有丰富的想象，奇妙的情节，瑰丽的色彩，以及奔放的情感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357720"/>
            <a:ext cx="3851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它表现了“人类童年时代的天真”，具有“永久的魅力”。今天就让我们一起走进奇妙的神话世界，感受一下女娲抟土造人的神奇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9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24360" cy="1268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4000" y="2602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课外作业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7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阅读中外神话故事，体会其中的想象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263700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2708280"/>
            <a:ext cx="795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00"/>
                </a:solidFill>
                <a:latin typeface="Arial"/>
              </a:rPr>
              <a:t>推荐书籍：袁珂《中国古代神话》 </a:t>
            </a:r>
            <a:br>
              <a:rPr sz="3600"/>
            </a:br>
            <a:br>
              <a:rPr sz="3600"/>
            </a:br>
            <a:r>
              <a:rPr b="1" i="1" lang="zh-CN" sz="3600" spc="-1" strike="noStrike">
                <a:solidFill>
                  <a:srgbClr val="333300"/>
                </a:solidFill>
                <a:latin typeface="Arial"/>
              </a:rPr>
              <a:t>施瓦布（德）《希腊神话故事》 </a:t>
            </a:r>
            <a:br>
              <a:rPr sz="3600"/>
            </a:br>
            <a:br>
              <a:rPr sz="3600"/>
            </a:br>
            <a:r>
              <a:rPr b="1" i="1" lang="zh-CN" sz="3600" spc="-1" strike="noStrike">
                <a:solidFill>
                  <a:srgbClr val="333300"/>
                </a:solidFill>
                <a:latin typeface="Arial"/>
              </a:rPr>
              <a:t>《山海经》 </a:t>
            </a:r>
            <a:br>
              <a:rPr sz="3600"/>
            </a:br>
            <a:br>
              <a:rPr sz="3600"/>
            </a:br>
            <a:r>
              <a:rPr b="1" i="1" lang="zh-CN" sz="3600" spc="-1" strike="noStrike">
                <a:solidFill>
                  <a:srgbClr val="333300"/>
                </a:solidFill>
                <a:latin typeface="Arial"/>
              </a:rPr>
              <a:t>《一千零一夜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340000" y="1989000"/>
            <a:ext cx="73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华文行楷"/>
              </a:rPr>
              <a:t>谢谢大家！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42210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00ff"/>
                </a:solidFill>
                <a:latin typeface="Arial"/>
                <a:ea typeface="华文行楷"/>
              </a:rPr>
              <a:t>再见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92988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8893080" cy="865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华文行楷"/>
                <a:ea typeface="华文行楷"/>
              </a:rPr>
              <a:t>       </a:t>
            </a:r>
            <a:r>
              <a:rPr b="0" lang="zh-CN" sz="2800" spc="-1" strike="noStrike">
                <a:solidFill>
                  <a:srgbClr val="333300"/>
                </a:solidFill>
                <a:latin typeface="华文行楷"/>
                <a:ea typeface="华文行楷"/>
              </a:rPr>
              <a:t>义务教育课程标准实验教科书   语文  七年级  上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725480" y="2819520"/>
            <a:ext cx="5691240" cy="1218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79640" y="2924280"/>
            <a:ext cx="532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8  </a:t>
            </a:r>
            <a:r>
              <a:rPr b="1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女娲造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298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24360" cy="1341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47628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教学设想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华文行楷"/>
              </a:rPr>
              <a:t>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341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这篇课文是袁珂根据《风俗通》有关“女娲造人”的记载改编的。作者运用大胆奇特且合情合理的想象，在原有故事的基础上进行演绎和扩充，使得这个古老的神话传说焕发出新的生机和活力。由于这个故事对学生来说，大都耳熟能详，所以不必对情节过程进行分析；而当着重体会情节中渗透的丰富想象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328464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首先，将课文与《风俗通》中的短文比较，通过比较来感受、鉴别，体会丰富的想象使故事更生动、具体、有趣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1497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在探究阅读中，从分析女娲形象入手，把握想象的特点、要求，以小组讨论的形式体会、明确。学生可随即将讨论结果明确在黑板上，这样既调动了学生的积极性，又能够很鲜明地从整体上全面把握女娲形象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8770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带着对想象的理解，学以致用，扩写神话《夸父追日》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42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学习目标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981000"/>
            <a:ext cx="770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、比较阅读，整体感知故事情节，初步感受想象的作用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、探究阅读，体会神话故事中想象的魅力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、拓展阅读，试运用创造性想象扩写神话。</a:t>
            </a:r>
            <a:r>
              <a:rPr b="0" lang="zh-CN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789360"/>
            <a:ext cx="41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学习重点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4797360"/>
            <a:ext cx="75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、体会神话故事中想象的魅力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、把握想象的特点，尝试运用大胆合理的想象。</a:t>
            </a:r>
            <a:r>
              <a:rPr b="0" lang="zh-CN" sz="1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771640" cy="765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260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教学过程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052640"/>
            <a:ext cx="93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比较阅读，整体感知故事情节，初步感受想象的作用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9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、请大家把书打开到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153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页，齐读课后习题下面的词语。然后小声读课文，思考下列问题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2781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将课文与课后《风俗通》中的短文比较阅读。你更喜欢哪一篇，为什么？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3500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答：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大多数同学更喜欢课文。袁珂的《女娲造人》是根据《风俗通》中的两则短文改编的。《风俗通》中的短文想象大胆，情节较简单，是故事的骨架。袁珂的《女娲造人》在此基础上，想象更丰富，情节更具体，使得故事血肉丰满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501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比较后筛选，课文中哪些情节更能体现作者的想象力？有感情地读一读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56707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答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：更能体现作者的想象力的情节，如：女娲造人的动机、造人的过程、人类诞生后的喜悦感、女娲的喜怒哀乐……挑出语段品读，着重体会人类诞生的喜悦感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给大家提高点要求，能不能用你的口头语言，再现这个生动有趣的故事？</a:t>
            </a: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1989000"/>
            <a:ext cx="80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讲故事：选择自己喜欢的情节讲述，尽量投入感情，表述连贯，力求生动。</a:t>
            </a:r>
            <a:r>
              <a:rPr b="0" lang="zh-CN" sz="1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14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说明：同位之间合作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互相讲述；推荐两三个同学当众讲述，鼓励借助肢体语言表现。</a:t>
            </a: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08360" cy="1197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260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探究阅读：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19700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体会神话故事中想象的魅力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9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、美好的故事不能浅尝辄止，让我们来共同探讨这则神话中想象的焦点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----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女娲。 </a:t>
            </a:r>
            <a:br>
              <a:rPr sz="2400"/>
            </a:b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讨论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结合文中想象的情节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体会女娲形象。完成句式：女娲是一个（            ）。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716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勤劳、慈祥、聪明、活泼、情感丰富、有伟大的神力……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50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333300"/>
                </a:solidFill>
                <a:latin typeface="宋体"/>
              </a:rPr>
              <a:t>、结合教师的板书，浅析女娲。 </a:t>
            </a:r>
            <a:br>
              <a:rPr sz="2400"/>
            </a:br>
            <a:r>
              <a:rPr b="1" lang="zh-CN" sz="2400" spc="-1" strike="noStrike">
                <a:solidFill>
                  <a:srgbClr val="333300"/>
                </a:solidFill>
                <a:latin typeface="宋体"/>
              </a:rPr>
              <a:t>板书中有的将女娲看成神，有的将女娲看成人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5445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女娲到底是神还是人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5445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（明确：神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6021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女娲是现实生活中没有的，她是借助什么创造的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602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（明确：想象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19640" cy="865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拓展阅读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10526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试运用创造性想象扩写神话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205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展开大胆奇特而又合情合理的想象，扩写《夸父追日》。选择一处情节，写片断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35772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夸父拄着杖，去追赶太阳。当他到达太阳将要落入的禺谷之际，觉得口干舌燥，便去喝黄河和渭河的水，河水被他喝干后，口渴仍没有止住。他想去喝北方大泽里的水，还没有走到，就渴死了。夸父临死，抛掉手里的杖，这杖顿时成了一片鲜果累累的桃林，为后来追求光明的人解除口渴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791480" y="5648400"/>
            <a:ext cx="1352520" cy="1209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08360" cy="1582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9640" y="69228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教师小结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62864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爱因斯坦曾说过：“想象力比知识更重要，因为知识是有限的，而想象概括着世界上的进步，推动着进步，并且是知识进化的源泉。”大胆合理的想象不仅可以锦上添花，有时也能化腐朽为神奇。古今中外的神话故事便是“想象”的宝藏，有待大家去开采。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566748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让我们插上想象的翅膀，张开想象的双翼自由飞翔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2:47:39Z</dcterms:created>
  <dc:creator>wutao</dc:creator>
  <dc:description/>
  <dc:language>en-US</dc:language>
  <cp:lastModifiedBy>lizhigang</cp:lastModifiedBy>
  <dcterms:modified xsi:type="dcterms:W3CDTF">2004-11-15T07:36:51Z</dcterms:modified>
  <cp:revision>100</cp:revision>
  <dc:subject/>
  <dc:title>幻灯片 1</dc:title>
</cp:coreProperties>
</file>