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3E2-581B-4087-B754-35F1B2BC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C2D-758D-42D2-986A-FE9A9A7A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7E2-4EB8-4A45-AB23-092ACA32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5D5-10A0-4013-9527-8A2CF775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D40-EB5C-4CD6-AF9F-0EEA2FD2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249-C2CB-4F40-852C-2DB8A37D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FB4-0EC7-40B5-9F17-2A101A32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22B-BA6E-4A5B-B925-69C6FD4F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40F-5602-40C4-BA4F-C2605746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DAF-2009-426D-8766-BF878879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A51-9290-4B50-A7C1-0D1D580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2FF-8E25-4C49-95F5-1D75EB5B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5CA-6B6B-4A44-8026-D3FB201636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388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066680"/>
            <a:ext cx="8153640" cy="3048120"/>
          </a:xfrm>
          <a:prstGeom prst="wedgeRectCallout">
            <a:avLst>
              <a:gd name="adj1" fmla="val -38490"/>
              <a:gd name="adj2" fmla="val 694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143000"/>
            <a:ext cx="8077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根据《风俗通》里的有关资料改编了一个《女娲造人》的故事，请你们到《神话故事新编》了去看看 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切盼你们的回应：你们更喜欢哪一篇，为什么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2520" y="5361120"/>
            <a:ext cx="109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袁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0"/>
            <a:ext cx="7391160" cy="441972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523880"/>
            <a:ext cx="4952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喜欢，请把它推荐给你的朋友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45720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袁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8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91440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Times New Roman"/>
                <a:ea typeface="华文行楷"/>
              </a:rPr>
              <a:t>合作探究</a:t>
            </a: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、        鲜明的人物形象。（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方法指导：先用括号标出描写女娲的重要词语，然后分析女娲是怎样的一个形象。</a:t>
            </a: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        </a:t>
            </a: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美好的情感。（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方法指导：先用波浪线划出体现喜悦感的重要词句，然后说说你对这一喜悦感的体会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28600"/>
            <a:ext cx="3124080" cy="160020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590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请你对女娲造人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动机或经过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做另一种推测，说说你编的《女娲造人》，跟袁珂比一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6858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开动机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3880" y="2743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外再收集一些人类起源的说法，以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人类起源神话的魅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写一篇文章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字左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80880"/>
            <a:ext cx="380988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别忘了！！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24040"/>
            <a:ext cx="74674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_31711" descr=""/>
          <p:cNvPicPr/>
          <p:nvPr/>
        </p:nvPicPr>
        <p:blipFill>
          <a:blip r:embed="rId1"/>
          <a:srcRect l="0" t="10018" r="0" b="0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43400" y="18288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女娲造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_31711" descr=""/>
          <p:cNvPicPr/>
          <p:nvPr/>
        </p:nvPicPr>
        <p:blipFill>
          <a:blip r:embed="rId1"/>
          <a:srcRect l="0" t="9138" r="0" b="0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hst003_pic1b" descr=""/>
          <p:cNvPicPr/>
          <p:nvPr/>
        </p:nvPicPr>
        <p:blipFill>
          <a:blip r:embed="rId2"/>
          <a:stretch/>
        </p:blipFill>
        <p:spPr>
          <a:xfrm>
            <a:off x="2666880" y="685800"/>
            <a:ext cx="3508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O01871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50240"/>
          </a:xfrm>
          <a:prstGeom prst="rect">
            <a:avLst/>
          </a:prstGeom>
          <a:ln w="0">
            <a:noFill/>
          </a:ln>
        </p:spPr>
      </p:pic>
      <p:pic>
        <p:nvPicPr>
          <p:cNvPr id="50" name="hst003_pic2b" descr=""/>
          <p:cNvPicPr/>
          <p:nvPr/>
        </p:nvPicPr>
        <p:blipFill>
          <a:blip r:embed="rId2"/>
          <a:stretch/>
        </p:blipFill>
        <p:spPr>
          <a:xfrm>
            <a:off x="2446200" y="1703520"/>
            <a:ext cx="4251600" cy="3450960"/>
          </a:xfrm>
          <a:prstGeom prst="rect">
            <a:avLst/>
          </a:prstGeom>
          <a:ln w="0">
            <a:noFill/>
          </a:ln>
        </p:spPr>
      </p:pic>
      <p:pic>
        <p:nvPicPr>
          <p:cNvPr id="51" name="pic_31711" descr=""/>
          <p:cNvPicPr/>
          <p:nvPr/>
        </p:nvPicPr>
        <p:blipFill>
          <a:blip r:embed="rId3"/>
          <a:srcRect l="0" t="7893" r="0" b="0"/>
          <a:stretch/>
        </p:blipFill>
        <p:spPr>
          <a:xfrm>
            <a:off x="685800" y="0"/>
            <a:ext cx="23749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922080" y="1523880"/>
            <a:ext cx="1155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卷七十八      风俗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st003_pic2b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2362320" cy="203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77200" y="685800"/>
            <a:ext cx="1409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俗说开天辟地，未有人民，女娲拌黄土做人。剧务力不暇供，乃引绳于泥中，举以为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女娲祷祠神，裨面为女媒，故置婚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53352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066680"/>
            <a:ext cx="8305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常说天地开辟以后，还没有人类。女娲揉团黄土造成人。这项工作太费力了，女娲忙不过来，就把一根绳子放到泥浆中，拉出来，溅出的泥点子就成了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女娲在神祠里祷告，祈求神任命她做女媒。于是女娲就安排男女婚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5:45:10Z</dcterms:created>
  <dc:creator>wutao</dc:creator>
  <dc:description/>
  <dc:language>en-US</dc:language>
  <cp:lastModifiedBy>a</cp:lastModifiedBy>
  <dcterms:modified xsi:type="dcterms:W3CDTF">2004-12-16T07:27:02Z</dcterms:modified>
  <cp:revision>100</cp:revision>
  <dc:subject/>
  <dc:title>PowerPoint 演示文稿</dc:title>
</cp:coreProperties>
</file>