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E05-4A61-4D0D-AE9E-2023A5CA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493-9EC6-4DE2-9486-17D8391E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0812-D664-45E6-B8ED-9F4F2BF6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250-2177-4052-98D4-56B7AE6B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9A0-6D87-4FF3-987A-8B7828B6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918-EDD9-4846-89DD-2F0DD6AE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9BD-1810-4394-B5C7-E88E55CC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C856-E159-433F-B27A-DF60131B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72F3-034E-4053-B01C-80405FE5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016-A79D-4222-9341-C0548E6F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3A4-0389-475B-8E1F-5DA76542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383-F0A8-402A-945C-B011B107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988E-875D-4984-B820-9CF20DA9DF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382920" cy="2952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427640" y="189000"/>
            <a:ext cx="3959280" cy="2976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3672000" cy="3238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427640" y="3463920"/>
            <a:ext cx="3960720" cy="3005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93080" y="6453360"/>
            <a:ext cx="250920" cy="40464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404640"/>
              <a:gd name="textAreaBottom" fmla="*/ 388440 h 404640"/>
            </a:gdLst>
            <a:ahLst/>
            <a:rect l="textAreaLeft" t="textAreaTop" r="textAreaRight" b="textAreaBottom"/>
            <a:pathLst>
              <a:path w="21600" h="34814">
                <a:moveTo>
                  <a:pt x="0" y="0"/>
                </a:moveTo>
                <a:lnTo>
                  <a:pt x="21600" y="0"/>
                </a:lnTo>
                <a:lnTo>
                  <a:pt x="21600" y="34814"/>
                </a:lnTo>
                <a:lnTo>
                  <a:pt x="0" y="34814"/>
                </a:lnTo>
                <a:close/>
              </a:path>
              <a:path fill="lightenLess" w="21600" h="348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814">
                <a:moveTo>
                  <a:pt x="21600" y="0"/>
                </a:moveTo>
                <a:lnTo>
                  <a:pt x="21600" y="34814"/>
                </a:lnTo>
                <a:lnTo>
                  <a:pt x="20200" y="33414"/>
                </a:lnTo>
                <a:lnTo>
                  <a:pt x="20200" y="1400"/>
                </a:lnTo>
                <a:close/>
              </a:path>
              <a:path fill="darkenLess" w="21600" h="34814">
                <a:moveTo>
                  <a:pt x="21600" y="34814"/>
                </a:moveTo>
                <a:lnTo>
                  <a:pt x="0" y="34814"/>
                </a:lnTo>
                <a:lnTo>
                  <a:pt x="1400" y="33414"/>
                </a:lnTo>
                <a:lnTo>
                  <a:pt x="20200" y="33414"/>
                </a:lnTo>
                <a:close/>
              </a:path>
              <a:path fill="lighten" w="21600" h="34814">
                <a:moveTo>
                  <a:pt x="0" y="34814"/>
                </a:moveTo>
                <a:lnTo>
                  <a:pt x="0" y="0"/>
                </a:lnTo>
                <a:lnTo>
                  <a:pt x="1400" y="1400"/>
                </a:lnTo>
                <a:lnTo>
                  <a:pt x="1400" y="3341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77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1001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17556" t="15748" r="6067" b="142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893080" y="6308640"/>
            <a:ext cx="250920" cy="54936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49360"/>
              <a:gd name="textAreaBottom" fmla="*/ 533160 h 549360"/>
            </a:gdLst>
            <a:ahLst/>
            <a:rect l="textAreaLeft" t="textAreaTop" r="textAreaRight" b="textAreaBottom"/>
            <a:pathLst>
              <a:path w="21600" h="47254">
                <a:moveTo>
                  <a:pt x="0" y="0"/>
                </a:moveTo>
                <a:lnTo>
                  <a:pt x="21600" y="0"/>
                </a:lnTo>
                <a:lnTo>
                  <a:pt x="21600" y="47254"/>
                </a:lnTo>
                <a:lnTo>
                  <a:pt x="0" y="47254"/>
                </a:lnTo>
                <a:close/>
              </a:path>
              <a:path fill="lightenLess" w="21600" h="47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254">
                <a:moveTo>
                  <a:pt x="21600" y="0"/>
                </a:moveTo>
                <a:lnTo>
                  <a:pt x="21600" y="47254"/>
                </a:lnTo>
                <a:lnTo>
                  <a:pt x="20200" y="45854"/>
                </a:lnTo>
                <a:lnTo>
                  <a:pt x="20200" y="1400"/>
                </a:lnTo>
                <a:close/>
              </a:path>
              <a:path fill="darkenLess" w="21600" h="47254">
                <a:moveTo>
                  <a:pt x="21600" y="47254"/>
                </a:moveTo>
                <a:lnTo>
                  <a:pt x="0" y="47254"/>
                </a:lnTo>
                <a:lnTo>
                  <a:pt x="1400" y="45854"/>
                </a:lnTo>
                <a:lnTo>
                  <a:pt x="20200" y="45854"/>
                </a:lnTo>
                <a:close/>
              </a:path>
              <a:path fill="lighten" w="21600" h="47254">
                <a:moveTo>
                  <a:pt x="0" y="47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4585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333520" cy="285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00360" y="549360"/>
            <a:ext cx="302904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296040" y="476280"/>
            <a:ext cx="284796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3025800" cy="352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119640" y="2133720"/>
            <a:ext cx="302436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020000" y="4149720"/>
            <a:ext cx="1904760" cy="230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780000" y="3573360"/>
            <a:ext cx="3076560" cy="3027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3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08720" y="189000"/>
            <a:ext cx="2954160" cy="604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3867120"/>
            <a:ext cx="4027320" cy="2557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3960720" cy="3240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1584360" cy="165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2933640" cy="423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95280" y="2852640"/>
            <a:ext cx="3171960" cy="312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64000" y="3048120"/>
            <a:ext cx="305784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810240" cy="2391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42920" y="2492280"/>
            <a:ext cx="310536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3219480" cy="3160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788000" y="26028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diamond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3357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35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4140360" cy="3500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427640" y="3429000"/>
            <a:ext cx="471636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263760"/>
            <a:ext cx="5041800" cy="35942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2744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ircl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02:27:47Z</dcterms:created>
  <dc:creator>wutao</dc:creator>
  <dc:description/>
  <dc:language>en-US</dc:language>
  <cp:lastModifiedBy>a</cp:lastModifiedBy>
  <dcterms:modified xsi:type="dcterms:W3CDTF">2004-12-16T07:31:51Z</dcterms:modified>
  <cp:revision>100</cp:revision>
  <dc:subject/>
  <dc:title>幻灯片 1</dc:title>
</cp:coreProperties>
</file>