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0AD4-8271-4733-ACFF-78DD8F326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30AD-3456-4E3B-8DB3-97395CB9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A3CE-564D-42D5-A6B0-C2B1F1645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A175-B75A-4D07-9A43-6EA4C7BAA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B66F-89C2-49A1-8090-4D9739FF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656F-A562-410F-AD8A-C31367ED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C46D-8689-4F89-8C28-D40CF0A2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B593-A1BE-4ADC-AC94-BF90140B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5786-F562-47F8-A723-83806EEE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098C-7247-4A33-8E34-A990EE3D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CD6B-6DA9-42EB-950D-BD98DE06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67D8-B7CA-4972-A485-ADDC09BC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8242-FE14-4D57-931C-0BB9BA6E0E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22.xml"/><Relationship Id="rId6" Type="http://schemas.openxmlformats.org/officeDocument/2006/relationships/slide" Target="slide22.xml"/><Relationship Id="rId7" Type="http://schemas.openxmlformats.org/officeDocument/2006/relationships/slide" Target="slide22.xml"/><Relationship Id="rId8" Type="http://schemas.openxmlformats.org/officeDocument/2006/relationships/slide" Target="slide14.xml"/><Relationship Id="rId9" Type="http://schemas.openxmlformats.org/officeDocument/2006/relationships/slide" Target="slide8.xml"/><Relationship Id="rId10" Type="http://schemas.openxmlformats.org/officeDocument/2006/relationships/slide" Target="slide16.xml"/><Relationship Id="rId11" Type="http://schemas.openxmlformats.org/officeDocument/2006/relationships/slide" Target="slide18.xml"/><Relationship Id="rId12" Type="http://schemas.openxmlformats.org/officeDocument/2006/relationships/slide" Target="slide24.xml"/><Relationship Id="rId13" Type="http://schemas.openxmlformats.org/officeDocument/2006/relationships/slide" Target="slide24.xml"/><Relationship Id="rId14" Type="http://schemas.openxmlformats.org/officeDocument/2006/relationships/slide" Target="slide20.xml"/><Relationship Id="rId15" Type="http://schemas.openxmlformats.org/officeDocument/2006/relationships/slide" Target="slide20.xml"/><Relationship Id="rId16" Type="http://schemas.openxmlformats.org/officeDocument/2006/relationships/slide" Target="slide12.xml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" descr=""/>
          <p:cNvPicPr/>
          <p:nvPr/>
        </p:nvPicPr>
        <p:blipFill>
          <a:blip r:embed="rId1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4876920" y="3429000"/>
            <a:ext cx="838080" cy="762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5943600" y="3352680"/>
            <a:ext cx="121932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6629400" y="914400"/>
            <a:ext cx="1066680" cy="1219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4572000" y="1371600"/>
            <a:ext cx="38088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5810400" y="838080"/>
            <a:ext cx="380880" cy="609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6172200" y="990720"/>
            <a:ext cx="38088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8" action="ppaction://hlinksldjump"/>
          </p:cNvPr>
          <p:cNvSpPr/>
          <p:nvPr/>
        </p:nvSpPr>
        <p:spPr>
          <a:xfrm>
            <a:off x="304920" y="762120"/>
            <a:ext cx="2209680" cy="2666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9" action="ppaction://hlinksldjump"/>
          </p:cNvPr>
          <p:cNvSpPr/>
          <p:nvPr/>
        </p:nvSpPr>
        <p:spPr>
          <a:xfrm>
            <a:off x="6553080" y="4419720"/>
            <a:ext cx="99072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0" action="ppaction://hlinksldjump"/>
          </p:cNvPr>
          <p:cNvSpPr/>
          <p:nvPr/>
        </p:nvSpPr>
        <p:spPr>
          <a:xfrm>
            <a:off x="4572000" y="5486400"/>
            <a:ext cx="3886200" cy="9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1" action="ppaction://hlinksldjump"/>
          </p:cNvPr>
          <p:cNvSpPr/>
          <p:nvPr/>
        </p:nvSpPr>
        <p:spPr>
          <a:xfrm>
            <a:off x="1066680" y="4343400"/>
            <a:ext cx="121932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2" action="ppaction://hlinksldjump"/>
          </p:cNvPr>
          <p:cNvSpPr/>
          <p:nvPr/>
        </p:nvSpPr>
        <p:spPr>
          <a:xfrm>
            <a:off x="304920" y="0"/>
            <a:ext cx="2286000" cy="762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3" action="ppaction://hlinksldjump"/>
          </p:cNvPr>
          <p:cNvSpPr/>
          <p:nvPr/>
        </p:nvSpPr>
        <p:spPr>
          <a:xfrm>
            <a:off x="4038480" y="304920"/>
            <a:ext cx="1828800" cy="761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48520" y="609480"/>
            <a:ext cx="533160" cy="38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772400" y="1143000"/>
            <a:ext cx="914400" cy="9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4" action="ppaction://hlinksldjump"/>
          </p:cNvPr>
          <p:cNvSpPr/>
          <p:nvPr/>
        </p:nvSpPr>
        <p:spPr>
          <a:xfrm>
            <a:off x="2057400" y="3733920"/>
            <a:ext cx="838080" cy="1523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5" action="ppaction://hlinksldjump"/>
          </p:cNvPr>
          <p:cNvSpPr/>
          <p:nvPr/>
        </p:nvSpPr>
        <p:spPr>
          <a:xfrm>
            <a:off x="5867280" y="1905120"/>
            <a:ext cx="838440" cy="1523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6" action="ppaction://hlinksldjump"/>
          </p:cNvPr>
          <p:cNvSpPr/>
          <p:nvPr/>
        </p:nvSpPr>
        <p:spPr>
          <a:xfrm>
            <a:off x="2590920" y="1219320"/>
            <a:ext cx="1981080" cy="22096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4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620120" y="1066680"/>
            <a:ext cx="1066680" cy="12193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4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608640" y="3549600"/>
            <a:ext cx="137520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太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1066680"/>
            <a:ext cx="1066680" cy="12193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4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590920" y="1219320"/>
            <a:ext cx="1981080" cy="22096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4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90920" y="1219320"/>
            <a:ext cx="1981080" cy="22096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08640" y="3930480"/>
            <a:ext cx="137520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座房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4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04920" y="762120"/>
            <a:ext cx="2209680" cy="26668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4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04920" y="762120"/>
            <a:ext cx="2209680" cy="26668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17200" y="3778200"/>
            <a:ext cx="110088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棵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4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572000" y="5486400"/>
            <a:ext cx="3886200" cy="9907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4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572000" y="5486400"/>
            <a:ext cx="3886200" cy="9907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17200" y="3549600"/>
            <a:ext cx="110088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条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4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066680" y="4343400"/>
            <a:ext cx="1219320" cy="9144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4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066680" y="4343400"/>
            <a:ext cx="1219320" cy="9144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17200" y="3549600"/>
            <a:ext cx="110088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条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4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876920" y="3429000"/>
            <a:ext cx="838080" cy="7621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4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057400" y="3733920"/>
            <a:ext cx="838080" cy="15238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1905120"/>
            <a:ext cx="838440" cy="15238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4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057400" y="3733920"/>
            <a:ext cx="838080" cy="15238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1905120"/>
            <a:ext cx="838440" cy="15238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200" y="3549600"/>
            <a:ext cx="110088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4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572000" y="1371600"/>
            <a:ext cx="380880" cy="6094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10400" y="838080"/>
            <a:ext cx="380880" cy="6098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990720"/>
            <a:ext cx="380880" cy="6094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4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72000" y="1371600"/>
            <a:ext cx="380880" cy="6094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10400" y="838080"/>
            <a:ext cx="380880" cy="6098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2200" y="990720"/>
            <a:ext cx="380880" cy="6094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08640" y="3549600"/>
            <a:ext cx="137520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只小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4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4920" y="0"/>
            <a:ext cx="2286000" cy="7621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304920"/>
            <a:ext cx="1828800" cy="7617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48520" y="609480"/>
            <a:ext cx="533160" cy="3812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4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4920" y="0"/>
            <a:ext cx="2286000" cy="7621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38480" y="304920"/>
            <a:ext cx="1828800" cy="7617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609480"/>
            <a:ext cx="533160" cy="3812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08640" y="3549600"/>
            <a:ext cx="137520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朵白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4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876920" y="3429000"/>
            <a:ext cx="838080" cy="7621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16800" y="2819520"/>
            <a:ext cx="137520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萝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4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943600" y="3352680"/>
            <a:ext cx="1219320" cy="9144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4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943600" y="3352680"/>
            <a:ext cx="1219320" cy="9144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27760" y="3625920"/>
            <a:ext cx="137520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筐萝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4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629400" y="914400"/>
            <a:ext cx="1066680" cy="12193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4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629400" y="914400"/>
            <a:ext cx="1066680" cy="12193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17200" y="3549600"/>
            <a:ext cx="110088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座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4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553080" y="4419720"/>
            <a:ext cx="990720" cy="8380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4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553080" y="4419720"/>
            <a:ext cx="990720" cy="8380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08640" y="3549600"/>
            <a:ext cx="137520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棵小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</dc:creator>
  <dc:description/>
  <dc:language>en-US</dc:language>
  <cp:lastModifiedBy>a</cp:lastModifiedBy>
  <dcterms:modified xsi:type="dcterms:W3CDTF">2004-01-09T01:43:43Z</dcterms:modified>
  <cp:revision>37</cp:revision>
  <dc:subject/>
  <dc:title>PowerPoint Presentation</dc:title>
</cp:coreProperties>
</file>