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A0FC-AB8C-4432-A5FA-0B9E69CE5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79BD-77C0-45E6-921E-2FCE254F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4AFE-243B-464A-8F58-81D2112E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59D2-8C44-4B34-A29B-3AF92B00E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AB56-BD42-407F-8BA0-3A6011EA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9C5A-47F1-4EEA-9849-16E5B4F7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0F54-1663-424F-99D2-BF4411EF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E77E-C58E-4204-B3B7-161BB7C6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536A-AACD-4311-A62A-0A35EF05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2DC6-7A43-4F6B-8B09-CC43DFF2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D7AC-0EF1-4BAA-BBFD-E70F2B90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A5B9-0F89-4025-8FC6-7E2724B9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ED3A-C1B2-4DA7-B763-9C9016B26C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slide" Target="slide8.xml"/><Relationship Id="rId11" Type="http://schemas.openxmlformats.org/officeDocument/2006/relationships/slide" Target="slide8.xml"/><Relationship Id="rId12" Type="http://schemas.openxmlformats.org/officeDocument/2006/relationships/slide" Target="slide10.xml"/><Relationship Id="rId13" Type="http://schemas.openxmlformats.org/officeDocument/2006/relationships/slide" Target="slide10.xml"/><Relationship Id="rId14" Type="http://schemas.openxmlformats.org/officeDocument/2006/relationships/slide" Target="slide10.xml"/><Relationship Id="rId15" Type="http://schemas.openxmlformats.org/officeDocument/2006/relationships/slide" Target="slide10.xml"/><Relationship Id="rId16" Type="http://schemas.openxmlformats.org/officeDocument/2006/relationships/slide" Target="slide10.xml"/><Relationship Id="rId17" Type="http://schemas.openxmlformats.org/officeDocument/2006/relationships/slide" Target="slide12.xml"/><Relationship Id="rId18" Type="http://schemas.openxmlformats.org/officeDocument/2006/relationships/slide" Target="slide12.xml"/><Relationship Id="rId19" Type="http://schemas.openxmlformats.org/officeDocument/2006/relationships/slide" Target="slide12.xml"/><Relationship Id="rId20" Type="http://schemas.openxmlformats.org/officeDocument/2006/relationships/slide" Target="slide12.xml"/><Relationship Id="rId21" Type="http://schemas.openxmlformats.org/officeDocument/2006/relationships/slide" Target="slide12.xml"/><Relationship Id="rId22" Type="http://schemas.openxmlformats.org/officeDocument/2006/relationships/slide" Target="slide12.xml"/><Relationship Id="rId23" Type="http://schemas.openxmlformats.org/officeDocument/2006/relationships/slide" Target="slide14.xml"/><Relationship Id="rId24" Type="http://schemas.openxmlformats.org/officeDocument/2006/relationships/slide" Target="slide14.xml"/><Relationship Id="rId25" Type="http://schemas.openxmlformats.org/officeDocument/2006/relationships/slide" Target="slide14.xml"/><Relationship Id="rId26" Type="http://schemas.openxmlformats.org/officeDocument/2006/relationships/slide" Target="slide14.xml"/><Relationship Id="rId27" Type="http://schemas.openxmlformats.org/officeDocument/2006/relationships/slide" Target="slide14.xml"/><Relationship Id="rId28" Type="http://schemas.openxmlformats.org/officeDocument/2006/relationships/slide" Target="slide14.xml"/><Relationship Id="rId29" Type="http://schemas.openxmlformats.org/officeDocument/2006/relationships/slide" Target="slide14.xml"/><Relationship Id="rId30" Type="http://schemas.openxmlformats.org/officeDocument/2006/relationships/slide" Target="slide16.xml"/><Relationship Id="rId31" Type="http://schemas.openxmlformats.org/officeDocument/2006/relationships/slide" Target="slide16.xml"/><Relationship Id="rId32" Type="http://schemas.openxmlformats.org/officeDocument/2006/relationships/slide" Target="slide16.xml"/><Relationship Id="rId33" Type="http://schemas.openxmlformats.org/officeDocument/2006/relationships/slide" Target="slide16.xml"/><Relationship Id="rId34" Type="http://schemas.openxmlformats.org/officeDocument/2006/relationships/slide" Target="slide16.xml"/><Relationship Id="rId35" Type="http://schemas.openxmlformats.org/officeDocument/2006/relationships/slide" Target="slide16.xml"/><Relationship Id="rId36" Type="http://schemas.openxmlformats.org/officeDocument/2006/relationships/slide" Target="slide16.xml"/><Relationship Id="rId37" Type="http://schemas.openxmlformats.org/officeDocument/2006/relationships/slide" Target="slide16.xml"/><Relationship Id="rId38" Type="http://schemas.openxmlformats.org/officeDocument/2006/relationships/slide" Target="slide18.xml"/><Relationship Id="rId39" Type="http://schemas.openxmlformats.org/officeDocument/2006/relationships/slide" Target="slide18.xml"/><Relationship Id="rId40" Type="http://schemas.openxmlformats.org/officeDocument/2006/relationships/slide" Target="slide18.xml"/><Relationship Id="rId41" Type="http://schemas.openxmlformats.org/officeDocument/2006/relationships/slide" Target="slide18.xml"/><Relationship Id="rId42" Type="http://schemas.openxmlformats.org/officeDocument/2006/relationships/slide" Target="slide18.xml"/><Relationship Id="rId43" Type="http://schemas.openxmlformats.org/officeDocument/2006/relationships/slide" Target="slide18.xml"/><Relationship Id="rId44" Type="http://schemas.openxmlformats.org/officeDocument/2006/relationships/slide" Target="slide18.xml"/><Relationship Id="rId45" Type="http://schemas.openxmlformats.org/officeDocument/2006/relationships/slide" Target="slide18.xml"/><Relationship Id="rId4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380880" y="2743200"/>
            <a:ext cx="3124440" cy="2514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1905120" y="5029200"/>
            <a:ext cx="1600200" cy="1523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4343400" y="1981080"/>
            <a:ext cx="266688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6248520" y="1066680"/>
            <a:ext cx="144756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8077320" y="1752480"/>
            <a:ext cx="1066680" cy="609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3505320" y="1752480"/>
            <a:ext cx="1447560" cy="609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8" action="ppaction://hlinksldjump"/>
          </p:cNvPr>
          <p:cNvSpPr/>
          <p:nvPr/>
        </p:nvSpPr>
        <p:spPr>
          <a:xfrm>
            <a:off x="3581280" y="56386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9" action="ppaction://hlinksldjump"/>
          </p:cNvPr>
          <p:cNvSpPr/>
          <p:nvPr/>
        </p:nvSpPr>
        <p:spPr>
          <a:xfrm>
            <a:off x="5715000" y="5791320"/>
            <a:ext cx="106668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0" action="ppaction://hlinksldjump"/>
          </p:cNvPr>
          <p:cNvSpPr/>
          <p:nvPr/>
        </p:nvSpPr>
        <p:spPr>
          <a:xfrm>
            <a:off x="4724280" y="5867280"/>
            <a:ext cx="83844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1" action="ppaction://hlinksldjump"/>
          </p:cNvPr>
          <p:cNvSpPr/>
          <p:nvPr/>
        </p:nvSpPr>
        <p:spPr>
          <a:xfrm>
            <a:off x="4952880" y="5105520"/>
            <a:ext cx="83844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2" action="ppaction://hlinksldjump"/>
          </p:cNvPr>
          <p:cNvSpPr/>
          <p:nvPr/>
        </p:nvSpPr>
        <p:spPr>
          <a:xfrm>
            <a:off x="1371600" y="4343400"/>
            <a:ext cx="53352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3" action="ppaction://hlinksldjump"/>
          </p:cNvPr>
          <p:cNvSpPr/>
          <p:nvPr/>
        </p:nvSpPr>
        <p:spPr>
          <a:xfrm>
            <a:off x="838080" y="4648320"/>
            <a:ext cx="53352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4" action="ppaction://hlinksldjump"/>
          </p:cNvPr>
          <p:cNvSpPr/>
          <p:nvPr/>
        </p:nvSpPr>
        <p:spPr>
          <a:xfrm>
            <a:off x="2019240" y="4114800"/>
            <a:ext cx="53352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5" action="ppaction://hlinksldjump"/>
          </p:cNvPr>
          <p:cNvSpPr/>
          <p:nvPr/>
        </p:nvSpPr>
        <p:spPr>
          <a:xfrm>
            <a:off x="2743200" y="4191120"/>
            <a:ext cx="53352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6" action="ppaction://hlinksldjump"/>
          </p:cNvPr>
          <p:cNvSpPr/>
          <p:nvPr/>
        </p:nvSpPr>
        <p:spPr>
          <a:xfrm>
            <a:off x="3314880" y="4610160"/>
            <a:ext cx="53316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7" action="ppaction://hlinksldjump"/>
          </p:cNvPr>
          <p:cNvSpPr/>
          <p:nvPr/>
        </p:nvSpPr>
        <p:spPr>
          <a:xfrm>
            <a:off x="3733920" y="3962520"/>
            <a:ext cx="609480" cy="533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8" action="ppaction://hlinksldjump"/>
          </p:cNvPr>
          <p:cNvSpPr/>
          <p:nvPr/>
        </p:nvSpPr>
        <p:spPr>
          <a:xfrm>
            <a:off x="1447920" y="1752480"/>
            <a:ext cx="761760" cy="1067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9" action="ppaction://hlinksldjump"/>
          </p:cNvPr>
          <p:cNvSpPr/>
          <p:nvPr/>
        </p:nvSpPr>
        <p:spPr>
          <a:xfrm>
            <a:off x="4648320" y="3886200"/>
            <a:ext cx="838080" cy="1219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0" action="ppaction://hlinksldjump"/>
          </p:cNvPr>
          <p:cNvSpPr/>
          <p:nvPr/>
        </p:nvSpPr>
        <p:spPr>
          <a:xfrm>
            <a:off x="6400800" y="3429000"/>
            <a:ext cx="685800" cy="1447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1" action="ppaction://hlinksldjump"/>
          </p:cNvPr>
          <p:cNvSpPr/>
          <p:nvPr/>
        </p:nvSpPr>
        <p:spPr>
          <a:xfrm>
            <a:off x="5638680" y="3352680"/>
            <a:ext cx="533520" cy="609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2" action="ppaction://hlinksldjump"/>
          </p:cNvPr>
          <p:cNvSpPr/>
          <p:nvPr/>
        </p:nvSpPr>
        <p:spPr>
          <a:xfrm>
            <a:off x="7467480" y="5105520"/>
            <a:ext cx="914400" cy="1066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3" action="ppaction://hlinksldjump"/>
          </p:cNvPr>
          <p:cNvSpPr/>
          <p:nvPr/>
        </p:nvSpPr>
        <p:spPr>
          <a:xfrm>
            <a:off x="304920" y="4876920"/>
            <a:ext cx="304560" cy="304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4" action="ppaction://hlinksldjump"/>
          </p:cNvPr>
          <p:cNvSpPr/>
          <p:nvPr/>
        </p:nvSpPr>
        <p:spPr>
          <a:xfrm>
            <a:off x="685800" y="5715000"/>
            <a:ext cx="22860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5" action="ppaction://hlinksldjump"/>
          </p:cNvPr>
          <p:cNvSpPr/>
          <p:nvPr/>
        </p:nvSpPr>
        <p:spPr>
          <a:xfrm>
            <a:off x="1066680" y="6324480"/>
            <a:ext cx="304920" cy="38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26" action="ppaction://hlinksldjump"/>
          </p:cNvPr>
          <p:cNvSpPr/>
          <p:nvPr/>
        </p:nvSpPr>
        <p:spPr>
          <a:xfrm>
            <a:off x="6114960" y="4629240"/>
            <a:ext cx="304920" cy="304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27" action="ppaction://hlinksldjump"/>
          </p:cNvPr>
          <p:cNvSpPr/>
          <p:nvPr/>
        </p:nvSpPr>
        <p:spPr>
          <a:xfrm>
            <a:off x="7334280" y="4419720"/>
            <a:ext cx="304920" cy="304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28" action="ppaction://hlinksldjump"/>
          </p:cNvPr>
          <p:cNvSpPr/>
          <p:nvPr/>
        </p:nvSpPr>
        <p:spPr>
          <a:xfrm>
            <a:off x="8229600" y="4648320"/>
            <a:ext cx="38088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29" action="ppaction://hlinksldjump"/>
          </p:cNvPr>
          <p:cNvSpPr/>
          <p:nvPr/>
        </p:nvSpPr>
        <p:spPr>
          <a:xfrm>
            <a:off x="914400" y="5791320"/>
            <a:ext cx="22860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30" action="ppaction://hlinksldjump"/>
          </p:cNvPr>
          <p:cNvSpPr/>
          <p:nvPr/>
        </p:nvSpPr>
        <p:spPr>
          <a:xfrm>
            <a:off x="228600" y="1447920"/>
            <a:ext cx="609480" cy="1600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31" action="ppaction://hlinksldjump"/>
          </p:cNvPr>
          <p:cNvSpPr/>
          <p:nvPr/>
        </p:nvSpPr>
        <p:spPr>
          <a:xfrm>
            <a:off x="838080" y="1143000"/>
            <a:ext cx="45720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32" action="ppaction://hlinksldjump"/>
          </p:cNvPr>
          <p:cNvSpPr/>
          <p:nvPr/>
        </p:nvSpPr>
        <p:spPr>
          <a:xfrm>
            <a:off x="3886200" y="457200"/>
            <a:ext cx="457200" cy="1600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33" action="ppaction://hlinksldjump"/>
          </p:cNvPr>
          <p:cNvSpPr/>
          <p:nvPr/>
        </p:nvSpPr>
        <p:spPr>
          <a:xfrm>
            <a:off x="5105520" y="228600"/>
            <a:ext cx="609480" cy="1752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34" action="ppaction://hlinksldjump"/>
          </p:cNvPr>
          <p:cNvSpPr/>
          <p:nvPr/>
        </p:nvSpPr>
        <p:spPr>
          <a:xfrm>
            <a:off x="6400800" y="304920"/>
            <a:ext cx="380880" cy="99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35" action="ppaction://hlinksldjump"/>
          </p:cNvPr>
          <p:cNvSpPr/>
          <p:nvPr/>
        </p:nvSpPr>
        <p:spPr>
          <a:xfrm>
            <a:off x="7620120" y="152280"/>
            <a:ext cx="53316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36" action="ppaction://hlinksldjump"/>
          </p:cNvPr>
          <p:cNvSpPr/>
          <p:nvPr/>
        </p:nvSpPr>
        <p:spPr>
          <a:xfrm>
            <a:off x="2895480" y="1066680"/>
            <a:ext cx="53352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37" action="ppaction://hlinksldjump"/>
          </p:cNvPr>
          <p:cNvSpPr/>
          <p:nvPr/>
        </p:nvSpPr>
        <p:spPr>
          <a:xfrm>
            <a:off x="8686800" y="1066680"/>
            <a:ext cx="457200" cy="30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38" action="ppaction://hlinksldjump"/>
          </p:cNvPr>
          <p:cNvSpPr/>
          <p:nvPr/>
        </p:nvSpPr>
        <p:spPr>
          <a:xfrm>
            <a:off x="152280" y="1447920"/>
            <a:ext cx="304920" cy="304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39" action="ppaction://hlinksldjump"/>
          </p:cNvPr>
          <p:cNvSpPr/>
          <p:nvPr/>
        </p:nvSpPr>
        <p:spPr>
          <a:xfrm>
            <a:off x="304920" y="1905120"/>
            <a:ext cx="38088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40" action="ppaction://hlinksldjump"/>
          </p:cNvPr>
          <p:cNvSpPr/>
          <p:nvPr/>
        </p:nvSpPr>
        <p:spPr>
          <a:xfrm>
            <a:off x="5105520" y="762120"/>
            <a:ext cx="457200" cy="304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41" action="ppaction://hlinksldjump"/>
          </p:cNvPr>
          <p:cNvSpPr/>
          <p:nvPr/>
        </p:nvSpPr>
        <p:spPr>
          <a:xfrm>
            <a:off x="6705720" y="228600"/>
            <a:ext cx="3808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42" action="ppaction://hlinksldjump"/>
          </p:cNvPr>
          <p:cNvSpPr/>
          <p:nvPr/>
        </p:nvSpPr>
        <p:spPr>
          <a:xfrm>
            <a:off x="6400800" y="762120"/>
            <a:ext cx="3808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96080" y="533520"/>
            <a:ext cx="53352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43" action="ppaction://hlinksldjump"/>
          </p:cNvPr>
          <p:cNvSpPr/>
          <p:nvPr/>
        </p:nvSpPr>
        <p:spPr>
          <a:xfrm>
            <a:off x="3048120" y="1523880"/>
            <a:ext cx="457200" cy="30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44" action="ppaction://hlinksldjump"/>
          </p:cNvPr>
          <p:cNvSpPr/>
          <p:nvPr/>
        </p:nvSpPr>
        <p:spPr>
          <a:xfrm>
            <a:off x="609480" y="1523880"/>
            <a:ext cx="381240" cy="38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45" action="ppaction://hlinksldjump"/>
          </p:cNvPr>
          <p:cNvSpPr/>
          <p:nvPr/>
        </p:nvSpPr>
        <p:spPr>
          <a:xfrm>
            <a:off x="3048120" y="1905120"/>
            <a:ext cx="457200" cy="304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3920" y="2514600"/>
            <a:ext cx="45720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1280" y="3124080"/>
            <a:ext cx="53352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43800" y="2286000"/>
            <a:ext cx="457200" cy="76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534520" y="4191120"/>
            <a:ext cx="38088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1880" y="3352680"/>
            <a:ext cx="6858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01000" y="3733920"/>
            <a:ext cx="609480" cy="533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1295280"/>
            <a:ext cx="60984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3048120"/>
            <a:ext cx="53352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3886200"/>
            <a:ext cx="533520" cy="76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72400" y="1295280"/>
            <a:ext cx="60948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2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371600" y="4343400"/>
            <a:ext cx="533520" cy="3808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4648320"/>
            <a:ext cx="533520" cy="3808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19240" y="4114800"/>
            <a:ext cx="533520" cy="3808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43200" y="4191120"/>
            <a:ext cx="533520" cy="3808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14880" y="4610160"/>
            <a:ext cx="533160" cy="3808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377600" y="3382920"/>
            <a:ext cx="1773000" cy="825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汉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71600" y="4343400"/>
            <a:ext cx="533520" cy="3808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648320"/>
            <a:ext cx="533520" cy="3808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19240" y="4114800"/>
            <a:ext cx="533520" cy="3808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4191120"/>
            <a:ext cx="533520" cy="3808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14880" y="4610160"/>
            <a:ext cx="533160" cy="3808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2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733920" y="3962520"/>
            <a:ext cx="609480" cy="5331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1752480"/>
            <a:ext cx="761760" cy="10670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48320" y="3886200"/>
            <a:ext cx="838080" cy="12193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00800" y="3429000"/>
            <a:ext cx="685800" cy="14479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8680" y="3352680"/>
            <a:ext cx="533520" cy="6098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67480" y="5105520"/>
            <a:ext cx="914400" cy="10666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222000" y="2819520"/>
            <a:ext cx="1773000" cy="825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只小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33920" y="3962520"/>
            <a:ext cx="609480" cy="5331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1752480"/>
            <a:ext cx="761760" cy="106704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48320" y="3886200"/>
            <a:ext cx="838080" cy="121932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00800" y="3429000"/>
            <a:ext cx="685800" cy="144792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3352680"/>
            <a:ext cx="533520" cy="60984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67480" y="5105520"/>
            <a:ext cx="914400" cy="106668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2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04920" y="4876920"/>
            <a:ext cx="304560" cy="3045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5715000"/>
            <a:ext cx="228600" cy="2286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6324480"/>
            <a:ext cx="304920" cy="3812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4648320"/>
            <a:ext cx="228600" cy="2286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34280" y="4419720"/>
            <a:ext cx="304920" cy="3045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229600" y="4648320"/>
            <a:ext cx="380880" cy="3808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5791320"/>
            <a:ext cx="228600" cy="2286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938040" y="2819520"/>
            <a:ext cx="1407240" cy="825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朵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4876920"/>
            <a:ext cx="304560" cy="3045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5715000"/>
            <a:ext cx="228600" cy="2286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6324480"/>
            <a:ext cx="304920" cy="3812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72200" y="4648320"/>
            <a:ext cx="228600" cy="2286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34280" y="4419720"/>
            <a:ext cx="304920" cy="3045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229600" y="4648320"/>
            <a:ext cx="380880" cy="3808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791320"/>
            <a:ext cx="228600" cy="2286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2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28600" y="1447920"/>
            <a:ext cx="609480" cy="16002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1143000"/>
            <a:ext cx="457200" cy="8380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86200" y="457200"/>
            <a:ext cx="457200" cy="16002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228600"/>
            <a:ext cx="609480" cy="17524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00800" y="304920"/>
            <a:ext cx="380880" cy="9903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0120" y="152280"/>
            <a:ext cx="533160" cy="9907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95480" y="1066680"/>
            <a:ext cx="533520" cy="17528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686800" y="1066680"/>
            <a:ext cx="457200" cy="3049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938040" y="2819520"/>
            <a:ext cx="1407240" cy="825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棵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1447920"/>
            <a:ext cx="609480" cy="16002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1143000"/>
            <a:ext cx="457200" cy="8380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86200" y="457200"/>
            <a:ext cx="457200" cy="16002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05520" y="228600"/>
            <a:ext cx="609480" cy="17524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00800" y="304920"/>
            <a:ext cx="380880" cy="9903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0120" y="152280"/>
            <a:ext cx="533160" cy="9907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95480" y="1066680"/>
            <a:ext cx="533520" cy="17528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686800" y="1066680"/>
            <a:ext cx="457200" cy="3049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2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52280" y="1447920"/>
            <a:ext cx="304920" cy="3045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905120"/>
            <a:ext cx="380880" cy="3808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762120"/>
            <a:ext cx="457200" cy="3045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05720" y="228600"/>
            <a:ext cx="380880" cy="4572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00800" y="762120"/>
            <a:ext cx="380880" cy="4572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96080" y="533520"/>
            <a:ext cx="533520" cy="4572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1523880"/>
            <a:ext cx="457200" cy="3049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1523880"/>
            <a:ext cx="381240" cy="3812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8120" y="1905120"/>
            <a:ext cx="457200" cy="3045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060080" y="2819520"/>
            <a:ext cx="1773000" cy="825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只小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280" y="1447920"/>
            <a:ext cx="304920" cy="3045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1905120"/>
            <a:ext cx="380880" cy="3808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05520" y="762120"/>
            <a:ext cx="457200" cy="3045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05720" y="228600"/>
            <a:ext cx="380880" cy="4572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0800" y="762120"/>
            <a:ext cx="380880" cy="4572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96080" y="533520"/>
            <a:ext cx="533520" cy="4572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48120" y="1523880"/>
            <a:ext cx="457200" cy="3049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1523880"/>
            <a:ext cx="381240" cy="3812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8120" y="1905120"/>
            <a:ext cx="457200" cy="3045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2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09480" y="2819520"/>
            <a:ext cx="2514600" cy="14475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2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733920" y="2514600"/>
            <a:ext cx="457200" cy="5335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280" y="3124080"/>
            <a:ext cx="53352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543800" y="2286000"/>
            <a:ext cx="457200" cy="7621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534520" y="4191120"/>
            <a:ext cx="3808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1880" y="3352680"/>
            <a:ext cx="685800" cy="4572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01000" y="3733920"/>
            <a:ext cx="609480" cy="5331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181480" y="1295280"/>
            <a:ext cx="60984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3048120"/>
            <a:ext cx="53352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467480" y="3886200"/>
            <a:ext cx="533520" cy="7621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1295280"/>
            <a:ext cx="6094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2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028400" y="4357800"/>
            <a:ext cx="2122200" cy="825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只蝴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2514600"/>
            <a:ext cx="457200" cy="5335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81280" y="3124080"/>
            <a:ext cx="53352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3800" y="2286000"/>
            <a:ext cx="457200" cy="7621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534520" y="4191120"/>
            <a:ext cx="3808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1880" y="3352680"/>
            <a:ext cx="685800" cy="4572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001000" y="3733920"/>
            <a:ext cx="609480" cy="5331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81480" y="1295280"/>
            <a:ext cx="60984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52880" y="3048120"/>
            <a:ext cx="53352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467480" y="3886200"/>
            <a:ext cx="533520" cy="7621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772400" y="1295280"/>
            <a:ext cx="6094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09480" y="2819520"/>
            <a:ext cx="2514600" cy="14475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77600" y="3382920"/>
            <a:ext cx="1773000" cy="825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头大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2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905120" y="5181480"/>
            <a:ext cx="838080" cy="12956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5029200"/>
            <a:ext cx="838080" cy="12952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905120" y="5181480"/>
            <a:ext cx="838080" cy="12956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5029200"/>
            <a:ext cx="838080" cy="12952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77600" y="3382920"/>
            <a:ext cx="1773000" cy="825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只小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2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477120" y="1066680"/>
            <a:ext cx="1447560" cy="12956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1828800"/>
            <a:ext cx="2209680" cy="12952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1752480"/>
            <a:ext cx="1447920" cy="6098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477120" y="1066680"/>
            <a:ext cx="1447560" cy="12956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828800"/>
            <a:ext cx="2209680" cy="12952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77600" y="3382920"/>
            <a:ext cx="1773000" cy="825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蘑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52680" y="1752480"/>
            <a:ext cx="1447920" cy="6098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2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581280" y="5638680"/>
            <a:ext cx="914400" cy="9144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15000" y="5791320"/>
            <a:ext cx="76212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24280" y="5867280"/>
            <a:ext cx="83844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5105520"/>
            <a:ext cx="68580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581280" y="5638680"/>
            <a:ext cx="914400" cy="9144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77600" y="3382920"/>
            <a:ext cx="1773000" cy="825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只松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5791320"/>
            <a:ext cx="76212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24280" y="5867280"/>
            <a:ext cx="83844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52880" y="5105520"/>
            <a:ext cx="68580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</dc:creator>
  <dc:description/>
  <dc:language>en-US</dc:language>
  <cp:lastModifiedBy>a</cp:lastModifiedBy>
  <dcterms:modified xsi:type="dcterms:W3CDTF">2004-01-09T01:30:03Z</dcterms:modified>
  <cp:revision>57</cp:revision>
  <dc:subject/>
  <dc:title>PowerPoint Presentation</dc:title>
</cp:coreProperties>
</file>