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60B-0383-4EBA-8140-18EBB3E4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363-EF02-4950-8F6C-B37AE2F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17C-6562-4003-817C-534B25C7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53D-6C61-493E-8AD5-909161B8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092-22B5-43AE-ABF4-517BCD83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E8-22B3-4BFF-9915-4795E9A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D4C-A850-483C-ADD5-8100705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269-CD22-4F96-BBC8-B064371A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2BF-5BCF-4BC5-A882-A448BBF6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1CF-9591-46AA-AF90-2078084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1DF-4998-4760-BD05-266E353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717-C957-4906-A72F-EA3FC250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25A7-781E-4B09-9EF1-C07F6CAF18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14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11430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0120" y="106668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太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06668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1219320"/>
            <a:ext cx="1981080" cy="22096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8640" y="393048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座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762120"/>
            <a:ext cx="2209680" cy="2666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7200" y="37782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5486400"/>
            <a:ext cx="3886200" cy="99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434340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7400" y="3733920"/>
            <a:ext cx="83808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05120"/>
            <a:ext cx="838440" cy="1523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137160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0" y="838080"/>
            <a:ext cx="38088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990720"/>
            <a:ext cx="3808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0"/>
            <a:ext cx="228600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04920"/>
            <a:ext cx="1828800" cy="76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53316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朵白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76920" y="3429000"/>
            <a:ext cx="83808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6800" y="281952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萝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3600" y="3352680"/>
            <a:ext cx="12193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7760" y="362592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筐萝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29400" y="914400"/>
            <a:ext cx="1066680" cy="1219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17200" y="3549600"/>
            <a:ext cx="1100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座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553080" y="4419720"/>
            <a:ext cx="9907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8640" y="3549600"/>
            <a:ext cx="13752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小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a</cp:lastModifiedBy>
  <dcterms:modified xsi:type="dcterms:W3CDTF">2004-01-09T01:43:43Z</dcterms:modified>
  <cp:revision>37</cp:revision>
  <dc:subject/>
  <dc:title>PowerPoint Presentation</dc:title>
</cp:coreProperties>
</file>