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F84-ED14-4491-A602-55579F27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199-2474-4757-B5C9-D662729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CDA-4304-445A-AA65-C81F6B70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C23-3987-4A1B-B738-969F410C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8C3-F198-4EC7-BB41-7CAF54F2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53A-E4AD-427C-8E54-C2503927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814-5A7D-4FA4-A40E-A43F2049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7E1-6830-4542-AE19-7DEEFBBB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FD8-AB09-4C4F-AFEF-95BBF9BE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228-CF5C-4357-88F9-19AB459B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431-BA0F-477A-B7DD-7CE8EB59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CBC-0E20-4D9B-86C8-0361F1E4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5E3B-F11E-4207-915E-919FBD0750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slide" Target="slide14.xml"/><Relationship Id="rId24" Type="http://schemas.openxmlformats.org/officeDocument/2006/relationships/slide" Target="slide14.xml"/><Relationship Id="rId25" Type="http://schemas.openxmlformats.org/officeDocument/2006/relationships/slide" Target="slide14.xml"/><Relationship Id="rId26" Type="http://schemas.openxmlformats.org/officeDocument/2006/relationships/slide" Target="slide14.xml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slide" Target="slide14.xml"/><Relationship Id="rId30" Type="http://schemas.openxmlformats.org/officeDocument/2006/relationships/slide" Target="slide16.xml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" Target="slide16.xml"/><Relationship Id="rId34" Type="http://schemas.openxmlformats.org/officeDocument/2006/relationships/slide" Target="slide16.xml"/><Relationship Id="rId35" Type="http://schemas.openxmlformats.org/officeDocument/2006/relationships/slide" Target="slide16.xml"/><Relationship Id="rId36" Type="http://schemas.openxmlformats.org/officeDocument/2006/relationships/slide" Target="slide16.xml"/><Relationship Id="rId37" Type="http://schemas.openxmlformats.org/officeDocument/2006/relationships/slide" Target="slide16.xml"/><Relationship Id="rId38" Type="http://schemas.openxmlformats.org/officeDocument/2006/relationships/slide" Target="slide18.xml"/><Relationship Id="rId39" Type="http://schemas.openxmlformats.org/officeDocument/2006/relationships/slide" Target="slide18.xml"/><Relationship Id="rId40" Type="http://schemas.openxmlformats.org/officeDocument/2006/relationships/slide" Target="slide18.xml"/><Relationship Id="rId41" Type="http://schemas.openxmlformats.org/officeDocument/2006/relationships/slide" Target="slide18.xml"/><Relationship Id="rId42" Type="http://schemas.openxmlformats.org/officeDocument/2006/relationships/slide" Target="slide18.xml"/><Relationship Id="rId43" Type="http://schemas.openxmlformats.org/officeDocument/2006/relationships/slide" Target="slide18.xml"/><Relationship Id="rId44" Type="http://schemas.openxmlformats.org/officeDocument/2006/relationships/slide" Target="slide18.xml"/><Relationship Id="rId45" Type="http://schemas.openxmlformats.org/officeDocument/2006/relationships/slide" Target="slide18.xml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380880" y="2743200"/>
            <a:ext cx="3124440" cy="2514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905120" y="5029200"/>
            <a:ext cx="160020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4343400" y="1981080"/>
            <a:ext cx="26668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6248520" y="106668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8077320" y="1752480"/>
            <a:ext cx="10666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505320" y="1752480"/>
            <a:ext cx="144756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581280" y="5638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5715000" y="5791320"/>
            <a:ext cx="10666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4724280" y="5867280"/>
            <a:ext cx="8384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4952880" y="5105520"/>
            <a:ext cx="8384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1371600" y="4343400"/>
            <a:ext cx="53352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838080" y="4648320"/>
            <a:ext cx="53352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2019240" y="4114800"/>
            <a:ext cx="53352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2743200" y="4191120"/>
            <a:ext cx="53352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3314880" y="4610160"/>
            <a:ext cx="53316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3733920" y="39625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1447920" y="1752480"/>
            <a:ext cx="76176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648320" y="3886200"/>
            <a:ext cx="83808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400800" y="3429000"/>
            <a:ext cx="68580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5638680" y="3352680"/>
            <a:ext cx="53352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7467480" y="5105520"/>
            <a:ext cx="91440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304920" y="48769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685800" y="57150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1066680" y="6324480"/>
            <a:ext cx="30492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6114960" y="4629240"/>
            <a:ext cx="30492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7" action="ppaction://hlinksldjump"/>
          </p:cNvPr>
          <p:cNvSpPr/>
          <p:nvPr/>
        </p:nvSpPr>
        <p:spPr>
          <a:xfrm>
            <a:off x="7334280" y="4419720"/>
            <a:ext cx="30492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8" action="ppaction://hlinksldjump"/>
          </p:cNvPr>
          <p:cNvSpPr/>
          <p:nvPr/>
        </p:nvSpPr>
        <p:spPr>
          <a:xfrm>
            <a:off x="8229600" y="46483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9" action="ppaction://hlinksldjump"/>
          </p:cNvPr>
          <p:cNvSpPr/>
          <p:nvPr/>
        </p:nvSpPr>
        <p:spPr>
          <a:xfrm>
            <a:off x="914400" y="57913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0" action="ppaction://hlinksldjump"/>
          </p:cNvPr>
          <p:cNvSpPr/>
          <p:nvPr/>
        </p:nvSpPr>
        <p:spPr>
          <a:xfrm>
            <a:off x="228600" y="1447920"/>
            <a:ext cx="60948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1" action="ppaction://hlinksldjump"/>
          </p:cNvPr>
          <p:cNvSpPr/>
          <p:nvPr/>
        </p:nvSpPr>
        <p:spPr>
          <a:xfrm>
            <a:off x="838080" y="1143000"/>
            <a:ext cx="4572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2" action="ppaction://hlinksldjump"/>
          </p:cNvPr>
          <p:cNvSpPr/>
          <p:nvPr/>
        </p:nvSpPr>
        <p:spPr>
          <a:xfrm>
            <a:off x="3886200" y="457200"/>
            <a:ext cx="45720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3" action="ppaction://hlinksldjump"/>
          </p:cNvPr>
          <p:cNvSpPr/>
          <p:nvPr/>
        </p:nvSpPr>
        <p:spPr>
          <a:xfrm>
            <a:off x="5105520" y="228600"/>
            <a:ext cx="609480" cy="1752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4" action="ppaction://hlinksldjump"/>
          </p:cNvPr>
          <p:cNvSpPr/>
          <p:nvPr/>
        </p:nvSpPr>
        <p:spPr>
          <a:xfrm>
            <a:off x="6400800" y="304920"/>
            <a:ext cx="38088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5" action="ppaction://hlinksldjump"/>
          </p:cNvPr>
          <p:cNvSpPr/>
          <p:nvPr/>
        </p:nvSpPr>
        <p:spPr>
          <a:xfrm>
            <a:off x="7620120" y="152280"/>
            <a:ext cx="5331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6" action="ppaction://hlinksldjump"/>
          </p:cNvPr>
          <p:cNvSpPr/>
          <p:nvPr/>
        </p:nvSpPr>
        <p:spPr>
          <a:xfrm>
            <a:off x="2895480" y="1066680"/>
            <a:ext cx="53352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7" action="ppaction://hlinksldjump"/>
          </p:cNvPr>
          <p:cNvSpPr/>
          <p:nvPr/>
        </p:nvSpPr>
        <p:spPr>
          <a:xfrm>
            <a:off x="8686800" y="1066680"/>
            <a:ext cx="4572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8" action="ppaction://hlinksldjump"/>
          </p:cNvPr>
          <p:cNvSpPr/>
          <p:nvPr/>
        </p:nvSpPr>
        <p:spPr>
          <a:xfrm>
            <a:off x="152280" y="1447920"/>
            <a:ext cx="30492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9" action="ppaction://hlinksldjump"/>
          </p:cNvPr>
          <p:cNvSpPr/>
          <p:nvPr/>
        </p:nvSpPr>
        <p:spPr>
          <a:xfrm>
            <a:off x="304920" y="19051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40" action="ppaction://hlinksldjump"/>
          </p:cNvPr>
          <p:cNvSpPr/>
          <p:nvPr/>
        </p:nvSpPr>
        <p:spPr>
          <a:xfrm>
            <a:off x="5105520" y="762120"/>
            <a:ext cx="45720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1" action="ppaction://hlinksldjump"/>
          </p:cNvPr>
          <p:cNvSpPr/>
          <p:nvPr/>
        </p:nvSpPr>
        <p:spPr>
          <a:xfrm>
            <a:off x="6705720" y="228600"/>
            <a:ext cx="3808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2" action="ppaction://hlinksldjump"/>
          </p:cNvPr>
          <p:cNvSpPr/>
          <p:nvPr/>
        </p:nvSpPr>
        <p:spPr>
          <a:xfrm>
            <a:off x="6400800" y="762120"/>
            <a:ext cx="3808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533520"/>
            <a:ext cx="533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43" action="ppaction://hlinksldjump"/>
          </p:cNvPr>
          <p:cNvSpPr/>
          <p:nvPr/>
        </p:nvSpPr>
        <p:spPr>
          <a:xfrm>
            <a:off x="3048120" y="1523880"/>
            <a:ext cx="4572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4" action="ppaction://hlinksldjump"/>
          </p:cNvPr>
          <p:cNvSpPr/>
          <p:nvPr/>
        </p:nvSpPr>
        <p:spPr>
          <a:xfrm>
            <a:off x="609480" y="1523880"/>
            <a:ext cx="38124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5" action="ppaction://hlinksldjump"/>
          </p:cNvPr>
          <p:cNvSpPr/>
          <p:nvPr/>
        </p:nvSpPr>
        <p:spPr>
          <a:xfrm>
            <a:off x="3048120" y="1905120"/>
            <a:ext cx="45720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2514600"/>
            <a:ext cx="45720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3124080"/>
            <a:ext cx="5335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2286000"/>
            <a:ext cx="4572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34520" y="4191120"/>
            <a:ext cx="3808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1880" y="3352680"/>
            <a:ext cx="6858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37339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295280"/>
            <a:ext cx="6098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3048120"/>
            <a:ext cx="5335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3886200"/>
            <a:ext cx="53352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1295280"/>
            <a:ext cx="6094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71600" y="434340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64832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19240" y="411480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419112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14880" y="4610160"/>
            <a:ext cx="53316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77600" y="33829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汉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434340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64832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19240" y="411480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191120"/>
            <a:ext cx="53352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4610160"/>
            <a:ext cx="53316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33920" y="3962520"/>
            <a:ext cx="609480" cy="533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752480"/>
            <a:ext cx="761760" cy="10670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3886200"/>
            <a:ext cx="838080" cy="12193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429000"/>
            <a:ext cx="685800" cy="1447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3352680"/>
            <a:ext cx="533520" cy="609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5105520"/>
            <a:ext cx="914400" cy="10666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22000" y="28195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小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3962520"/>
            <a:ext cx="609480" cy="5331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752480"/>
            <a:ext cx="761760" cy="106704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3886200"/>
            <a:ext cx="838080" cy="12193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3429000"/>
            <a:ext cx="685800" cy="14479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3352680"/>
            <a:ext cx="533520" cy="60984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5105520"/>
            <a:ext cx="914400" cy="106668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04920" y="4876920"/>
            <a:ext cx="30456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71500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6324480"/>
            <a:ext cx="304920" cy="381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464832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34280" y="4419720"/>
            <a:ext cx="30492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29600" y="4648320"/>
            <a:ext cx="38088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79132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38040" y="2819520"/>
            <a:ext cx="140724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朵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4876920"/>
            <a:ext cx="30456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71500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6324480"/>
            <a:ext cx="304920" cy="381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464832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34280" y="4419720"/>
            <a:ext cx="30492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29600" y="4648320"/>
            <a:ext cx="38088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79132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1447920"/>
            <a:ext cx="609480" cy="160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1143000"/>
            <a:ext cx="457200" cy="838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457200"/>
            <a:ext cx="457200" cy="160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28600"/>
            <a:ext cx="609480" cy="17524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304920"/>
            <a:ext cx="380880" cy="99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152280"/>
            <a:ext cx="533160" cy="990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1066680"/>
            <a:ext cx="533520" cy="1752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686800" y="1066680"/>
            <a:ext cx="457200" cy="304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38040" y="2819520"/>
            <a:ext cx="140724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447920"/>
            <a:ext cx="609480" cy="160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143000"/>
            <a:ext cx="457200" cy="838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457200"/>
            <a:ext cx="457200" cy="160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228600"/>
            <a:ext cx="609480" cy="17524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304920"/>
            <a:ext cx="380880" cy="99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152280"/>
            <a:ext cx="533160" cy="990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1066680"/>
            <a:ext cx="533520" cy="1752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86800" y="1066680"/>
            <a:ext cx="457200" cy="304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2280" y="1447920"/>
            <a:ext cx="30492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05120"/>
            <a:ext cx="38088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762120"/>
            <a:ext cx="45720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05720" y="22860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76212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533520"/>
            <a:ext cx="53352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523880"/>
            <a:ext cx="457200" cy="304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523880"/>
            <a:ext cx="381240" cy="381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1905120"/>
            <a:ext cx="45720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060080" y="28195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小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1447920"/>
            <a:ext cx="30492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905120"/>
            <a:ext cx="38088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762120"/>
            <a:ext cx="45720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2860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76212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533520"/>
            <a:ext cx="53352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1523880"/>
            <a:ext cx="457200" cy="304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523880"/>
            <a:ext cx="381240" cy="381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905120"/>
            <a:ext cx="45720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2819520"/>
            <a:ext cx="2514600" cy="1447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33920" y="2514600"/>
            <a:ext cx="457200" cy="5335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3124080"/>
            <a:ext cx="5335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2286000"/>
            <a:ext cx="457200" cy="762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4191120"/>
            <a:ext cx="3808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3352680"/>
            <a:ext cx="68580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1000" y="3733920"/>
            <a:ext cx="609480" cy="533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1295280"/>
            <a:ext cx="60984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048120"/>
            <a:ext cx="5335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67480" y="3886200"/>
            <a:ext cx="533520" cy="762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1295280"/>
            <a:ext cx="6094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028400" y="4357800"/>
            <a:ext cx="21222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蝴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2514600"/>
            <a:ext cx="457200" cy="5335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124080"/>
            <a:ext cx="5335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2286000"/>
            <a:ext cx="457200" cy="762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34520" y="4191120"/>
            <a:ext cx="3808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1880" y="3352680"/>
            <a:ext cx="68580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733920"/>
            <a:ext cx="609480" cy="533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1295280"/>
            <a:ext cx="60984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048120"/>
            <a:ext cx="5335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67480" y="3886200"/>
            <a:ext cx="533520" cy="762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72400" y="1295280"/>
            <a:ext cx="6094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2819520"/>
            <a:ext cx="2514600" cy="1447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600" y="33829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大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05120" y="5181480"/>
            <a:ext cx="838080" cy="1295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5029200"/>
            <a:ext cx="83808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05120" y="5181480"/>
            <a:ext cx="838080" cy="1295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029200"/>
            <a:ext cx="83808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77600" y="33829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小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77120" y="1066680"/>
            <a:ext cx="1447560" cy="1295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828800"/>
            <a:ext cx="220968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752480"/>
            <a:ext cx="1447920" cy="609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477120" y="1066680"/>
            <a:ext cx="1447560" cy="1295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828800"/>
            <a:ext cx="220968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77600" y="33829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蘑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1752480"/>
            <a:ext cx="1447920" cy="609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81280" y="5638680"/>
            <a:ext cx="914400" cy="914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5791320"/>
            <a:ext cx="7621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5867280"/>
            <a:ext cx="83844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5105520"/>
            <a:ext cx="68580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581280" y="5638680"/>
            <a:ext cx="914400" cy="914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77600" y="3382920"/>
            <a:ext cx="17730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松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5791320"/>
            <a:ext cx="7621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83844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5105520"/>
            <a:ext cx="68580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</dc:creator>
  <dc:description/>
  <dc:language>en-US</dc:language>
  <cp:lastModifiedBy>a</cp:lastModifiedBy>
  <dcterms:modified xsi:type="dcterms:W3CDTF">2004-01-09T01:30:03Z</dcterms:modified>
  <cp:revision>57</cp:revision>
  <dc:subject/>
  <dc:title>PowerPoint Presentation</dc:title>
</cp:coreProperties>
</file>