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271-A9E1-46E9-ACC9-2E90B1C8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0A0-DB7D-4833-89A9-5CFF3B74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94D-A6E1-4863-82DE-6B7F0383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A6A-0DB1-4FCE-B273-13843B11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C3F-9D29-4C9F-8A3F-2BA6E0E5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FF6-2205-46A5-8AFA-3F08F51F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BC7-EAC4-4D96-B06A-5C99D410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27D-9C68-4159-9402-1F38EC10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F463-1DD9-42F2-BDC9-19C03CEB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3CD-93E3-4F8D-9D11-8ACD9E4D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EFF-8B20-4185-850E-B773FC95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2F94-89C9-47D7-993B-5B5DE8BC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A4E5-F8FF-4394-8779-CDF8D43613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038480"/>
            <a:ext cx="838080" cy="2286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81680" y="5105520"/>
            <a:ext cx="1371600" cy="144756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5257800"/>
            <a:ext cx="1295280" cy="99072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5486400"/>
            <a:ext cx="1752480" cy="990720"/>
          </a:xfrm>
          <a:prstGeom prst="cube">
            <a:avLst>
              <a:gd name="adj" fmla="val 25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724280"/>
            <a:ext cx="838080" cy="17528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4191120"/>
            <a:ext cx="990360" cy="2057400"/>
          </a:xfrm>
          <a:prstGeom prst="can">
            <a:avLst>
              <a:gd name="adj" fmla="val 2500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52880"/>
            <a:ext cx="609480" cy="1067040"/>
          </a:xfrm>
          <a:prstGeom prst="ca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648320"/>
            <a:ext cx="838080" cy="182880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791320"/>
            <a:ext cx="838080" cy="106668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0000"/>
                </a:solidFill>
                <a:latin typeface="Times New Roman"/>
              </a:rPr>
              <a:t>图形的认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847880" cy="164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86400" y="4724280"/>
            <a:ext cx="9144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1752480" cy="155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1514520" cy="1699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04920" y="4876920"/>
            <a:ext cx="1415880" cy="1623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867280" y="4114800"/>
            <a:ext cx="2648160" cy="1374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514600" y="5029200"/>
            <a:ext cx="2305080" cy="1428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1371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朋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514600"/>
            <a:ext cx="6400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说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些东西的形状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990880" cy="1704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95480" y="1143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8380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白色的粮仓是圆柱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1812960" cy="2081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9548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8195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一块钱币也可以看作是圆柱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3371760" cy="1752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28800" y="5562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3341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面包也是圆柱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295280"/>
            <a:ext cx="1904760" cy="685800"/>
          </a:xfrm>
          <a:prstGeom prst="ca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04920"/>
            <a:ext cx="1218960" cy="205740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800240" y="761760"/>
            <a:ext cx="838080" cy="20574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457200"/>
            <a:ext cx="1219320" cy="175248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819520"/>
            <a:ext cx="79246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朋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你能说圆柱上下两个面是什么形状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352680" y="304920"/>
            <a:ext cx="1895760" cy="2590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295280" y="27432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57200" y="4572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162920" y="3505320"/>
            <a:ext cx="1658880" cy="2971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19920" y="533520"/>
            <a:ext cx="3962160" cy="31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它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形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都是</a:t>
            </a:r>
            <a:r>
              <a:rPr b="1" lang="zh-CN" sz="5400" spc="-1" strike="noStrike">
                <a:solidFill>
                  <a:srgbClr val="ff9966"/>
                </a:solidFill>
                <a:latin typeface="Times New Roman"/>
              </a:rPr>
              <a:t>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数一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219320"/>
            <a:ext cx="304920" cy="10666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1676520"/>
            <a:ext cx="990360" cy="60948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5334120" y="2438280"/>
            <a:ext cx="304560" cy="10670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1676520"/>
            <a:ext cx="685800" cy="457200"/>
          </a:xfrm>
          <a:prstGeom prst="cube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1447920"/>
            <a:ext cx="685800" cy="761760"/>
          </a:xfrm>
          <a:prstGeom prst="cube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990720"/>
            <a:ext cx="609840" cy="1295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705720" y="1143000"/>
            <a:ext cx="861840" cy="87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861840" cy="879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57400" y="2590920"/>
            <a:ext cx="762120" cy="60948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809880" y="2514600"/>
            <a:ext cx="638280" cy="650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10280" y="2438280"/>
            <a:ext cx="1143000" cy="8384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91120"/>
            <a:ext cx="815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长方体有（   ）个        圆柱体有（  ）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方体有（   ）个          球      有（  ）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1:27:18Z</dcterms:created>
  <dc:creator>ww</dc:creator>
  <dc:description/>
  <dc:language>en-US</dc:language>
  <cp:lastModifiedBy>a</cp:lastModifiedBy>
  <dcterms:modified xsi:type="dcterms:W3CDTF">2004-01-16T07:12:14Z</dcterms:modified>
  <cp:revision>1</cp:revision>
  <dc:subject/>
  <dc:title>没有幻灯片标题</dc:title>
</cp:coreProperties>
</file>