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8F3-DD8C-459C-A2B0-B1E0A8DA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273-658D-4E01-9602-D637698D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D4F-956B-406E-8AE3-750A4B3B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FB2-15A1-4765-8D6A-B887CB27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485-202B-4E06-8013-FED8D2C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B23-3FA7-47D4-86A9-1916BE40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6DC-F129-40F5-B0B2-50027EA0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52D-1598-4BDD-BAFC-C13C827D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1BB-E1E9-4589-B563-40FBB404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4E4-E3D4-4F38-BB29-3F535DC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4B8-B380-4FFB-9BB4-9197E77C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275-3E63-4D50-B3F2-C3FAA8A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9659-2118-462F-A89D-D152B917C2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国旗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1460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98108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96252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5000" y="14889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请说出几号图形是长方形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42900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741600">
            <a:off x="2742840" y="335232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419000" y="3429000"/>
            <a:ext cx="1214280" cy="914400"/>
          </a:xfrm>
          <a:custGeom>
            <a:avLst/>
            <a:gdLst>
              <a:gd name="textAreaLeft" fmla="*/ 265680 w 1214280"/>
              <a:gd name="textAreaRight" fmla="*/ 948600 w 1214280"/>
              <a:gd name="textAreaTop" fmla="*/ 200160 h 914400"/>
              <a:gd name="textAreaBottom" fmla="*/ 7142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36" y="21600"/>
                </a:lnTo>
                <a:lnTo>
                  <a:pt x="5364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3429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048120"/>
            <a:ext cx="6858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29000" y="190512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4114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正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45280" y="1066680"/>
            <a:ext cx="24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沿虚线折一折，看看正方形的边长怎么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的边长怎么样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743200"/>
            <a:ext cx="12952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0" y="278136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74320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857680"/>
            <a:ext cx="26668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8954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4290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0040" y="4756320"/>
            <a:ext cx="35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说一说，哪些物品的面是正方形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哪些物品的面是长方形的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5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长方形   正方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yanchao</cp:lastModifiedBy>
  <dcterms:modified xsi:type="dcterms:W3CDTF">2003-02-25T08:21:51Z</dcterms:modified>
  <cp:revision>11</cp:revision>
  <dc:subject/>
  <dc:title>PowerPoint Presentation</dc:title>
</cp:coreProperties>
</file>