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988-9483-4C65-8E5D-DC611CD8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2C3-F222-4AA2-A775-D7156735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9BC-1433-4491-9FBF-CCD6F3B4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6A1-1F41-43DB-A5C0-D0C8AB71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002-3409-4835-A542-73405A1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A08-6520-49C6-850E-72D5D60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9FC-1BA9-40E6-8C49-2139577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A20-F77F-431D-AACB-66A129B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5D3-890B-41DA-96B4-8B3EF52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78A-F406-4A2D-89CE-86D749E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328-2CB0-4A1E-AFEB-6F0C968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C76-860A-43F9-969C-397886C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4C21-37DE-4573-B2B9-4405F9948B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038480"/>
            <a:ext cx="838080" cy="2286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105520"/>
            <a:ext cx="1371600" cy="14475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12952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5486400"/>
            <a:ext cx="1752480" cy="990720"/>
          </a:xfrm>
          <a:prstGeom prst="cube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24280"/>
            <a:ext cx="838080" cy="17528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4191120"/>
            <a:ext cx="990360" cy="2057400"/>
          </a:xfrm>
          <a:prstGeom prst="can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52880"/>
            <a:ext cx="609480" cy="106704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648320"/>
            <a:ext cx="838080" cy="182880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791320"/>
            <a:ext cx="838080" cy="106668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Times New Roman"/>
              </a:rPr>
              <a:t>图形的认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847880" cy="164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472428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752480" cy="15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514520" cy="16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1415880" cy="162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867280" y="4114800"/>
            <a:ext cx="2648160" cy="13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514600" y="50292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371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51460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说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东西的形状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99088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114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8380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色的粮仓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12960" cy="2081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54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8195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一块钱币也可以看作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371760" cy="175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334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包也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95280"/>
            <a:ext cx="1904760" cy="68580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04920"/>
            <a:ext cx="1218960" cy="20574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00240" y="761760"/>
            <a:ext cx="838080" cy="2057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57200"/>
            <a:ext cx="1219320" cy="17524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8195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说圆柱上下两个面是什么形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1895760" cy="259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162920" y="3505320"/>
            <a:ext cx="1658880" cy="297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533520"/>
            <a:ext cx="396216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它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zh-CN" sz="5400" spc="-1" strike="noStrike">
                <a:solidFill>
                  <a:srgbClr val="ff9966"/>
                </a:solidFill>
                <a:latin typeface="Times New Roman"/>
              </a:rPr>
              <a:t>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一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9320"/>
            <a:ext cx="304920" cy="10666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1676520"/>
            <a:ext cx="99036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334120" y="2438280"/>
            <a:ext cx="304560" cy="10670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685800" cy="45720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1447920"/>
            <a:ext cx="685800" cy="76176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990720"/>
            <a:ext cx="609840" cy="1295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861840" cy="87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61840" cy="87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590920"/>
            <a:ext cx="76212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638280" cy="65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2438280"/>
            <a:ext cx="1143000" cy="8384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方体有（   ）个        圆柱体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方体有（   ）个          球      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1:27:18Z</dcterms:created>
  <dc:creator>ww</dc:creator>
  <dc:description/>
  <dc:language>en-US</dc:language>
  <cp:lastModifiedBy>a</cp:lastModifiedBy>
  <dcterms:modified xsi:type="dcterms:W3CDTF">2004-01-16T07:12:14Z</dcterms:modified>
  <cp:revision>1</cp:revision>
  <dc:subject/>
  <dc:title>没有幻灯片标题</dc:title>
</cp:coreProperties>
</file>