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D11-2EED-43EA-A9FC-A4E84A55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2BD-98AB-44BD-BE19-AD9E02A5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9F1-6384-482D-8FE4-EED7E3C1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B56-4751-480C-A502-CC006C20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662-2358-46CF-AFA1-4E6EED7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028-970A-435D-A853-3634C204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BD9-C5C2-4DE4-AF03-1B644EDE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2EC-830D-40BB-8CD3-77F6C1B6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80F-DBBD-45EB-80F0-6A42BD66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F60-C52F-4C02-91BD-3FA3E31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6FD-1F64-4E8A-8E5F-CF684DFB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F79-0ACF-4DD4-BC8A-9C59D1DF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F5B9-F54E-4735-AA7F-6765F56F46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国旗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3244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14600" y="1981080"/>
            <a:ext cx="0" cy="19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1981080"/>
            <a:ext cx="380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981080"/>
            <a:ext cx="0" cy="19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962520"/>
            <a:ext cx="380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600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5000" y="14889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请说出几号图形是长方形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429000"/>
            <a:ext cx="12193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8741600">
            <a:off x="2742840" y="3352320"/>
            <a:ext cx="12193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419000" y="3429000"/>
            <a:ext cx="1214280" cy="914400"/>
          </a:xfrm>
          <a:custGeom>
            <a:avLst/>
            <a:gdLst>
              <a:gd name="textAreaLeft" fmla="*/ 265680 w 1214280"/>
              <a:gd name="textAreaRight" fmla="*/ 948600 w 1214280"/>
              <a:gd name="textAreaTop" fmla="*/ 200160 h 914400"/>
              <a:gd name="textAreaBottom" fmla="*/ 7142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36" y="21600"/>
                </a:lnTo>
                <a:lnTo>
                  <a:pt x="5364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3429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3048120"/>
            <a:ext cx="6858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19051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29000" y="190512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9051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4114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600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正方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45280" y="1066680"/>
            <a:ext cx="24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沿虚线折一折，看看正方形的边长怎么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形的边长怎么样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743200"/>
            <a:ext cx="12952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0" y="2781360"/>
            <a:ext cx="1295280" cy="129528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743200"/>
            <a:ext cx="1295280" cy="129528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857680"/>
            <a:ext cx="26668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8954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42900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0040" y="4756320"/>
            <a:ext cx="35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．说一说，哪些物品的面是正方形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哪些物品的面是长方形的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5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长方形   正方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</dc:creator>
  <dc:description/>
  <dc:language>en-US</dc:language>
  <cp:lastModifiedBy>yanchao</cp:lastModifiedBy>
  <dcterms:modified xsi:type="dcterms:W3CDTF">2003-02-25T08:21:51Z</dcterms:modified>
  <cp:revision>11</cp:revision>
  <dc:subject/>
  <dc:title>PowerPoint Presentation</dc:title>
</cp:coreProperties>
</file>