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086-F762-4EA8-9C13-3DBDF21F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6F5-7B44-4A9C-821A-EFDFC999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ABD-BB33-4B04-B130-25F4E39C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EA9-1649-474E-8FB6-49CF96B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5678-0647-4465-99F4-3EE7D5DF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4883-4F1C-4A6D-83FE-21788D72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BECD-DB07-4C6F-A7E7-21F37BC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DC7-CE5F-4FCD-950B-CE6AD25E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39BB-91E0-4D4B-AB67-F22729EB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55A4-F84E-4C83-81B7-99A2780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F86-F2B4-4C2C-924B-C6E885C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890-89CC-4092-A336-B589F33C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9FE-5593-463C-A73A-ABCC8884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ACD-05B0-4C9E-9A7A-60963AB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BA2-E308-4019-A5EA-3ABA40D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B29E-B79F-4653-BEC8-4ED53161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03A-62DA-4539-BD7A-3E79F3D3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B2C-C1A0-4904-BCB0-92494851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2F8-E149-4C02-8AD3-36E83F61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9FE-0C97-4312-8EE3-38522588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A1B-2D93-4696-B815-D389A513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1EB-D60E-4114-A152-5906CC8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108-15D7-4E54-861C-9D3386C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3EA-90AF-4DF6-B4AE-987C4A2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E00-4C12-4B7D-8623-B645992D65D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9B9-3C70-4C47-AC5D-8EE6308769B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eb"/>
                </a:solidFill>
                <a:latin typeface="Times New Roman"/>
              </a:rPr>
              <a:t>简单的数据整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860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简单的数据整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" descr=""/>
          <p:cNvPicPr/>
          <p:nvPr/>
        </p:nvPicPr>
        <p:blipFill>
          <a:blip r:embed="rId1"/>
          <a:srcRect l="16598" t="873" r="16598" b="81704"/>
          <a:stretch/>
        </p:blipFill>
        <p:spPr>
          <a:xfrm>
            <a:off x="1676520" y="533520"/>
            <a:ext cx="6305400" cy="300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228600"/>
            <a:ext cx="838440" cy="5335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4191120"/>
          <a:ext cx="6553080" cy="20318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90720"/>
                <a:gridCol w="914400"/>
                <a:gridCol w="914400"/>
                <a:gridCol w="99036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街道名称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和平一巷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和平二巷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胜利一巷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胜利二巷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东大街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学生人数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58308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380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248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2286000"/>
            <a:ext cx="1600200" cy="1371600"/>
          </a:xfrm>
          <a:prstGeom prst="ellipse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688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76520" y="1523880"/>
            <a:ext cx="6248160" cy="1295640"/>
            <a:chOff x="1676520" y="1523880"/>
            <a:chExt cx="6248160" cy="1295640"/>
          </a:xfrm>
        </p:grpSpPr>
        <p:sp>
          <p:nvSpPr>
            <p:cNvPr id="139" name=""/>
            <p:cNvSpPr/>
            <p:nvPr/>
          </p:nvSpPr>
          <p:spPr>
            <a:xfrm>
              <a:off x="1676520" y="1600200"/>
              <a:ext cx="1066680" cy="1219320"/>
            </a:xfrm>
            <a:custGeom>
              <a:avLst/>
              <a:gdLst>
                <a:gd name="textAreaLeft" fmla="*/ 156240 w 1066680"/>
                <a:gd name="textAreaRight" fmla="*/ 910440 w 1066680"/>
                <a:gd name="textAreaTop" fmla="*/ 156240 h 1219320"/>
                <a:gd name="textAreaBottom" fmla="*/ 1063080 h 1219320"/>
              </a:gdLst>
              <a:ahLst/>
              <a:rect l="textAreaLeft" t="textAreaTop" r="textAreaRight" b="textAreaBottom"/>
              <a:pathLst>
                <a:path w="21600" h="24690">
                  <a:moveTo>
                    <a:pt x="10800" y="0"/>
                  </a:moveTo>
                  <a:arcTo wR="10800" hR="10800" stAng="16200000" swAng="-5400000"/>
                  <a:lnTo>
                    <a:pt x="0" y="13890"/>
                  </a:lnTo>
                  <a:arcTo wR="10800" hR="10800" stAng="10800000" swAng="-5400000"/>
                  <a:lnTo>
                    <a:pt x="10800" y="2469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286000"/>
              <a:ext cx="1219320" cy="38088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15200" y="1523880"/>
              <a:ext cx="609480" cy="114300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76520" y="1523880"/>
            <a:ext cx="6248160" cy="1295640"/>
            <a:chOff x="1676520" y="1523880"/>
            <a:chExt cx="6248160" cy="1295640"/>
          </a:xfrm>
        </p:grpSpPr>
        <p:sp>
          <p:nvSpPr>
            <p:cNvPr id="143" name=""/>
            <p:cNvSpPr/>
            <p:nvPr/>
          </p:nvSpPr>
          <p:spPr>
            <a:xfrm>
              <a:off x="1676520" y="1600200"/>
              <a:ext cx="1066680" cy="1219320"/>
            </a:xfrm>
            <a:custGeom>
              <a:avLst/>
              <a:gdLst>
                <a:gd name="textAreaLeft" fmla="*/ 156240 w 1066680"/>
                <a:gd name="textAreaRight" fmla="*/ 910440 w 1066680"/>
                <a:gd name="textAreaTop" fmla="*/ 156240 h 1219320"/>
                <a:gd name="textAreaBottom" fmla="*/ 1063080 h 1219320"/>
              </a:gdLst>
              <a:ahLst/>
              <a:rect l="textAreaLeft" t="textAreaTop" r="textAreaRight" b="textAreaBottom"/>
              <a:pathLst>
                <a:path w="21600" h="24690">
                  <a:moveTo>
                    <a:pt x="10800" y="0"/>
                  </a:moveTo>
                  <a:arcTo wR="10800" hR="10800" stAng="16200000" swAng="-5400000"/>
                  <a:lnTo>
                    <a:pt x="0" y="13890"/>
                  </a:lnTo>
                  <a:arcTo wR="10800" hR="10800" stAng="10800000" swAng="-5400000"/>
                  <a:lnTo>
                    <a:pt x="10800" y="2469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2286000"/>
              <a:ext cx="1219320" cy="38088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5200" y="1523880"/>
              <a:ext cx="609480" cy="114300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76520" y="1523880"/>
            <a:ext cx="6248160" cy="1295640"/>
            <a:chOff x="1676520" y="1523880"/>
            <a:chExt cx="6248160" cy="1295640"/>
          </a:xfrm>
        </p:grpSpPr>
        <p:sp>
          <p:nvSpPr>
            <p:cNvPr id="147" name=""/>
            <p:cNvSpPr/>
            <p:nvPr/>
          </p:nvSpPr>
          <p:spPr>
            <a:xfrm>
              <a:off x="1676520" y="1600200"/>
              <a:ext cx="1066680" cy="1219320"/>
            </a:xfrm>
            <a:custGeom>
              <a:avLst/>
              <a:gdLst>
                <a:gd name="textAreaLeft" fmla="*/ 156240 w 1066680"/>
                <a:gd name="textAreaRight" fmla="*/ 910440 w 1066680"/>
                <a:gd name="textAreaTop" fmla="*/ 156240 h 1219320"/>
                <a:gd name="textAreaBottom" fmla="*/ 1063080 h 1219320"/>
              </a:gdLst>
              <a:ahLst/>
              <a:rect l="textAreaLeft" t="textAreaTop" r="textAreaRight" b="textAreaBottom"/>
              <a:pathLst>
                <a:path w="21600" h="24690">
                  <a:moveTo>
                    <a:pt x="10800" y="0"/>
                  </a:moveTo>
                  <a:arcTo wR="10800" hR="10800" stAng="16200000" swAng="-5400000"/>
                  <a:lnTo>
                    <a:pt x="0" y="13890"/>
                  </a:lnTo>
                  <a:arcTo wR="10800" hR="10800" stAng="10800000" swAng="-5400000"/>
                  <a:lnTo>
                    <a:pt x="10800" y="2469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286000"/>
              <a:ext cx="1219320" cy="38088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1523880"/>
              <a:ext cx="609480" cy="1143000"/>
            </a:xfrm>
            <a:prstGeom prst="ellipse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240680" y="541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60680" y="541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8120" y="533520"/>
          <a:ext cx="3124080" cy="2914560"/>
        </p:xfrm>
        <a:graphic>
          <a:graphicData uri="http://schemas.openxmlformats.org/drawingml/2006/table">
            <a:tbl>
              <a:tblPr/>
              <a:tblGrid>
                <a:gridCol w="284040"/>
                <a:gridCol w="284040"/>
                <a:gridCol w="284400"/>
                <a:gridCol w="282600"/>
                <a:gridCol w="284040"/>
                <a:gridCol w="285840"/>
                <a:gridCol w="284040"/>
                <a:gridCol w="282600"/>
                <a:gridCol w="284040"/>
                <a:gridCol w="284400"/>
                <a:gridCol w="284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71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13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236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924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（人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7720" y="392472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072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3320" y="392616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684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34640" y="3426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东大街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0040" y="513072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一个方格代表几个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5280" y="601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8120" y="533520"/>
          <a:ext cx="3124080" cy="2914560"/>
        </p:xfrm>
        <a:graphic>
          <a:graphicData uri="http://schemas.openxmlformats.org/drawingml/2006/table">
            <a:tbl>
              <a:tblPr/>
              <a:tblGrid>
                <a:gridCol w="284040"/>
                <a:gridCol w="284040"/>
                <a:gridCol w="284400"/>
                <a:gridCol w="282600"/>
                <a:gridCol w="284040"/>
                <a:gridCol w="285840"/>
                <a:gridCol w="284040"/>
                <a:gridCol w="282600"/>
                <a:gridCol w="284040"/>
                <a:gridCol w="284400"/>
                <a:gridCol w="284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71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3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236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924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（人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7720" y="392472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7072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3320" y="392616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684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34640" y="3426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东大街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4280" y="513072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哪条街住的同学最多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50320" y="5987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东大街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048120" y="533520"/>
          <a:ext cx="3124080" cy="2914560"/>
        </p:xfrm>
        <a:graphic>
          <a:graphicData uri="http://schemas.openxmlformats.org/drawingml/2006/table">
            <a:tbl>
              <a:tblPr/>
              <a:tblGrid>
                <a:gridCol w="284040"/>
                <a:gridCol w="284040"/>
                <a:gridCol w="284400"/>
                <a:gridCol w="282600"/>
                <a:gridCol w="284040"/>
                <a:gridCol w="285840"/>
                <a:gridCol w="284040"/>
                <a:gridCol w="282600"/>
                <a:gridCol w="284040"/>
                <a:gridCol w="284400"/>
                <a:gridCol w="284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71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13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236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924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（人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67720" y="392472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7072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3320" y="392616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684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34640" y="3426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东大街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4280" y="513072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哪条街住的同学最少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800" y="5987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胜利一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8120" y="533520"/>
          <a:ext cx="3124080" cy="2914560"/>
        </p:xfrm>
        <a:graphic>
          <a:graphicData uri="http://schemas.openxmlformats.org/drawingml/2006/table">
            <a:tbl>
              <a:tblPr/>
              <a:tblGrid>
                <a:gridCol w="284040"/>
                <a:gridCol w="284040"/>
                <a:gridCol w="284400"/>
                <a:gridCol w="282600"/>
                <a:gridCol w="284040"/>
                <a:gridCol w="285840"/>
                <a:gridCol w="284040"/>
                <a:gridCol w="282600"/>
                <a:gridCol w="284040"/>
                <a:gridCol w="284400"/>
                <a:gridCol w="284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71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3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236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6924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（人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7720" y="392472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072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3320" y="392616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684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34640" y="3426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东大街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05160" y="513072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住的最多的街比住的最少的街多几个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1600" y="601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533520"/>
          <a:ext cx="3124080" cy="2914560"/>
        </p:xfrm>
        <a:graphic>
          <a:graphicData uri="http://schemas.openxmlformats.org/drawingml/2006/table">
            <a:tbl>
              <a:tblPr/>
              <a:tblGrid>
                <a:gridCol w="284040"/>
                <a:gridCol w="284040"/>
                <a:gridCol w="284400"/>
                <a:gridCol w="282600"/>
                <a:gridCol w="284040"/>
                <a:gridCol w="285840"/>
                <a:gridCol w="284040"/>
                <a:gridCol w="282600"/>
                <a:gridCol w="284040"/>
                <a:gridCol w="284400"/>
                <a:gridCol w="284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71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13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236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6924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（人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67720" y="392472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7072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和平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3320" y="392616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一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6840" y="3383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胜利二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34640" y="3426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东大街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78520" y="513072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）住和平一巷的比住胜利二巷的少几个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5280" y="601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36:04Z</dcterms:created>
  <dc:creator>tf</dc:creator>
  <dc:description/>
  <dc:language>en-US</dc:language>
  <cp:lastModifiedBy>a</cp:lastModifiedBy>
  <dcterms:modified xsi:type="dcterms:W3CDTF">2003-04-11T09:49:15Z</dcterms:modified>
  <cp:revision>58</cp:revision>
  <dc:subject/>
  <dc:title>简单的数据整理和求平均数</dc:title>
</cp:coreProperties>
</file>