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7F6-2F0B-48C8-A115-DF853DD0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128-80B8-41A1-82A8-1AA9084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815-E05D-4C97-BAFF-63949D0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656-A760-4933-B77B-9C965AFC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06FA-A3F0-42A1-9765-E1AC105A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A59-A00F-4132-BAFF-8C47E9C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55C0-909F-4FA5-9104-E5146B43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429-788D-4E29-87B5-EB7D7EB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3CA-AF2C-42F2-96D2-6216B92E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A02-F38B-4A54-B684-00505A95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F262-A7C7-4A17-9A4F-18329E62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408-D345-4726-8EC9-9AF90DF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4F22-F973-4E13-8E88-4509A5C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6409-7E64-4CA5-A614-C2BB08AF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EBFD-F52F-43E4-9F51-1760B5C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E08-C406-4CDE-9308-6F2A14B8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E465-3DCB-41FE-8B53-CEB579AC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B84-5C46-4437-847D-B03BC21A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33C-1498-467C-BE0D-466CC47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8BA-A76F-4114-A870-B5A8E26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2DF-935C-4425-96BD-8F013286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698-F166-418F-95B7-46910D3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E05-9C30-4AF4-A04D-E5CF097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8A0-28D6-479E-805E-65966B7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B8C1-CF99-4E36-8D45-2F36796FC5B5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47B5-645F-4A68-B66B-AFE62C9AEE1F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0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7772400" cy="5987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6920" y="639720"/>
            <a:ext cx="667800" cy="61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你能将这些物体分类吗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1" descr=""/>
          <p:cNvPicPr/>
          <p:nvPr/>
        </p:nvPicPr>
        <p:blipFill>
          <a:blip r:embed="rId2"/>
          <a:stretch/>
        </p:blipFill>
        <p:spPr>
          <a:xfrm>
            <a:off x="1828800" y="1357200"/>
            <a:ext cx="5486400" cy="528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48040" y="428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按大小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2" descr=""/>
          <p:cNvPicPr/>
          <p:nvPr/>
        </p:nvPicPr>
        <p:blipFill>
          <a:blip r:embed="rId2"/>
          <a:srcRect l="0" t="0" r="0" b="4090"/>
          <a:stretch/>
        </p:blipFill>
        <p:spPr>
          <a:xfrm>
            <a:off x="1676520" y="1295280"/>
            <a:ext cx="5715000" cy="536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48040" y="428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按形状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2865600"/>
            <a:ext cx="2210040" cy="1143000"/>
          </a:xfrm>
          <a:prstGeom prst="cube">
            <a:avLst>
              <a:gd name="adj" fmla="val 48555"/>
            </a:avLst>
          </a:prstGeom>
          <a:solidFill>
            <a:srgbClr val="808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08400"/>
            <a:ext cx="1752480" cy="160020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1798560"/>
            <a:ext cx="1447920" cy="221004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233208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762120"/>
            <a:ext cx="144792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认一认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9560" y="481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长方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57440" y="4794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正方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08160" y="479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圆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14240" y="479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7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839080" cy="398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457200"/>
            <a:ext cx="1524240" cy="609480"/>
          </a:xfrm>
          <a:prstGeom prst="rect">
            <a:avLst/>
          </a:prstGeom>
          <a:solidFill>
            <a:srgbClr val="59d559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8880" y="14479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．找朋友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0960" y="54100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54864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66880" y="54864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6880" y="54100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52280" y="55627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2240" y="55627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6240" y="57913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88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9532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99" descr=""/>
          <p:cNvPicPr/>
          <p:nvPr/>
        </p:nvPicPr>
        <p:blipFill>
          <a:blip r:embed="rId3"/>
          <a:stretch/>
        </p:blipFill>
        <p:spPr>
          <a:xfrm>
            <a:off x="5334120" y="1838160"/>
            <a:ext cx="3733560" cy="35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457200"/>
            <a:ext cx="1524240" cy="609480"/>
          </a:xfrm>
          <a:prstGeom prst="rect">
            <a:avLst/>
          </a:prstGeom>
          <a:solidFill>
            <a:srgbClr val="59d559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880" y="144792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．填表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7808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886200"/>
            <a:ext cx="609480" cy="60948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048120"/>
            <a:ext cx="609840" cy="60948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895480"/>
            <a:ext cx="609480" cy="6098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33400" y="3200400"/>
            <a:ext cx="609840" cy="609480"/>
          </a:xfrm>
          <a:prstGeom prst="ellipse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78080" y="294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981600"/>
            <a:ext cx="609840" cy="6094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971800"/>
            <a:ext cx="609480" cy="6094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78080" y="3772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7160" y="457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2" descr=""/>
          <p:cNvPicPr/>
          <p:nvPr/>
        </p:nvPicPr>
        <p:blipFill>
          <a:blip r:embed="rId2"/>
          <a:stretch/>
        </p:blipFill>
        <p:spPr>
          <a:xfrm>
            <a:off x="163440" y="2590920"/>
            <a:ext cx="8815320" cy="350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457200"/>
            <a:ext cx="1524240" cy="609480"/>
          </a:xfrm>
          <a:prstGeom prst="rect">
            <a:avLst/>
          </a:prstGeom>
          <a:solidFill>
            <a:srgbClr val="59d559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2160" y="1447920"/>
            <a:ext cx="30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．动手搭出你喜欢的东西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1524240" cy="609480"/>
          </a:xfrm>
          <a:prstGeom prst="rect">
            <a:avLst/>
          </a:prstGeom>
          <a:solidFill>
            <a:srgbClr val="59d559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05440" y="2360520"/>
            <a:ext cx="52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．找一找生活中形状是　　　　　　　　　　的物品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　　并与同伴说一说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2480" y="2438280"/>
            <a:ext cx="838080" cy="381240"/>
          </a:xfrm>
          <a:prstGeom prst="cube">
            <a:avLst>
              <a:gd name="adj" fmla="val 48555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209680"/>
            <a:ext cx="685800" cy="625680"/>
          </a:xfrm>
          <a:prstGeom prst="cube">
            <a:avLst>
              <a:gd name="adj" fmla="val 2500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2640" y="2133720"/>
            <a:ext cx="533520" cy="7617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209680"/>
            <a:ext cx="60948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27:16Z</dcterms:created>
  <dc:creator>ww</dc:creator>
  <dc:description/>
  <dc:language>en-US</dc:language>
  <cp:lastModifiedBy>lhy</cp:lastModifiedBy>
  <dcterms:modified xsi:type="dcterms:W3CDTF">2004-01-30T07:25:11Z</dcterms:modified>
  <cp:revision>2</cp:revision>
  <dc:subject/>
  <dc:title>PowerPoint 演示文稿</dc:title>
</cp:coreProperties>
</file>