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A54-9F36-480E-AFC6-40B1BBDF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975-DF75-42C0-A24A-EBFE26D2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0BE-A7D1-41B4-8DA5-4504D308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AFD-31CF-441A-9E88-0A383074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E658-981B-4596-BFBF-F0CDF5C9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D354-B40C-4AB9-8890-635C9F26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85C3-4AD7-4EF1-8A5B-80E0885A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8FDC-2D14-41B4-B775-7F38CDB5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ED2A-E5A4-4F1B-A0CB-FAE9113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E6CB-08E9-4882-B9F4-19E7B37B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030C-FD45-40DC-AADA-FE605EA5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396-7302-47AC-A352-E60465A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D752-C579-411C-835A-1C24EA42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464B-D3C0-4493-BB79-7791ED6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9F54-DD57-4EED-B55A-89F6CAE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3C32-5725-4DD1-AC78-677210F0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BD7B-F2E3-4965-A2AF-3B23BA28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F3E-E627-4541-BE3E-32330AAA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038-185A-43C2-A474-9E7DA134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C33-5376-4AA6-972B-DBC43E70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984-D0BC-4285-8FDF-E093DA8F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5FB-DB27-4FE1-A0B8-66C8FC2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DD0-8037-43A1-B144-BA073B0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551-741F-4AE3-8185-81E6C22A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24F5-FCCB-401C-8097-91C53C40AFB6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F0A-80B7-4212-93F3-903D0E9D58EB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魔方1" descr=""/>
          <p:cNvPicPr/>
          <p:nvPr/>
        </p:nvPicPr>
        <p:blipFill>
          <a:blip r:embed="rId2"/>
          <a:stretch/>
        </p:blipFill>
        <p:spPr>
          <a:xfrm>
            <a:off x="3286080" y="2028960"/>
            <a:ext cx="2571840" cy="280008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圆柱4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4149720" cy="487692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圆柱塔楼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4489200" cy="59436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保龄球" descr=""/>
          <p:cNvPicPr/>
          <p:nvPr/>
        </p:nvPicPr>
        <p:blipFill>
          <a:blip r:embed="rId2"/>
          <a:stretch/>
        </p:blipFill>
        <p:spPr>
          <a:xfrm>
            <a:off x="2438280" y="1447920"/>
            <a:ext cx="3981600" cy="441936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篮球" descr=""/>
          <p:cNvPicPr/>
          <p:nvPr/>
        </p:nvPicPr>
        <p:blipFill>
          <a:blip r:embed="rId2"/>
          <a:srcRect l="18000" t="11331" r="23337" b="15338"/>
          <a:stretch/>
        </p:blipFill>
        <p:spPr>
          <a:xfrm>
            <a:off x="2362320" y="1371600"/>
            <a:ext cx="5029200" cy="4191120"/>
          </a:xfrm>
          <a:prstGeom prst="rect">
            <a:avLst/>
          </a:prstGeom>
          <a:ln w="0">
            <a:noFill/>
          </a:ln>
        </p:spPr>
      </p:pic>
    </p:spTree>
  </p:cSld>
  <p:transition advTm="2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球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581640" cy="3311280"/>
          </a:xfrm>
          <a:prstGeom prst="rect">
            <a:avLst/>
          </a:prstGeom>
          <a:ln w="0">
            <a:noFill/>
          </a:ln>
        </p:spPr>
      </p:pic>
    </p:spTree>
  </p:cSld>
  <p:transition advTm="2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球形路灯1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629400" cy="40435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球形玩具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92600" cy="351468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足球" descr=""/>
          <p:cNvPicPr/>
          <p:nvPr/>
        </p:nvPicPr>
        <p:blipFill>
          <a:blip r:embed="rId2"/>
          <a:stretch/>
        </p:blipFill>
        <p:spPr>
          <a:xfrm>
            <a:off x="2921040" y="1600200"/>
            <a:ext cx="3251160" cy="36576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足球无烟烟灰缸" descr=""/>
          <p:cNvPicPr/>
          <p:nvPr/>
        </p:nvPicPr>
        <p:blipFill>
          <a:blip r:embed="rId2"/>
          <a:stretch/>
        </p:blipFill>
        <p:spPr>
          <a:xfrm>
            <a:off x="2438280" y="1500120"/>
            <a:ext cx="4648320" cy="398628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11" descr=""/>
          <p:cNvPicPr/>
          <p:nvPr/>
        </p:nvPicPr>
        <p:blipFill>
          <a:blip r:embed="rId2"/>
          <a:stretch/>
        </p:blipFill>
        <p:spPr>
          <a:xfrm>
            <a:off x="2982960" y="1765440"/>
            <a:ext cx="3178080" cy="332568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水晶体" descr=""/>
          <p:cNvPicPr/>
          <p:nvPr/>
        </p:nvPicPr>
        <p:blipFill>
          <a:blip r:embed="rId2"/>
          <a:stretch/>
        </p:blipFill>
        <p:spPr>
          <a:xfrm>
            <a:off x="2057400" y="762120"/>
            <a:ext cx="5135400" cy="543564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旅行箱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929040" cy="41911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办公笔筒" descr=""/>
          <p:cNvPicPr/>
          <p:nvPr/>
        </p:nvPicPr>
        <p:blipFill>
          <a:blip r:embed="rId2"/>
          <a:stretch/>
        </p:blipFill>
        <p:spPr>
          <a:xfrm>
            <a:off x="2362320" y="1143000"/>
            <a:ext cx="4376520" cy="46483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茶叶筒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2789280" cy="495288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14" descr=""/>
          <p:cNvPicPr/>
          <p:nvPr/>
        </p:nvPicPr>
        <p:blipFill>
          <a:blip r:embed="rId2"/>
          <a:stretch/>
        </p:blipFill>
        <p:spPr>
          <a:xfrm>
            <a:off x="3535200" y="914400"/>
            <a:ext cx="2103480" cy="533412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12" descr=""/>
          <p:cNvPicPr/>
          <p:nvPr/>
        </p:nvPicPr>
        <p:blipFill>
          <a:blip r:embed="rId2"/>
          <a:stretch/>
        </p:blipFill>
        <p:spPr>
          <a:xfrm>
            <a:off x="3386160" y="685800"/>
            <a:ext cx="2405160" cy="533412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易拉罐电话机" descr=""/>
          <p:cNvPicPr/>
          <p:nvPr/>
        </p:nvPicPr>
        <p:blipFill>
          <a:blip r:embed="rId2"/>
          <a:stretch/>
        </p:blipFill>
        <p:spPr>
          <a:xfrm>
            <a:off x="1828800" y="1523880"/>
            <a:ext cx="6019920" cy="441504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2:54:00Z</dcterms:created>
  <dc:creator>ww</dc:creator>
  <dc:description/>
  <dc:language>en-US</dc:language>
  <cp:lastModifiedBy>lhy</cp:lastModifiedBy>
  <dcterms:modified xsi:type="dcterms:W3CDTF">2004-01-30T07:24:49Z</dcterms:modified>
  <cp:revision>7</cp:revision>
  <dc:subject/>
  <dc:title>立体图形欣赏</dc:title>
</cp:coreProperties>
</file>