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107E-5391-4125-A3CE-837A0FAAE5D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直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口答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2C1-515D-4D1A-B52A-BCEA11BC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F69-A5E0-45C5-AB8B-FB37EBFD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FB6-D2FE-49F2-A99A-C087140F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09D-77BE-45B5-9B07-9D3C2722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72B-E9A3-4082-9CE0-BA2F8429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A4C-9486-4D78-AC89-A388CCFE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DEC-E424-413D-A487-645926B6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578-1308-42E4-A276-2EE43FBA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437-26B2-4228-93B7-8248E05D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D30-C58E-4F51-B7B8-A6860948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A45-1AEB-44D4-808F-7C455B3D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BD0-9327-4038-BCBF-8BF4C487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7D39-7DC5-49E7-85B8-A8B438B6BB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19520" y="2209680"/>
            <a:ext cx="3657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5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1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～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0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各数的认识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V="1" rot="600000">
            <a:off x="616680" y="1756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 rot="600000">
            <a:off x="73116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 rot="600000">
            <a:off x="85500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 rot="600000">
            <a:off x="531000" y="1689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 rot="600000">
            <a:off x="6645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 rot="600000">
            <a:off x="7977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 rot="600000">
            <a:off x="931320" y="1680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 rot="600000">
            <a:off x="60732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 rot="600000">
            <a:off x="731160" y="1594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 rot="600000">
            <a:off x="86436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680" y="21891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 rot="600000">
            <a:off x="1423440" y="17154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6640" y="375120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 rot="600000">
            <a:off x="2427840" y="1716840"/>
            <a:ext cx="14004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 rot="600000">
            <a:off x="2540880" y="1707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 rot="600000">
            <a:off x="2664720" y="1707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 rot="600000">
            <a:off x="2340720" y="1650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 rot="600000">
            <a:off x="2474280" y="1631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 rot="600000">
            <a:off x="2607480" y="1631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 rot="600000">
            <a:off x="2741040" y="16408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 rot="600000">
            <a:off x="2417040" y="1564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600000">
            <a:off x="2540880" y="1555920"/>
            <a:ext cx="139680" cy="159156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 rot="600000">
            <a:off x="2674080" y="1564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81400" y="21495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 rot="600000">
            <a:off x="3233160" y="1675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 rot="600000">
            <a:off x="3513960" y="1677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 rot="600000">
            <a:off x="3812400" y="1658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 rot="600000">
            <a:off x="4687200" y="1635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 rot="600000">
            <a:off x="4801320" y="1626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 rot="600000">
            <a:off x="4925160" y="1626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 rot="600000">
            <a:off x="4601520" y="1569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 rot="600000">
            <a:off x="4734720" y="1550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 rot="600000">
            <a:off x="4868280" y="1550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 rot="600000">
            <a:off x="5001480" y="15598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 rot="600000">
            <a:off x="4678920" y="1483560"/>
            <a:ext cx="14004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 rot="600000">
            <a:off x="4801320" y="14742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 rot="600000">
            <a:off x="4934880" y="1483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1840" y="20685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 rot="600000">
            <a:off x="5493600" y="15534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 rot="600000">
            <a:off x="5774760" y="1555920"/>
            <a:ext cx="139680" cy="159156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 rot="600000">
            <a:off x="6030360" y="15566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 rot="600000">
            <a:off x="6311520" y="1560240"/>
            <a:ext cx="13788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 rot="600000">
            <a:off x="6589080" y="1542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 rot="600000">
            <a:off x="7476480" y="1618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 rot="600000">
            <a:off x="7590600" y="1608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 rot="600000">
            <a:off x="7714440" y="1608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 rot="600000">
            <a:off x="7390800" y="15519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 rot="600000">
            <a:off x="7524000" y="15328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 rot="600000">
            <a:off x="7657560" y="15328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 rot="600000">
            <a:off x="7790760" y="1542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 rot="600000">
            <a:off x="7466760" y="14662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 rot="600000">
            <a:off x="7590600" y="1456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 rot="600000">
            <a:off x="7724160" y="14662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31120" y="2050920"/>
            <a:ext cx="520560" cy="22572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 rot="600000">
            <a:off x="8414640" y="16200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 rot="600000">
            <a:off x="8528760" y="16106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 rot="600000">
            <a:off x="8652600" y="16106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600000">
            <a:off x="8328960" y="15534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 rot="600000">
            <a:off x="8462160" y="153432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600000">
            <a:off x="8595720" y="153432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 rot="600000">
            <a:off x="8728920" y="15440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 rot="600000">
            <a:off x="8406360" y="1467720"/>
            <a:ext cx="14004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 rot="600000">
            <a:off x="8528760" y="1459080"/>
            <a:ext cx="139680" cy="159156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 rot="600000">
            <a:off x="8662320" y="146772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69280" y="205272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10000" y="3755880"/>
            <a:ext cx="111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07040" y="377676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86640" y="375444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86640" y="3759120"/>
            <a:ext cx="1089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直尺" descr=""/>
          <p:cNvPicPr/>
          <p:nvPr/>
        </p:nvPicPr>
        <p:blipFill>
          <a:blip r:embed="rId1"/>
          <a:stretch/>
        </p:blipFill>
        <p:spPr>
          <a:xfrm>
            <a:off x="0" y="1886040"/>
            <a:ext cx="9931320" cy="2000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42880" y="22669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61920" y="2257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80960" y="22766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90640" y="22766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28760" y="22766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29080" y="22766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38400" y="22766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86240" y="22766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5280" y="22766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10200" y="22766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57680" y="226548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48280" y="227664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86400" y="226692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96080" y="22766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05400" y="227664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15080" y="226692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24760" y="2266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34440" y="2266920"/>
            <a:ext cx="6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62840" y="2266920"/>
            <a:ext cx="6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226692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红色气球" descr=""/>
          <p:cNvPicPr/>
          <p:nvPr/>
        </p:nvPicPr>
        <p:blipFill>
          <a:blip r:embed="rId1"/>
          <a:stretch/>
        </p:blipFill>
        <p:spPr>
          <a:xfrm>
            <a:off x="657360" y="72720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04" name="红色气球" descr=""/>
          <p:cNvPicPr/>
          <p:nvPr/>
        </p:nvPicPr>
        <p:blipFill>
          <a:blip r:embed="rId2"/>
          <a:stretch/>
        </p:blipFill>
        <p:spPr>
          <a:xfrm>
            <a:off x="1552680" y="73188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05" name="红色气球" descr=""/>
          <p:cNvPicPr/>
          <p:nvPr/>
        </p:nvPicPr>
        <p:blipFill>
          <a:blip r:embed="rId3"/>
          <a:stretch/>
        </p:blipFill>
        <p:spPr>
          <a:xfrm>
            <a:off x="2451240" y="75096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06" name="红色气球" descr=""/>
          <p:cNvPicPr/>
          <p:nvPr/>
        </p:nvPicPr>
        <p:blipFill>
          <a:blip r:embed="rId4"/>
          <a:stretch/>
        </p:blipFill>
        <p:spPr>
          <a:xfrm>
            <a:off x="3367080" y="75564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07" name="红色气球" descr=""/>
          <p:cNvPicPr/>
          <p:nvPr/>
        </p:nvPicPr>
        <p:blipFill>
          <a:blip r:embed="rId5"/>
          <a:stretch/>
        </p:blipFill>
        <p:spPr>
          <a:xfrm>
            <a:off x="4245120" y="78408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08" name="红色气球" descr=""/>
          <p:cNvPicPr/>
          <p:nvPr/>
        </p:nvPicPr>
        <p:blipFill>
          <a:blip r:embed="rId6"/>
          <a:stretch/>
        </p:blipFill>
        <p:spPr>
          <a:xfrm>
            <a:off x="655560" y="229536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09" name="红色气球" descr=""/>
          <p:cNvPicPr/>
          <p:nvPr/>
        </p:nvPicPr>
        <p:blipFill>
          <a:blip r:embed="rId7"/>
          <a:stretch/>
        </p:blipFill>
        <p:spPr>
          <a:xfrm>
            <a:off x="1528920" y="232416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10" name="红色气球" descr=""/>
          <p:cNvPicPr/>
          <p:nvPr/>
        </p:nvPicPr>
        <p:blipFill>
          <a:blip r:embed="rId8"/>
          <a:stretch/>
        </p:blipFill>
        <p:spPr>
          <a:xfrm>
            <a:off x="2427120" y="2328840"/>
            <a:ext cx="895680" cy="1619280"/>
          </a:xfrm>
          <a:prstGeom prst="rect">
            <a:avLst/>
          </a:prstGeom>
          <a:ln w="0">
            <a:noFill/>
          </a:ln>
        </p:spPr>
      </p:pic>
      <p:pic>
        <p:nvPicPr>
          <p:cNvPr id="311" name="红色气球" descr=""/>
          <p:cNvPicPr/>
          <p:nvPr/>
        </p:nvPicPr>
        <p:blipFill>
          <a:blip r:embed="rId9"/>
          <a:stretch/>
        </p:blipFill>
        <p:spPr>
          <a:xfrm>
            <a:off x="3301920" y="233208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12" name="红色气球" descr=""/>
          <p:cNvPicPr/>
          <p:nvPr/>
        </p:nvPicPr>
        <p:blipFill>
          <a:blip r:embed="rId10"/>
          <a:stretch/>
        </p:blipFill>
        <p:spPr>
          <a:xfrm>
            <a:off x="4172040" y="2351160"/>
            <a:ext cx="895320" cy="16192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959120" y="4187880"/>
            <a:ext cx="195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个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红色气球" descr=""/>
          <p:cNvPicPr/>
          <p:nvPr/>
        </p:nvPicPr>
        <p:blipFill>
          <a:blip r:embed="rId1"/>
          <a:stretch/>
        </p:blipFill>
        <p:spPr>
          <a:xfrm>
            <a:off x="657360" y="72720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15" name="红色气球" descr=""/>
          <p:cNvPicPr/>
          <p:nvPr/>
        </p:nvPicPr>
        <p:blipFill>
          <a:blip r:embed="rId2"/>
          <a:stretch/>
        </p:blipFill>
        <p:spPr>
          <a:xfrm>
            <a:off x="1552680" y="73188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16" name="红色气球" descr=""/>
          <p:cNvPicPr/>
          <p:nvPr/>
        </p:nvPicPr>
        <p:blipFill>
          <a:blip r:embed="rId3"/>
          <a:stretch/>
        </p:blipFill>
        <p:spPr>
          <a:xfrm>
            <a:off x="2451240" y="75096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17" name="红色气球" descr=""/>
          <p:cNvPicPr/>
          <p:nvPr/>
        </p:nvPicPr>
        <p:blipFill>
          <a:blip r:embed="rId4"/>
          <a:stretch/>
        </p:blipFill>
        <p:spPr>
          <a:xfrm>
            <a:off x="3367080" y="75564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红色气球" descr=""/>
          <p:cNvPicPr/>
          <p:nvPr/>
        </p:nvPicPr>
        <p:blipFill>
          <a:blip r:embed="rId5"/>
          <a:stretch/>
        </p:blipFill>
        <p:spPr>
          <a:xfrm>
            <a:off x="4245120" y="78408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19" name="红色气球" descr=""/>
          <p:cNvPicPr/>
          <p:nvPr/>
        </p:nvPicPr>
        <p:blipFill>
          <a:blip r:embed="rId6"/>
          <a:stretch/>
        </p:blipFill>
        <p:spPr>
          <a:xfrm>
            <a:off x="655560" y="229536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20" name="红色气球" descr=""/>
          <p:cNvPicPr/>
          <p:nvPr/>
        </p:nvPicPr>
        <p:blipFill>
          <a:blip r:embed="rId7"/>
          <a:stretch/>
        </p:blipFill>
        <p:spPr>
          <a:xfrm>
            <a:off x="1528920" y="232416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21" name="红色气球" descr=""/>
          <p:cNvPicPr/>
          <p:nvPr/>
        </p:nvPicPr>
        <p:blipFill>
          <a:blip r:embed="rId8"/>
          <a:stretch/>
        </p:blipFill>
        <p:spPr>
          <a:xfrm>
            <a:off x="2427120" y="2328840"/>
            <a:ext cx="895680" cy="1619280"/>
          </a:xfrm>
          <a:prstGeom prst="rect">
            <a:avLst/>
          </a:prstGeom>
          <a:ln w="0">
            <a:noFill/>
          </a:ln>
        </p:spPr>
      </p:pic>
      <p:pic>
        <p:nvPicPr>
          <p:cNvPr id="322" name="红色气球" descr=""/>
          <p:cNvPicPr/>
          <p:nvPr/>
        </p:nvPicPr>
        <p:blipFill>
          <a:blip r:embed="rId9"/>
          <a:stretch/>
        </p:blipFill>
        <p:spPr>
          <a:xfrm>
            <a:off x="3301920" y="233208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23" name="红色气球" descr=""/>
          <p:cNvPicPr/>
          <p:nvPr/>
        </p:nvPicPr>
        <p:blipFill>
          <a:blip r:embed="rId10"/>
          <a:stretch/>
        </p:blipFill>
        <p:spPr>
          <a:xfrm>
            <a:off x="4172040" y="235116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24" name="蓝色气球" descr=""/>
          <p:cNvPicPr/>
          <p:nvPr/>
        </p:nvPicPr>
        <p:blipFill>
          <a:blip r:embed="rId11"/>
          <a:stretch/>
        </p:blipFill>
        <p:spPr>
          <a:xfrm>
            <a:off x="5916600" y="919080"/>
            <a:ext cx="735120" cy="1211400"/>
          </a:xfrm>
          <a:prstGeom prst="rect">
            <a:avLst/>
          </a:prstGeom>
          <a:ln w="0">
            <a:noFill/>
          </a:ln>
        </p:spPr>
      </p:pic>
      <p:pic>
        <p:nvPicPr>
          <p:cNvPr id="325" name="蓝色气球" descr=""/>
          <p:cNvPicPr/>
          <p:nvPr/>
        </p:nvPicPr>
        <p:blipFill>
          <a:blip r:embed="rId12"/>
          <a:stretch/>
        </p:blipFill>
        <p:spPr>
          <a:xfrm>
            <a:off x="6840360" y="942840"/>
            <a:ext cx="735120" cy="1211400"/>
          </a:xfrm>
          <a:prstGeom prst="rect">
            <a:avLst/>
          </a:prstGeom>
          <a:ln w="0">
            <a:noFill/>
          </a:ln>
        </p:spPr>
      </p:pic>
      <p:pic>
        <p:nvPicPr>
          <p:cNvPr id="326" name="蓝色气球" descr=""/>
          <p:cNvPicPr/>
          <p:nvPr/>
        </p:nvPicPr>
        <p:blipFill>
          <a:blip r:embed="rId13"/>
          <a:stretch/>
        </p:blipFill>
        <p:spPr>
          <a:xfrm>
            <a:off x="7761240" y="954000"/>
            <a:ext cx="735120" cy="1211400"/>
          </a:xfrm>
          <a:prstGeom prst="rect">
            <a:avLst/>
          </a:prstGeom>
          <a:ln w="0">
            <a:noFill/>
          </a:ln>
        </p:spPr>
      </p:pic>
      <p:pic>
        <p:nvPicPr>
          <p:cNvPr id="327" name="蓝色气球" descr=""/>
          <p:cNvPicPr/>
          <p:nvPr/>
        </p:nvPicPr>
        <p:blipFill>
          <a:blip r:embed="rId14"/>
          <a:stretch/>
        </p:blipFill>
        <p:spPr>
          <a:xfrm>
            <a:off x="5927760" y="2478240"/>
            <a:ext cx="735120" cy="1211040"/>
          </a:xfrm>
          <a:prstGeom prst="rect">
            <a:avLst/>
          </a:prstGeom>
          <a:ln w="0">
            <a:noFill/>
          </a:ln>
        </p:spPr>
      </p:pic>
      <p:pic>
        <p:nvPicPr>
          <p:cNvPr id="328" name="蓝色气球" descr=""/>
          <p:cNvPicPr/>
          <p:nvPr/>
        </p:nvPicPr>
        <p:blipFill>
          <a:blip r:embed="rId15"/>
          <a:stretch/>
        </p:blipFill>
        <p:spPr>
          <a:xfrm>
            <a:off x="6845400" y="2462040"/>
            <a:ext cx="734760" cy="1211400"/>
          </a:xfrm>
          <a:prstGeom prst="rect">
            <a:avLst/>
          </a:prstGeom>
          <a:ln w="0">
            <a:noFill/>
          </a:ln>
        </p:spPr>
      </p:pic>
      <p:pic>
        <p:nvPicPr>
          <p:cNvPr id="329" name="蓝色气球" descr=""/>
          <p:cNvPicPr/>
          <p:nvPr/>
        </p:nvPicPr>
        <p:blipFill>
          <a:blip r:embed="rId16"/>
          <a:stretch/>
        </p:blipFill>
        <p:spPr>
          <a:xfrm>
            <a:off x="7742160" y="2463840"/>
            <a:ext cx="735120" cy="12114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959120" y="4187880"/>
            <a:ext cx="195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个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5440" y="4168800"/>
            <a:ext cx="19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个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4326480" y="1775520"/>
            <a:ext cx="493920" cy="7251480"/>
          </a:xfrm>
          <a:custGeom>
            <a:avLst/>
            <a:gdLst>
              <a:gd name="textAreaLeft" fmla="*/ 315720 w 493920"/>
              <a:gd name="textAreaRight" fmla="*/ 494280 w 493920"/>
              <a:gd name="textAreaTop" fmla="*/ 189000 h 7251480"/>
              <a:gd name="textAreaBottom" fmla="*/ 7062480 h 725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16320" y="5721480"/>
            <a:ext cx="272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</a:t>
            </a: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？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67360" y="5778360"/>
            <a:ext cx="1082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GGP93" descr=""/>
          <p:cNvPicPr/>
          <p:nvPr/>
        </p:nvPicPr>
        <p:blipFill>
          <a:blip r:embed="rId1"/>
          <a:stretch/>
        </p:blipFill>
        <p:spPr>
          <a:xfrm>
            <a:off x="514440" y="121608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36" name="GGP93" descr=""/>
          <p:cNvPicPr/>
          <p:nvPr/>
        </p:nvPicPr>
        <p:blipFill>
          <a:blip r:embed="rId2"/>
          <a:stretch/>
        </p:blipFill>
        <p:spPr>
          <a:xfrm>
            <a:off x="1187280" y="120024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37" name="GGP93" descr=""/>
          <p:cNvPicPr/>
          <p:nvPr/>
        </p:nvPicPr>
        <p:blipFill>
          <a:blip r:embed="rId3"/>
          <a:stretch/>
        </p:blipFill>
        <p:spPr>
          <a:xfrm>
            <a:off x="1878120" y="1203480"/>
            <a:ext cx="715680" cy="744480"/>
          </a:xfrm>
          <a:prstGeom prst="rect">
            <a:avLst/>
          </a:prstGeom>
          <a:ln w="0">
            <a:noFill/>
          </a:ln>
        </p:spPr>
      </p:pic>
      <p:pic>
        <p:nvPicPr>
          <p:cNvPr id="338" name="GGP93" descr=""/>
          <p:cNvPicPr/>
          <p:nvPr/>
        </p:nvPicPr>
        <p:blipFill>
          <a:blip r:embed="rId4"/>
          <a:stretch/>
        </p:blipFill>
        <p:spPr>
          <a:xfrm>
            <a:off x="2573280" y="1206360"/>
            <a:ext cx="716040" cy="744840"/>
          </a:xfrm>
          <a:prstGeom prst="rect">
            <a:avLst/>
          </a:prstGeom>
          <a:ln w="0">
            <a:noFill/>
          </a:ln>
        </p:spPr>
      </p:pic>
      <p:pic>
        <p:nvPicPr>
          <p:cNvPr id="339" name="GGP93" descr=""/>
          <p:cNvPicPr/>
          <p:nvPr/>
        </p:nvPicPr>
        <p:blipFill>
          <a:blip r:embed="rId5"/>
          <a:stretch/>
        </p:blipFill>
        <p:spPr>
          <a:xfrm>
            <a:off x="3263760" y="120816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40" name="GGP93" descr=""/>
          <p:cNvPicPr/>
          <p:nvPr/>
        </p:nvPicPr>
        <p:blipFill>
          <a:blip r:embed="rId6"/>
          <a:stretch/>
        </p:blipFill>
        <p:spPr>
          <a:xfrm>
            <a:off x="3267000" y="221472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41" name="GGP93" descr=""/>
          <p:cNvPicPr/>
          <p:nvPr/>
        </p:nvPicPr>
        <p:blipFill>
          <a:blip r:embed="rId7"/>
          <a:stretch/>
        </p:blipFill>
        <p:spPr>
          <a:xfrm>
            <a:off x="534960" y="225576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42" name="GGP93" descr=""/>
          <p:cNvPicPr/>
          <p:nvPr/>
        </p:nvPicPr>
        <p:blipFill>
          <a:blip r:embed="rId8"/>
          <a:stretch/>
        </p:blipFill>
        <p:spPr>
          <a:xfrm>
            <a:off x="1206360" y="224316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43" name="GGP93" descr=""/>
          <p:cNvPicPr/>
          <p:nvPr/>
        </p:nvPicPr>
        <p:blipFill>
          <a:blip r:embed="rId9"/>
          <a:stretch/>
        </p:blipFill>
        <p:spPr>
          <a:xfrm>
            <a:off x="1919160" y="2225520"/>
            <a:ext cx="716040" cy="744840"/>
          </a:xfrm>
          <a:prstGeom prst="rect">
            <a:avLst/>
          </a:prstGeom>
          <a:ln w="0">
            <a:noFill/>
          </a:ln>
        </p:spPr>
      </p:pic>
      <p:pic>
        <p:nvPicPr>
          <p:cNvPr id="344" name="GGP93" descr=""/>
          <p:cNvPicPr/>
          <p:nvPr/>
        </p:nvPicPr>
        <p:blipFill>
          <a:blip r:embed="rId10"/>
          <a:stretch/>
        </p:blipFill>
        <p:spPr>
          <a:xfrm>
            <a:off x="2590920" y="2208240"/>
            <a:ext cx="715680" cy="7444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621240" y="3254400"/>
            <a:ext cx="210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个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4244040" y="978120"/>
            <a:ext cx="493560" cy="7251840"/>
          </a:xfrm>
          <a:custGeom>
            <a:avLst/>
            <a:gdLst>
              <a:gd name="textAreaLeft" fmla="*/ 315360 w 493560"/>
              <a:gd name="textAreaRight" fmla="*/ 493920 w 493560"/>
              <a:gd name="textAreaTop" fmla="*/ 189000 h 7251840"/>
              <a:gd name="textAreaBottom" fmla="*/ 7062840 h 725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GGP93" descr=""/>
          <p:cNvPicPr/>
          <p:nvPr/>
        </p:nvPicPr>
        <p:blipFill>
          <a:blip r:embed="rId11"/>
          <a:stretch/>
        </p:blipFill>
        <p:spPr>
          <a:xfrm>
            <a:off x="4915080" y="1241280"/>
            <a:ext cx="715680" cy="744840"/>
          </a:xfrm>
          <a:prstGeom prst="rect">
            <a:avLst/>
          </a:prstGeom>
          <a:ln w="0">
            <a:noFill/>
          </a:ln>
        </p:spPr>
      </p:pic>
      <p:pic>
        <p:nvPicPr>
          <p:cNvPr id="348" name="GGP93" descr=""/>
          <p:cNvPicPr/>
          <p:nvPr/>
        </p:nvPicPr>
        <p:blipFill>
          <a:blip r:embed="rId12"/>
          <a:stretch/>
        </p:blipFill>
        <p:spPr>
          <a:xfrm>
            <a:off x="5587920" y="122544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49" name="GGP93" descr=""/>
          <p:cNvPicPr/>
          <p:nvPr/>
        </p:nvPicPr>
        <p:blipFill>
          <a:blip r:embed="rId13"/>
          <a:stretch/>
        </p:blipFill>
        <p:spPr>
          <a:xfrm>
            <a:off x="6278400" y="122868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50" name="GGP93" descr=""/>
          <p:cNvPicPr/>
          <p:nvPr/>
        </p:nvPicPr>
        <p:blipFill>
          <a:blip r:embed="rId14"/>
          <a:stretch/>
        </p:blipFill>
        <p:spPr>
          <a:xfrm>
            <a:off x="6973920" y="123192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51" name="GGP93" descr=""/>
          <p:cNvPicPr/>
          <p:nvPr/>
        </p:nvPicPr>
        <p:blipFill>
          <a:blip r:embed="rId15"/>
          <a:stretch/>
        </p:blipFill>
        <p:spPr>
          <a:xfrm>
            <a:off x="7664400" y="1233360"/>
            <a:ext cx="716040" cy="744840"/>
          </a:xfrm>
          <a:prstGeom prst="rect">
            <a:avLst/>
          </a:prstGeom>
          <a:ln w="0">
            <a:noFill/>
          </a:ln>
        </p:spPr>
      </p:pic>
      <p:pic>
        <p:nvPicPr>
          <p:cNvPr id="352" name="GGP93" descr=""/>
          <p:cNvPicPr/>
          <p:nvPr/>
        </p:nvPicPr>
        <p:blipFill>
          <a:blip r:embed="rId16"/>
          <a:stretch/>
        </p:blipFill>
        <p:spPr>
          <a:xfrm>
            <a:off x="7667640" y="223992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53" name="GGP93" descr=""/>
          <p:cNvPicPr/>
          <p:nvPr/>
        </p:nvPicPr>
        <p:blipFill>
          <a:blip r:embed="rId17"/>
          <a:stretch/>
        </p:blipFill>
        <p:spPr>
          <a:xfrm>
            <a:off x="4935600" y="228132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54" name="GGP93" descr=""/>
          <p:cNvPicPr/>
          <p:nvPr/>
        </p:nvPicPr>
        <p:blipFill>
          <a:blip r:embed="rId18"/>
          <a:stretch/>
        </p:blipFill>
        <p:spPr>
          <a:xfrm>
            <a:off x="5607000" y="2268360"/>
            <a:ext cx="716040" cy="744840"/>
          </a:xfrm>
          <a:prstGeom prst="rect">
            <a:avLst/>
          </a:prstGeom>
          <a:ln w="0">
            <a:noFill/>
          </a:ln>
        </p:spPr>
      </p:pic>
      <p:pic>
        <p:nvPicPr>
          <p:cNvPr id="355" name="GGP93" descr=""/>
          <p:cNvPicPr/>
          <p:nvPr/>
        </p:nvPicPr>
        <p:blipFill>
          <a:blip r:embed="rId19"/>
          <a:stretch/>
        </p:blipFill>
        <p:spPr>
          <a:xfrm>
            <a:off x="6319800" y="225108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56" name="GGP93" descr=""/>
          <p:cNvPicPr/>
          <p:nvPr/>
        </p:nvPicPr>
        <p:blipFill>
          <a:blip r:embed="rId20"/>
          <a:stretch/>
        </p:blipFill>
        <p:spPr>
          <a:xfrm>
            <a:off x="6991200" y="2233440"/>
            <a:ext cx="716040" cy="7448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230640" y="4913280"/>
            <a:ext cx="27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</a:t>
            </a: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？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81320" y="4970520"/>
            <a:ext cx="1082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57200" y="3049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抢答题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2193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1)15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是由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个十和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个一组成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23623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2)(    )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个十和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个一组成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5053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3)16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前面一个数是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   ),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后面一个数是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472428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相邻的两个数是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38280" y="11430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        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43000" y="22860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        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34290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5            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4648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8    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桔红铅笔" descr=""/>
          <p:cNvPicPr/>
          <p:nvPr/>
        </p:nvPicPr>
        <p:blipFill>
          <a:blip r:embed="rId1"/>
          <a:stretch/>
        </p:blipFill>
        <p:spPr>
          <a:xfrm flipH="1">
            <a:off x="68580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50" name="桔红铅笔" descr=""/>
          <p:cNvPicPr/>
          <p:nvPr/>
        </p:nvPicPr>
        <p:blipFill>
          <a:blip r:embed="rId2"/>
          <a:stretch/>
        </p:blipFill>
        <p:spPr>
          <a:xfrm flipH="1">
            <a:off x="9903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51" name="桔红铅笔" descr=""/>
          <p:cNvPicPr/>
          <p:nvPr/>
        </p:nvPicPr>
        <p:blipFill>
          <a:blip r:embed="rId3"/>
          <a:stretch/>
        </p:blipFill>
        <p:spPr>
          <a:xfrm flipH="1">
            <a:off x="129528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52" name="桔红铅笔" descr=""/>
          <p:cNvPicPr/>
          <p:nvPr/>
        </p:nvPicPr>
        <p:blipFill>
          <a:blip r:embed="rId4"/>
          <a:stretch/>
        </p:blipFill>
        <p:spPr>
          <a:xfrm flipH="1">
            <a:off x="160020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53" name="桔红铅笔" descr=""/>
          <p:cNvPicPr/>
          <p:nvPr/>
        </p:nvPicPr>
        <p:blipFill>
          <a:blip r:embed="rId5"/>
          <a:stretch/>
        </p:blipFill>
        <p:spPr>
          <a:xfrm flipH="1">
            <a:off x="19047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54" name="桔红铅笔" descr=""/>
          <p:cNvPicPr/>
          <p:nvPr/>
        </p:nvPicPr>
        <p:blipFill>
          <a:blip r:embed="rId6"/>
          <a:stretch/>
        </p:blipFill>
        <p:spPr>
          <a:xfrm flipH="1">
            <a:off x="220968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55" name="桔红铅笔" descr=""/>
          <p:cNvPicPr/>
          <p:nvPr/>
        </p:nvPicPr>
        <p:blipFill>
          <a:blip r:embed="rId7"/>
          <a:stretch/>
        </p:blipFill>
        <p:spPr>
          <a:xfrm flipH="1">
            <a:off x="251460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56" name="桔红铅笔" descr=""/>
          <p:cNvPicPr/>
          <p:nvPr/>
        </p:nvPicPr>
        <p:blipFill>
          <a:blip r:embed="rId8"/>
          <a:stretch/>
        </p:blipFill>
        <p:spPr>
          <a:xfrm flipH="1">
            <a:off x="28191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57" name="桔红铅笔" descr=""/>
          <p:cNvPicPr/>
          <p:nvPr/>
        </p:nvPicPr>
        <p:blipFill>
          <a:blip r:embed="rId9"/>
          <a:stretch/>
        </p:blipFill>
        <p:spPr>
          <a:xfrm flipH="1">
            <a:off x="312408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桔红铅笔" descr=""/>
          <p:cNvPicPr/>
          <p:nvPr/>
        </p:nvPicPr>
        <p:blipFill>
          <a:blip r:embed="rId10"/>
          <a:stretch/>
        </p:blipFill>
        <p:spPr>
          <a:xfrm flipH="1">
            <a:off x="3429000" y="1219320"/>
            <a:ext cx="254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桔红铅笔" descr=""/>
          <p:cNvPicPr/>
          <p:nvPr/>
        </p:nvPicPr>
        <p:blipFill>
          <a:blip r:embed="rId1"/>
          <a:stretch/>
        </p:blipFill>
        <p:spPr>
          <a:xfrm flipH="1">
            <a:off x="68580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60" name="桔红铅笔" descr=""/>
          <p:cNvPicPr/>
          <p:nvPr/>
        </p:nvPicPr>
        <p:blipFill>
          <a:blip r:embed="rId2"/>
          <a:stretch/>
        </p:blipFill>
        <p:spPr>
          <a:xfrm flipH="1">
            <a:off x="87624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61" name="桔红铅笔" descr=""/>
          <p:cNvPicPr/>
          <p:nvPr/>
        </p:nvPicPr>
        <p:blipFill>
          <a:blip r:embed="rId3"/>
          <a:stretch/>
        </p:blipFill>
        <p:spPr>
          <a:xfrm flipH="1">
            <a:off x="108576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62" name="桔红铅笔" descr=""/>
          <p:cNvPicPr/>
          <p:nvPr/>
        </p:nvPicPr>
        <p:blipFill>
          <a:blip r:embed="rId4"/>
          <a:stretch/>
        </p:blipFill>
        <p:spPr>
          <a:xfrm flipH="1">
            <a:off x="12855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63" name="桔红铅笔" descr=""/>
          <p:cNvPicPr/>
          <p:nvPr/>
        </p:nvPicPr>
        <p:blipFill>
          <a:blip r:embed="rId5"/>
          <a:stretch/>
        </p:blipFill>
        <p:spPr>
          <a:xfrm flipH="1">
            <a:off x="149544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64" name="桔红铅笔" descr=""/>
          <p:cNvPicPr/>
          <p:nvPr/>
        </p:nvPicPr>
        <p:blipFill>
          <a:blip r:embed="rId6"/>
          <a:stretch/>
        </p:blipFill>
        <p:spPr>
          <a:xfrm flipH="1">
            <a:off x="171432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65" name="桔红铅笔" descr=""/>
          <p:cNvPicPr/>
          <p:nvPr/>
        </p:nvPicPr>
        <p:blipFill>
          <a:blip r:embed="rId7"/>
          <a:stretch/>
        </p:blipFill>
        <p:spPr>
          <a:xfrm flipH="1">
            <a:off x="192384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66" name="桔红铅笔" descr=""/>
          <p:cNvPicPr/>
          <p:nvPr/>
        </p:nvPicPr>
        <p:blipFill>
          <a:blip r:embed="rId8"/>
          <a:stretch/>
        </p:blipFill>
        <p:spPr>
          <a:xfrm flipH="1">
            <a:off x="215244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67" name="桔红铅笔" descr=""/>
          <p:cNvPicPr/>
          <p:nvPr/>
        </p:nvPicPr>
        <p:blipFill>
          <a:blip r:embed="rId9"/>
          <a:stretch/>
        </p:blipFill>
        <p:spPr>
          <a:xfrm flipH="1">
            <a:off x="23619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68" name="桔红铅笔" descr=""/>
          <p:cNvPicPr/>
          <p:nvPr/>
        </p:nvPicPr>
        <p:blipFill>
          <a:blip r:embed="rId10"/>
          <a:stretch/>
        </p:blipFill>
        <p:spPr>
          <a:xfrm flipH="1">
            <a:off x="2562120" y="1219320"/>
            <a:ext cx="254160" cy="297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04880" y="2514600"/>
            <a:ext cx="2085840" cy="7621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桔红铅笔" descr=""/>
          <p:cNvPicPr/>
          <p:nvPr/>
        </p:nvPicPr>
        <p:blipFill>
          <a:blip r:embed="rId12"/>
          <a:stretch/>
        </p:blipFill>
        <p:spPr>
          <a:xfrm flipH="1">
            <a:off x="457200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71" name="桔红铅笔" descr=""/>
          <p:cNvPicPr/>
          <p:nvPr/>
        </p:nvPicPr>
        <p:blipFill>
          <a:blip r:embed="rId13"/>
          <a:stretch/>
        </p:blipFill>
        <p:spPr>
          <a:xfrm flipH="1">
            <a:off x="48765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72" name="桔红铅笔" descr=""/>
          <p:cNvPicPr/>
          <p:nvPr/>
        </p:nvPicPr>
        <p:blipFill>
          <a:blip r:embed="rId14"/>
          <a:stretch/>
        </p:blipFill>
        <p:spPr>
          <a:xfrm flipH="1">
            <a:off x="518148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73" name="桔红铅笔" descr=""/>
          <p:cNvPicPr/>
          <p:nvPr/>
        </p:nvPicPr>
        <p:blipFill>
          <a:blip r:embed="rId15"/>
          <a:stretch/>
        </p:blipFill>
        <p:spPr>
          <a:xfrm flipH="1">
            <a:off x="548640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74" name="桔红铅笔" descr=""/>
          <p:cNvPicPr/>
          <p:nvPr/>
        </p:nvPicPr>
        <p:blipFill>
          <a:blip r:embed="rId16"/>
          <a:stretch/>
        </p:blipFill>
        <p:spPr>
          <a:xfrm flipH="1">
            <a:off x="57909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75" name="桔红铅笔" descr=""/>
          <p:cNvPicPr/>
          <p:nvPr/>
        </p:nvPicPr>
        <p:blipFill>
          <a:blip r:embed="rId17"/>
          <a:stretch/>
        </p:blipFill>
        <p:spPr>
          <a:xfrm flipH="1">
            <a:off x="609588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76" name="桔红铅笔" descr=""/>
          <p:cNvPicPr/>
          <p:nvPr/>
        </p:nvPicPr>
        <p:blipFill>
          <a:blip r:embed="rId18"/>
          <a:stretch/>
        </p:blipFill>
        <p:spPr>
          <a:xfrm flipH="1">
            <a:off x="640080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77" name="桔红铅笔" descr=""/>
          <p:cNvPicPr/>
          <p:nvPr/>
        </p:nvPicPr>
        <p:blipFill>
          <a:blip r:embed="rId19"/>
          <a:stretch/>
        </p:blipFill>
        <p:spPr>
          <a:xfrm flipH="1">
            <a:off x="67053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78" name="桔红铅笔" descr=""/>
          <p:cNvPicPr/>
          <p:nvPr/>
        </p:nvPicPr>
        <p:blipFill>
          <a:blip r:embed="rId20"/>
          <a:stretch/>
        </p:blipFill>
        <p:spPr>
          <a:xfrm flipH="1">
            <a:off x="701028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79" name="桔红铅笔" descr=""/>
          <p:cNvPicPr/>
          <p:nvPr/>
        </p:nvPicPr>
        <p:blipFill>
          <a:blip r:embed="rId21"/>
          <a:stretch/>
        </p:blipFill>
        <p:spPr>
          <a:xfrm flipH="1">
            <a:off x="7315200" y="1219320"/>
            <a:ext cx="254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桔红铅笔" descr=""/>
          <p:cNvPicPr/>
          <p:nvPr/>
        </p:nvPicPr>
        <p:blipFill>
          <a:blip r:embed="rId1"/>
          <a:stretch/>
        </p:blipFill>
        <p:spPr>
          <a:xfrm flipH="1">
            <a:off x="68580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81" name="桔红铅笔" descr=""/>
          <p:cNvPicPr/>
          <p:nvPr/>
        </p:nvPicPr>
        <p:blipFill>
          <a:blip r:embed="rId2"/>
          <a:stretch/>
        </p:blipFill>
        <p:spPr>
          <a:xfrm flipH="1">
            <a:off x="87624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82" name="桔红铅笔" descr=""/>
          <p:cNvPicPr/>
          <p:nvPr/>
        </p:nvPicPr>
        <p:blipFill>
          <a:blip r:embed="rId3"/>
          <a:stretch/>
        </p:blipFill>
        <p:spPr>
          <a:xfrm flipH="1">
            <a:off x="108576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83" name="桔红铅笔" descr=""/>
          <p:cNvPicPr/>
          <p:nvPr/>
        </p:nvPicPr>
        <p:blipFill>
          <a:blip r:embed="rId4"/>
          <a:stretch/>
        </p:blipFill>
        <p:spPr>
          <a:xfrm flipH="1">
            <a:off x="12855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84" name="桔红铅笔" descr=""/>
          <p:cNvPicPr/>
          <p:nvPr/>
        </p:nvPicPr>
        <p:blipFill>
          <a:blip r:embed="rId5"/>
          <a:stretch/>
        </p:blipFill>
        <p:spPr>
          <a:xfrm flipH="1">
            <a:off x="149544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85" name="桔红铅笔" descr=""/>
          <p:cNvPicPr/>
          <p:nvPr/>
        </p:nvPicPr>
        <p:blipFill>
          <a:blip r:embed="rId6"/>
          <a:stretch/>
        </p:blipFill>
        <p:spPr>
          <a:xfrm flipH="1">
            <a:off x="171432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86" name="桔红铅笔" descr=""/>
          <p:cNvPicPr/>
          <p:nvPr/>
        </p:nvPicPr>
        <p:blipFill>
          <a:blip r:embed="rId7"/>
          <a:stretch/>
        </p:blipFill>
        <p:spPr>
          <a:xfrm flipH="1">
            <a:off x="192384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87" name="桔红铅笔" descr=""/>
          <p:cNvPicPr/>
          <p:nvPr/>
        </p:nvPicPr>
        <p:blipFill>
          <a:blip r:embed="rId8"/>
          <a:stretch/>
        </p:blipFill>
        <p:spPr>
          <a:xfrm flipH="1">
            <a:off x="215244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88" name="桔红铅笔" descr=""/>
          <p:cNvPicPr/>
          <p:nvPr/>
        </p:nvPicPr>
        <p:blipFill>
          <a:blip r:embed="rId9"/>
          <a:stretch/>
        </p:blipFill>
        <p:spPr>
          <a:xfrm flipH="1">
            <a:off x="23619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89" name="桔红铅笔" descr=""/>
          <p:cNvPicPr/>
          <p:nvPr/>
        </p:nvPicPr>
        <p:blipFill>
          <a:blip r:embed="rId10"/>
          <a:stretch/>
        </p:blipFill>
        <p:spPr>
          <a:xfrm flipH="1">
            <a:off x="2562120" y="1219320"/>
            <a:ext cx="25416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4880" y="2514600"/>
            <a:ext cx="2085840" cy="7621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桔红铅笔" descr=""/>
          <p:cNvPicPr/>
          <p:nvPr/>
        </p:nvPicPr>
        <p:blipFill>
          <a:blip r:embed="rId12"/>
          <a:stretch/>
        </p:blipFill>
        <p:spPr>
          <a:xfrm flipH="1">
            <a:off x="4890960" y="1252440"/>
            <a:ext cx="254160" cy="2981520"/>
          </a:xfrm>
          <a:prstGeom prst="rect">
            <a:avLst/>
          </a:prstGeom>
          <a:ln w="0">
            <a:noFill/>
          </a:ln>
        </p:spPr>
      </p:pic>
      <p:pic>
        <p:nvPicPr>
          <p:cNvPr id="92" name="桔红铅笔" descr=""/>
          <p:cNvPicPr/>
          <p:nvPr/>
        </p:nvPicPr>
        <p:blipFill>
          <a:blip r:embed="rId13"/>
          <a:stretch/>
        </p:blipFill>
        <p:spPr>
          <a:xfrm flipH="1">
            <a:off x="5081400" y="1252440"/>
            <a:ext cx="253800" cy="2981520"/>
          </a:xfrm>
          <a:prstGeom prst="rect">
            <a:avLst/>
          </a:prstGeom>
          <a:ln w="0">
            <a:noFill/>
          </a:ln>
        </p:spPr>
      </p:pic>
      <p:pic>
        <p:nvPicPr>
          <p:cNvPr id="93" name="桔红铅笔" descr=""/>
          <p:cNvPicPr/>
          <p:nvPr/>
        </p:nvPicPr>
        <p:blipFill>
          <a:blip r:embed="rId14"/>
          <a:stretch/>
        </p:blipFill>
        <p:spPr>
          <a:xfrm flipH="1">
            <a:off x="5290920" y="1252440"/>
            <a:ext cx="253800" cy="2981520"/>
          </a:xfrm>
          <a:prstGeom prst="rect">
            <a:avLst/>
          </a:prstGeom>
          <a:ln w="0">
            <a:noFill/>
          </a:ln>
        </p:spPr>
      </p:pic>
      <p:pic>
        <p:nvPicPr>
          <p:cNvPr id="94" name="桔红铅笔" descr=""/>
          <p:cNvPicPr/>
          <p:nvPr/>
        </p:nvPicPr>
        <p:blipFill>
          <a:blip r:embed="rId15"/>
          <a:stretch/>
        </p:blipFill>
        <p:spPr>
          <a:xfrm flipH="1">
            <a:off x="5491080" y="1252440"/>
            <a:ext cx="254160" cy="2981520"/>
          </a:xfrm>
          <a:prstGeom prst="rect">
            <a:avLst/>
          </a:prstGeom>
          <a:ln w="0">
            <a:noFill/>
          </a:ln>
        </p:spPr>
      </p:pic>
      <p:pic>
        <p:nvPicPr>
          <p:cNvPr id="95" name="桔红铅笔" descr=""/>
          <p:cNvPicPr/>
          <p:nvPr/>
        </p:nvPicPr>
        <p:blipFill>
          <a:blip r:embed="rId16"/>
          <a:stretch/>
        </p:blipFill>
        <p:spPr>
          <a:xfrm flipH="1">
            <a:off x="5700600" y="1252440"/>
            <a:ext cx="254160" cy="2981520"/>
          </a:xfrm>
          <a:prstGeom prst="rect">
            <a:avLst/>
          </a:prstGeom>
          <a:ln w="0">
            <a:noFill/>
          </a:ln>
        </p:spPr>
      </p:pic>
      <p:pic>
        <p:nvPicPr>
          <p:cNvPr id="96" name="桔红铅笔" descr=""/>
          <p:cNvPicPr/>
          <p:nvPr/>
        </p:nvPicPr>
        <p:blipFill>
          <a:blip r:embed="rId17"/>
          <a:stretch/>
        </p:blipFill>
        <p:spPr>
          <a:xfrm flipH="1">
            <a:off x="5919480" y="1252440"/>
            <a:ext cx="253800" cy="2981520"/>
          </a:xfrm>
          <a:prstGeom prst="rect">
            <a:avLst/>
          </a:prstGeom>
          <a:ln w="0">
            <a:noFill/>
          </a:ln>
        </p:spPr>
      </p:pic>
      <p:pic>
        <p:nvPicPr>
          <p:cNvPr id="97" name="桔红铅笔" descr=""/>
          <p:cNvPicPr/>
          <p:nvPr/>
        </p:nvPicPr>
        <p:blipFill>
          <a:blip r:embed="rId18"/>
          <a:stretch/>
        </p:blipFill>
        <p:spPr>
          <a:xfrm flipH="1">
            <a:off x="6129000" y="1252440"/>
            <a:ext cx="253800" cy="2981520"/>
          </a:xfrm>
          <a:prstGeom prst="rect">
            <a:avLst/>
          </a:prstGeom>
          <a:ln w="0">
            <a:noFill/>
          </a:ln>
        </p:spPr>
      </p:pic>
      <p:pic>
        <p:nvPicPr>
          <p:cNvPr id="98" name="桔红铅笔" descr=""/>
          <p:cNvPicPr/>
          <p:nvPr/>
        </p:nvPicPr>
        <p:blipFill>
          <a:blip r:embed="rId19"/>
          <a:stretch/>
        </p:blipFill>
        <p:spPr>
          <a:xfrm flipH="1">
            <a:off x="6357600" y="1252440"/>
            <a:ext cx="253800" cy="2981520"/>
          </a:xfrm>
          <a:prstGeom prst="rect">
            <a:avLst/>
          </a:prstGeom>
          <a:ln w="0">
            <a:noFill/>
          </a:ln>
        </p:spPr>
      </p:pic>
      <p:pic>
        <p:nvPicPr>
          <p:cNvPr id="99" name="桔红铅笔" descr=""/>
          <p:cNvPicPr/>
          <p:nvPr/>
        </p:nvPicPr>
        <p:blipFill>
          <a:blip r:embed="rId20"/>
          <a:stretch/>
        </p:blipFill>
        <p:spPr>
          <a:xfrm flipH="1">
            <a:off x="6567480" y="1252440"/>
            <a:ext cx="254160" cy="2981520"/>
          </a:xfrm>
          <a:prstGeom prst="rect">
            <a:avLst/>
          </a:prstGeom>
          <a:ln w="0">
            <a:noFill/>
          </a:ln>
        </p:spPr>
      </p:pic>
      <p:pic>
        <p:nvPicPr>
          <p:cNvPr id="100" name="桔红铅笔" descr=""/>
          <p:cNvPicPr/>
          <p:nvPr/>
        </p:nvPicPr>
        <p:blipFill>
          <a:blip r:embed="rId21"/>
          <a:stretch/>
        </p:blipFill>
        <p:spPr>
          <a:xfrm flipH="1">
            <a:off x="6767280" y="1252440"/>
            <a:ext cx="25380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910040" y="2548080"/>
            <a:ext cx="2086200" cy="7617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66640" y="375120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flipV="1" rot="600000">
            <a:off x="616680" y="1756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 rot="600000">
            <a:off x="73116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 rot="600000">
            <a:off x="85500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 rot="600000">
            <a:off x="531000" y="1689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 rot="600000">
            <a:off x="6645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 rot="600000">
            <a:off x="7977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 rot="600000">
            <a:off x="931320" y="1680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 rot="600000">
            <a:off x="60732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 rot="600000">
            <a:off x="731160" y="1594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 rot="600000">
            <a:off x="86436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680" y="21891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 rot="600000">
            <a:off x="1423440" y="17154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6640" y="375120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flipV="1" rot="600000">
            <a:off x="616680" y="1756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600000">
            <a:off x="73116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 rot="600000">
            <a:off x="85500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600000">
            <a:off x="531000" y="1689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 rot="600000">
            <a:off x="6645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 rot="600000">
            <a:off x="7977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 rot="600000">
            <a:off x="931320" y="1680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 rot="600000">
            <a:off x="60732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 rot="600000">
            <a:off x="731160" y="1594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 rot="600000">
            <a:off x="86436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680" y="21891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600000">
            <a:off x="1423440" y="17154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6640" y="375120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 rot="600000">
            <a:off x="2427840" y="1716840"/>
            <a:ext cx="14004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 rot="600000">
            <a:off x="2540880" y="1707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 rot="600000">
            <a:off x="2664720" y="1707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 rot="600000">
            <a:off x="2340720" y="1650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 rot="600000">
            <a:off x="2474280" y="1631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600000">
            <a:off x="2607480" y="1631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600000">
            <a:off x="2741040" y="16408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 rot="600000">
            <a:off x="2417040" y="1564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 rot="600000">
            <a:off x="2540880" y="1555920"/>
            <a:ext cx="139680" cy="159156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 rot="600000">
            <a:off x="2674080" y="1564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81400" y="21495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 flipV="1" rot="600000">
            <a:off x="616680" y="1756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 rot="600000">
            <a:off x="73116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 rot="600000">
            <a:off x="85500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 rot="600000">
            <a:off x="531000" y="1689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 rot="600000">
            <a:off x="6645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 rot="600000">
            <a:off x="7977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 rot="600000">
            <a:off x="931320" y="1680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 rot="600000">
            <a:off x="60732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 rot="600000">
            <a:off x="731160" y="1594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 rot="600000">
            <a:off x="86436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680" y="21891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 rot="600000">
            <a:off x="1423440" y="17154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6640" y="375120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 rot="600000">
            <a:off x="2427840" y="1716840"/>
            <a:ext cx="14004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 rot="600000">
            <a:off x="2540880" y="1707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 rot="600000">
            <a:off x="2664720" y="1707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600000">
            <a:off x="2340720" y="1650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 rot="600000">
            <a:off x="2474280" y="1631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 rot="600000">
            <a:off x="2607480" y="1631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 rot="600000">
            <a:off x="2741040" y="16408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 rot="600000">
            <a:off x="2417040" y="1564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 rot="600000">
            <a:off x="2540880" y="1555920"/>
            <a:ext cx="139680" cy="159156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 rot="600000">
            <a:off x="2674080" y="1564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1400" y="21495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 rot="600000">
            <a:off x="3233160" y="1675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 rot="600000">
            <a:off x="3513960" y="1677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600000">
            <a:off x="3812400" y="1658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10000" y="3755880"/>
            <a:ext cx="111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flipV="1" rot="600000">
            <a:off x="616680" y="1756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 rot="600000">
            <a:off x="73116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 rot="600000">
            <a:off x="85500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 rot="600000">
            <a:off x="531000" y="1689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 rot="600000">
            <a:off x="6645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 rot="600000">
            <a:off x="7977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 rot="600000">
            <a:off x="931320" y="1680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 rot="600000">
            <a:off x="60732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 rot="600000">
            <a:off x="731160" y="1594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 rot="600000">
            <a:off x="86436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680" y="21891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 rot="600000">
            <a:off x="1423440" y="17154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6640" y="375120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 rot="600000">
            <a:off x="2427840" y="1716840"/>
            <a:ext cx="14004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 rot="600000">
            <a:off x="2540880" y="1707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 rot="600000">
            <a:off x="2664720" y="1707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 rot="600000">
            <a:off x="2340720" y="1650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 rot="600000">
            <a:off x="2474280" y="1631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 rot="600000">
            <a:off x="2607480" y="1631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 rot="600000">
            <a:off x="2741040" y="16408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 rot="600000">
            <a:off x="2417040" y="1564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 rot="600000">
            <a:off x="2540880" y="1555920"/>
            <a:ext cx="139680" cy="159156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 rot="600000">
            <a:off x="2674080" y="1564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21495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 rot="600000">
            <a:off x="3233160" y="1675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 rot="600000">
            <a:off x="3513960" y="1677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 rot="600000">
            <a:off x="3812400" y="1658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 rot="600000">
            <a:off x="4687200" y="1635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 rot="600000">
            <a:off x="4801320" y="1626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 rot="600000">
            <a:off x="4925160" y="1626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 rot="600000">
            <a:off x="4601520" y="1569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 rot="600000">
            <a:off x="4734720" y="1550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 rot="600000">
            <a:off x="4868280" y="1550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 rot="600000">
            <a:off x="5001480" y="15598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 rot="600000">
            <a:off x="4678920" y="1483560"/>
            <a:ext cx="14004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 rot="600000">
            <a:off x="4801320" y="14742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 rot="600000">
            <a:off x="4934880" y="1483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1840" y="20685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600000">
            <a:off x="5493600" y="15534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600000">
            <a:off x="5774760" y="1555920"/>
            <a:ext cx="139680" cy="159156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 rot="600000">
            <a:off x="6030360" y="15566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 rot="600000">
            <a:off x="6311520" y="1560240"/>
            <a:ext cx="13788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 rot="600000">
            <a:off x="6589080" y="1542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10000" y="3755880"/>
            <a:ext cx="111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07040" y="377676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14:32:54Z</dcterms:created>
  <dc:creator>ww</dc:creator>
  <dc:description/>
  <dc:language>en-US</dc:language>
  <cp:lastModifiedBy>a</cp:lastModifiedBy>
  <dcterms:modified xsi:type="dcterms:W3CDTF">2004-01-14T03:44:00Z</dcterms:modified>
  <cp:revision>1</cp:revision>
  <dc:subject/>
  <dc:title>PowerPoint 演示文稿</dc:title>
</cp:coreProperties>
</file>