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BC7-0479-4E53-BC0A-81D05250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C84-1A3A-4057-9516-6018E46B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D85-9DFA-4E7A-88E1-AA44DB13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1A8-16C2-4C7D-B0DD-B8982B82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A218-37D8-4679-93A4-6BDC71F4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DD3C-63CE-44EC-A542-2A1CDE0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CC6D-35F7-4C73-9F17-4D5C0E3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4024-0F9D-48D9-BBFD-5AEFB811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8318-381D-4756-A497-C50C973D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F749-4983-48CD-A7C6-F3F75F1C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CF45-EA70-45DB-84CF-7B6D0E93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1F8-3F95-4486-9C65-5E9962D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7089-2AC3-428C-A7B3-C15CB457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8FF3-39E1-4601-B7F9-36B212AF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E31C-8270-4B36-B17C-9D78648C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C039-AF17-4760-A7EF-7CA90B3C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B415-4563-483D-886B-90D8801D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864-F38E-4294-ACAA-C99A0582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7E8-F84F-4800-98E6-58701B9D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259-556D-424C-9601-DCE3255D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16B-1C2D-4B1C-B64F-84756770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218-9CF0-41AC-A926-146DEEF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B2E-2D7B-45E1-A781-8784B5BF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ADB-F1C0-4E10-B57D-062E10D8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E37C-7C28-4491-BD00-7208A45F6F0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7E89-3083-45C5-87A2-76F7DE7E81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gif"/><Relationship Id="rId3" Type="http://schemas.openxmlformats.org/officeDocument/2006/relationships/image" Target="../media/image3.gif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533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</a:rPr>
              <a:t>说课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514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认识钟表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21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小学一年级数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Compass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3004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吃饭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上学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7724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上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上课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866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踢球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315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睡觉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和图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3716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时间就象小马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2362320"/>
            <a:ext cx="48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刻不停向前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429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爱我就能找到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956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分分秒秒都是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ompass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28" name="GuestBk" descr=""/>
          <p:cNvPicPr/>
          <p:nvPr/>
        </p:nvPicPr>
        <p:blipFill>
          <a:blip r:embed="rId2"/>
          <a:stretch/>
        </p:blipFill>
        <p:spPr>
          <a:xfrm>
            <a:off x="6781680" y="4648320"/>
            <a:ext cx="1981440" cy="1861920"/>
          </a:xfrm>
          <a:prstGeom prst="rect">
            <a:avLst/>
          </a:prstGeom>
          <a:ln w="0">
            <a:noFill/>
          </a:ln>
        </p:spPr>
      </p:pic>
      <p:pic>
        <p:nvPicPr>
          <p:cNvPr id="129" name="3004" descr=""/>
          <p:cNvPicPr/>
          <p:nvPr/>
        </p:nvPicPr>
        <p:blipFill>
          <a:blip r:embed="rId3"/>
          <a:stretch/>
        </p:blipFill>
        <p:spPr>
          <a:xfrm>
            <a:off x="7162920" y="7621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Man6" descr=""/>
          <p:cNvPicPr/>
          <p:nvPr/>
        </p:nvPicPr>
        <p:blipFill>
          <a:blip r:embed="rId4"/>
          <a:stretch/>
        </p:blipFill>
        <p:spPr>
          <a:xfrm>
            <a:off x="457200" y="3733920"/>
            <a:ext cx="182556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2767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早晨等车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小朋友看电视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6。00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08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9.00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31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1.3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731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4,30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31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8.00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7315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21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起床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90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23:16:50Z</dcterms:created>
  <dc:creator>ww</dc:creator>
  <dc:description/>
  <dc:language>en-US</dc:language>
  <cp:lastModifiedBy>wang</cp:lastModifiedBy>
  <dcterms:modified xsi:type="dcterms:W3CDTF">2004-01-15T07:28:52Z</dcterms:modified>
  <cp:revision>5</cp:revision>
  <dc:subject/>
  <dc:title>PowerPoint 演示文稿</dc:title>
</cp:coreProperties>
</file>