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397-560E-4C6C-8CBA-B9E974C8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684-718F-4177-9492-64A363E4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772-99F7-4F2B-9494-3AE8FEA7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D1D-BB54-4122-8E1B-2C53B5CA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178C-6CCA-41F5-B560-8A08F1AA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7B3D-ECD4-4A6B-9583-65867292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E3E1-7A1B-487F-BC71-19D2371E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C536-6C33-459B-A90E-D0F508D8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4DB9-2EDA-4294-A9B1-95824157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068E-D674-454A-B4A6-E93FE925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CF33-4A39-4C8E-BEBF-A432AA75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013-D6D7-4E92-BD11-DBB1606C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E81A-037A-48B6-89E2-D3213915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1955-2807-4819-9659-9CBAC042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3253-C10E-453E-AEFA-585226F1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91C5-F57C-4907-BF89-66390113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84CF-2769-410B-983D-4CCCEEA1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604-072F-4168-A331-406E7154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F05-98AC-402E-A7D8-DB98D5BE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B90-D8DE-40D2-9131-B494C42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8B8-290E-4E87-9158-6616BE40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B22-60E5-4AC6-A5CF-0ED4FFBA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CA1D-8C22-4A79-9834-6B95D3EC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083-A636-4A8F-A10B-DF159617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1AB3-6335-4A93-97BC-F3CFDBD69306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AE2B-0583-4D2A-A701-E4714CE93C3E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476520" y="0"/>
            <a:ext cx="16894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</a:rPr>
              <a:t>认钟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45080" y="1295280"/>
            <a:ext cx="26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99480" y="35053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9900"/>
                </a:solidFill>
                <a:uFillTx/>
                <a:latin typeface="Times New Roman"/>
                <a:hlinkClick r:id="rId2" action="ppaction://hlinksldjump"/>
              </a:rPr>
              <a:t>设计理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77640" y="33480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9900"/>
                </a:solidFill>
                <a:uFillTx/>
                <a:latin typeface="Times New Roman"/>
                <a:hlinkClick r:id="rId3" action="ppaction://hlinksldjump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53560" y="47196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9900"/>
                </a:solidFill>
                <a:uFillTx/>
                <a:latin typeface="Times New Roman"/>
                <a:hlinkClick r:id="rId4" action="ppaction://hlinksldjump"/>
              </a:rPr>
              <a:t>课程资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1320" y="464328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9900"/>
                </a:solidFill>
                <a:uFillTx/>
                <a:latin typeface="Times New Roman"/>
                <a:hlinkClick r:id="rId5" action="ppaction://hlinksldjump"/>
              </a:rPr>
              <a:t>教学过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96680" y="5954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设计理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447920" y="1981080"/>
            <a:ext cx="7238880" cy="3123720"/>
            <a:chOff x="1447920" y="1981080"/>
            <a:chExt cx="7238880" cy="3123720"/>
          </a:xfrm>
        </p:grpSpPr>
        <p:sp>
          <p:nvSpPr>
            <p:cNvPr id="118" name=""/>
            <p:cNvSpPr/>
            <p:nvPr/>
          </p:nvSpPr>
          <p:spPr>
            <a:xfrm>
              <a:off x="1447920" y="1981080"/>
              <a:ext cx="7238880" cy="31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cc9900"/>
                  </a:solidFill>
                  <a:uFillTx/>
                  <a:latin typeface="宋体"/>
                  <a:hlinkClick r:id="rId2" action="ppaction://hlinksldjump"/>
                </a:rPr>
                <a:t>数学课程标准》指出，数学知识的教学是建立在学生已有的生活经验上，要把数学知识与学生的日常生活实际联系起来，学生的学习过程是一个自主、合作、探究的学习过程。本节课的教学设计，充分体现了《课标》的精神，从导入到实践活动整个环节都与学生的日常生活联系在一起。而且根据一年级学生好奇、好玩、好动的天性，在学生学习的过程中让学生观察、动手、比较等一系列的活动，创设和谐的学习氛围，拉近学生与数学的距离，使学生的思维可以得到尽情的跳跃，个性得到尽情的张扬，逐渐感受到数学学科的趣味性、生活性和挑战性，达到教学的目的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1981080"/>
              <a:ext cx="7238880" cy="31237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124080" y="609480"/>
            <a:ext cx="457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97960" y="2362320"/>
            <a:ext cx="5036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2" action="ppaction://hlinksldjump"/>
              </a:rPr>
              <a:t>1．使学生认识钟面，结合生活经验学会看整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3" action="ppaction://hlinksldjump"/>
              </a:rPr>
              <a:t>2．培养学生建立时间观念，从小养成珍惜时间、遵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4" action="ppaction://hlinksldjump"/>
              </a:rPr>
              <a:t>时间的生活和学习习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5" action="ppaction://hlinksldjump"/>
              </a:rPr>
              <a:t>3．培养学生的观察能力和动手操作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175920" y="141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课程资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3414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7680" y="407988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edu.beelink.com.cn/20020809/1179476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6640" y="232740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haibei.com/cp/zyzs/xx/sx/s4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99800" y="685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教学过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5400" y="198108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Times New Roman"/>
                <a:hlinkClick r:id="rId2" action="ppaction://hlinksldjump"/>
              </a:rPr>
              <a:t>1     故事导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743200"/>
            <a:ext cx="18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Times New Roman"/>
                <a:hlinkClick r:id="rId3" action="ppaction://hlinksldjump"/>
              </a:rPr>
              <a:t>2   自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7672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cc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3505320"/>
            <a:ext cx="132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Times New Roman"/>
                <a:hlinkClick r:id="rId4" action="ppaction://hlinksldjump"/>
              </a:rPr>
              <a:t>3   反馈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4343400"/>
            <a:ext cx="216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Times New Roman"/>
                <a:hlinkClick r:id="rId5" action="ppaction://hlinksldjump"/>
              </a:rPr>
              <a:t>4    实践应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24160" y="1981080"/>
            <a:ext cx="52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一、故事导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屏幕上出示主题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师：“同学们说一说，小东什么时候？在做什么？”（小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早上</a:t>
            </a: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时起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师：“你是从哪里知道时间的？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让学生认识到在我们的日常生活中处处都离不开钟表，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及时教育学生怎样知识的？”早上按时起床，上学才不会迟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宋体"/>
              </a:rPr>
              <a:t>师：“今天老师就和同学们一起来认识钟表。”（出示课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21337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二、自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，观察钟面，反馈交流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、观察主题图，认识整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、查寻相关资料  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www.harcourt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933440" y="1981080"/>
            <a:ext cx="182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三、反馈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拨钟游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）教师拨钟，学生说时间；或教师说时间，学生拨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（指名学生上台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）小组活动：一个同学说时间，另一个同学拨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《快乐的一天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53cfa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54960" y="2057400"/>
            <a:ext cx="4847040" cy="58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2" action="ppaction://hlinksldjump"/>
              </a:rPr>
              <a:t>四、实践应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3" action="ppaction://hlinksldjump"/>
              </a:rPr>
              <a:t>1．找朋友练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4" action="ppaction://hlinksldjump"/>
              </a:rPr>
              <a:t>教师先说明题目的要求，后学生独立完成，最后集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5" action="ppaction://hlinksldjump"/>
              </a:rPr>
              <a:t>订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6" action="ppaction://hlinksldjump"/>
              </a:rPr>
              <a:t>2．创设情景：（边问边演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7" action="ppaction://hlinksldjump"/>
              </a:rPr>
              <a:t>（1）老师中午12时吃饭，过一个小时要午休，你知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8" action="ppaction://hlinksldjump"/>
              </a:rPr>
              <a:t>老师是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9" action="ppaction://hlinksldjump"/>
              </a:rPr>
              <a:t>时候午休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10" action="ppaction://hlinksldjump"/>
              </a:rPr>
              <a:t>（2）老师晚上7时吃饭，过三个小时要睡觉，你知道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11" action="ppaction://hlinksldjump"/>
              </a:rPr>
              <a:t>师是什么时候睡觉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12" action="ppaction://hlinksldjump"/>
              </a:rPr>
              <a:t>3．完成课本练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9900"/>
                </a:solidFill>
                <a:uFillTx/>
                <a:latin typeface="宋体"/>
                <a:hlinkClick r:id="rId13" action="ppaction://hlinksldjump"/>
              </a:rPr>
              <a:t>明确题目要求，学生独立完成，后集体订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53cf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14:01:04Z</dcterms:created>
  <dc:creator>ww</dc:creator>
  <dc:description/>
  <dc:language>en-US</dc:language>
  <cp:lastModifiedBy>a</cp:lastModifiedBy>
  <dcterms:modified xsi:type="dcterms:W3CDTF">2004-02-05T02:35:27Z</dcterms:modified>
  <cp:revision>13</cp:revision>
  <dc:subject/>
  <dc:title>PowerPoint 演示文稿</dc:title>
</cp:coreProperties>
</file>