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77A-9315-41F5-B680-850577EE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EDD-69FC-45F4-8D5D-E0F97D6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DB3-A7B8-4500-84A4-369221E7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107-FEA9-4484-B79A-48F41E32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EA7-5D04-4834-84A3-149170F2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190-EB99-42AE-BE0A-67AC6D3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040-C56A-4531-8FFB-A039224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9E2-81BA-49B2-A228-D6EA594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83B-C5CE-4F06-855E-DBA78A7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F0F-EDAC-495D-8FC0-8506F85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70C-B36B-4C9A-9F42-3AE7FE8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24C-2752-48C0-B2D7-DE2C9DF1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DBF-3E78-455B-8597-4CA45F5506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cochet.wav" TargetMode="External"/><Relationship Id="rId2" Type="http://schemas.microsoft.com/office/2007/relationships/media" Target="file:///tmp/home/.config/libreoffice/4/user/gallery/ricochet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ZR93.WAV" TargetMode="External"/><Relationship Id="rId5" Type="http://schemas.microsoft.com/office/2007/relationships/media" Target="file:///tmp/home/.config/libreoffice/4/user/gallery/ZR93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ZR990.WAV" TargetMode="External"/><Relationship Id="rId8" Type="http://schemas.microsoft.com/office/2007/relationships/media" Target="file:///tmp/home/.config/libreoffice/4/user/gallery/ZR990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ZR1490.WAV" TargetMode="External"/><Relationship Id="rId11" Type="http://schemas.microsoft.com/office/2007/relationships/media" Target="file:///tmp/home/.config/libreoffice/4/user/gallery/ZR1490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usr/lib/libreoffice/share/gallery/sounds/applause.wav" TargetMode="External"/><Relationship Id="rId14" Type="http://schemas.microsoft.com/office/2007/relationships/media" Target="file:///usr/lib/libreoffice/share/gallery/sounds/applause.wav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gif"/><Relationship Id="rId6" Type="http://schemas.openxmlformats.org/officeDocument/2006/relationships/image" Target="../media/image2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54400">
            <a:off x="914040" y="213336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 识 钟 表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42840" y="25146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457200"/>
            <a:ext cx="1752840" cy="457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858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858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6080" y="15238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059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96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703280" y="1391040"/>
            <a:ext cx="443160" cy="11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86600" y="2895480"/>
            <a:ext cx="1752480" cy="914400"/>
            <a:chOff x="7086600" y="2895480"/>
            <a:chExt cx="1752480" cy="914400"/>
          </a:xfrm>
        </p:grpSpPr>
        <p:sp>
          <p:nvSpPr>
            <p:cNvPr id="314" name=""/>
            <p:cNvSpPr/>
            <p:nvPr/>
          </p:nvSpPr>
          <p:spPr>
            <a:xfrm>
              <a:off x="7086600" y="2895480"/>
              <a:ext cx="1752480" cy="914400"/>
            </a:xfrm>
            <a:custGeom>
              <a:avLst/>
              <a:gdLst>
                <a:gd name="textAreaLeft" fmla="*/ 399960 w 1752480"/>
                <a:gd name="textAreaRight" fmla="*/ 1352520 w 17524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312408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21" descr=""/>
          <p:cNvPicPr/>
          <p:nvPr/>
        </p:nvPicPr>
        <p:blipFill>
          <a:blip r:embed="rId4"/>
          <a:stretch/>
        </p:blipFill>
        <p:spPr>
          <a:xfrm>
            <a:off x="25909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17" name="23" descr=""/>
          <p:cNvPicPr/>
          <p:nvPr/>
        </p:nvPicPr>
        <p:blipFill>
          <a:blip r:embed="rId5"/>
          <a:stretch/>
        </p:blipFill>
        <p:spPr>
          <a:xfrm>
            <a:off x="358920" y="1816200"/>
            <a:ext cx="1317600" cy="1612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52280"/>
            <a:ext cx="1524240" cy="11430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1143000"/>
            <a:ext cx="259056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08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69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65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30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794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3276360"/>
            <a:ext cx="609480" cy="21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70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31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27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92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56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42120" y="3249720"/>
            <a:ext cx="574560" cy="2044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27672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334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441972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4510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80060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整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3434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20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18148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半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5720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457200"/>
            <a:ext cx="17528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3840" y="4784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78000" y="4784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1981080"/>
            <a:ext cx="1523880" cy="1524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09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124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0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286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743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1337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0481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5146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1337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9680" y="2863440"/>
            <a:ext cx="403200" cy="21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46960" y="3389760"/>
            <a:ext cx="1830960" cy="1830960"/>
            <a:chOff x="3846960" y="3389760"/>
            <a:chExt cx="1830960" cy="1830960"/>
          </a:xfrm>
        </p:grpSpPr>
        <p:sp>
          <p:nvSpPr>
            <p:cNvPr id="207" name=""/>
            <p:cNvSpPr/>
            <p:nvPr/>
          </p:nvSpPr>
          <p:spPr>
            <a:xfrm rot="8194800">
              <a:off x="4114440" y="3657240"/>
              <a:ext cx="1295280" cy="1295280"/>
            </a:xfrm>
            <a:prstGeom prst="flowChartMagnetic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9360" y="4114800"/>
              <a:ext cx="762120" cy="4597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2" descr=""/>
          <p:cNvPicPr/>
          <p:nvPr/>
        </p:nvPicPr>
        <p:blipFill>
          <a:blip r:embed="rId5"/>
          <a:stretch/>
        </p:blipFill>
        <p:spPr>
          <a:xfrm>
            <a:off x="1600200" y="3809880"/>
            <a:ext cx="137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2" name="0029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3200400" y="3505320"/>
            <a:ext cx="1828800" cy="1218960"/>
            <a:chOff x="3200400" y="3505320"/>
            <a:chExt cx="1828800" cy="1218960"/>
          </a:xfrm>
        </p:grpSpPr>
        <p:sp>
          <p:nvSpPr>
            <p:cNvPr id="214" name=""/>
            <p:cNvSpPr/>
            <p:nvPr/>
          </p:nvSpPr>
          <p:spPr>
            <a:xfrm>
              <a:off x="3200400" y="3505320"/>
              <a:ext cx="1828800" cy="1218960"/>
            </a:xfrm>
            <a:prstGeom prst="cloudCallout">
              <a:avLst>
                <a:gd name="adj1" fmla="val -41143"/>
                <a:gd name="adj2" fmla="val 787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862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1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560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8120" y="685800"/>
            <a:ext cx="152388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762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77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914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47720" y="1516680"/>
            <a:ext cx="343440" cy="1656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14600" y="3048120"/>
            <a:ext cx="2133720" cy="1523880"/>
            <a:chOff x="2514600" y="3048120"/>
            <a:chExt cx="2133720" cy="1523880"/>
          </a:xfrm>
        </p:grpSpPr>
        <p:sp>
          <p:nvSpPr>
            <p:cNvPr id="240" name=""/>
            <p:cNvSpPr/>
            <p:nvPr/>
          </p:nvSpPr>
          <p:spPr>
            <a:xfrm>
              <a:off x="2514600" y="3048120"/>
              <a:ext cx="2133720" cy="1523880"/>
            </a:xfrm>
            <a:custGeom>
              <a:avLst/>
              <a:gdLst>
                <a:gd name="textAreaLeft" fmla="*/ 487080 w 2133720"/>
                <a:gd name="textAreaRight" fmla="*/ 1646640 w 2133720"/>
                <a:gd name="textAreaTop" fmla="*/ 347760 h 1523880"/>
                <a:gd name="textAreaBottom" fmla="*/ 11761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5049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13" descr=""/>
          <p:cNvPicPr/>
          <p:nvPr/>
        </p:nvPicPr>
        <p:blipFill>
          <a:blip r:embed="rId6"/>
          <a:stretch/>
        </p:blipFill>
        <p:spPr>
          <a:xfrm>
            <a:off x="5334120" y="1808280"/>
            <a:ext cx="3597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10800000">
            <a:off x="1066320" y="4371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10800000">
            <a:off x="1066320" y="4343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rot="10800000">
            <a:off x="199800" y="449568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10800000">
            <a:off x="152280" y="4495680"/>
            <a:ext cx="486000" cy="486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48120" y="457200"/>
            <a:ext cx="2438280" cy="22860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685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20574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14479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2286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8380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52680" y="3124080"/>
            <a:ext cx="1981440" cy="1067040"/>
            <a:chOff x="3352680" y="3124080"/>
            <a:chExt cx="1981440" cy="1067040"/>
          </a:xfrm>
        </p:grpSpPr>
        <p:sp>
          <p:nvSpPr>
            <p:cNvPr id="263" name=""/>
            <p:cNvSpPr/>
            <p:nvPr/>
          </p:nvSpPr>
          <p:spPr>
            <a:xfrm>
              <a:off x="3352680" y="3124080"/>
              <a:ext cx="1981440" cy="1067040"/>
            </a:xfrm>
            <a:prstGeom prst="horizontalScroll">
              <a:avLst>
                <a:gd name="adj" fmla="val 125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2520" y="3429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" name="2" descr=""/>
          <p:cNvPicPr/>
          <p:nvPr/>
        </p:nvPicPr>
        <p:blipFill>
          <a:blip r:embed="rId5"/>
          <a:stretch/>
        </p:blipFill>
        <p:spPr>
          <a:xfrm>
            <a:off x="3378240" y="4267080"/>
            <a:ext cx="1193760" cy="2019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 rot="10800000">
            <a:off x="152280" y="4466880"/>
            <a:ext cx="486000" cy="485640"/>
          </a:xfrm>
          <a:prstGeom prst="rect">
            <a:avLst/>
          </a:prstGeom>
          <a:ln w="0">
            <a:noFill/>
          </a:ln>
        </p:spPr>
      </p:pic>
      <p:pic>
        <p:nvPicPr>
          <p:cNvPr id="267" name="43" descr=""/>
          <p:cNvPicPr/>
          <p:nvPr/>
        </p:nvPicPr>
        <p:blipFill>
          <a:blip r:embed="rId7"/>
          <a:stretch/>
        </p:blipFill>
        <p:spPr>
          <a:xfrm>
            <a:off x="0" y="3497400"/>
            <a:ext cx="1752480" cy="1531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267080" y="1676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76720" y="838080"/>
            <a:ext cx="2286000" cy="1524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762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1676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66720" y="1693080"/>
            <a:ext cx="15480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13716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rot="18435000">
            <a:off x="3847680" y="22478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8435000">
            <a:off x="3390480" y="20192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14289600">
            <a:off x="5371920" y="20192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rot="14289600">
            <a:off x="4914720" y="22478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rot="8889600">
            <a:off x="4875480" y="9144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8889600">
            <a:off x="5332680" y="11430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rot="3716400">
            <a:off x="3771720" y="95184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3716400">
            <a:off x="3390120" y="1142640"/>
            <a:ext cx="152640" cy="7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81280" y="2895480"/>
            <a:ext cx="1676520" cy="685800"/>
            <a:chOff x="3581280" y="2895480"/>
            <a:chExt cx="1676520" cy="685800"/>
          </a:xfrm>
        </p:grpSpPr>
        <p:sp>
          <p:nvSpPr>
            <p:cNvPr id="288" name=""/>
            <p:cNvSpPr/>
            <p:nvPr/>
          </p:nvSpPr>
          <p:spPr>
            <a:xfrm>
              <a:off x="3581280" y="2895480"/>
              <a:ext cx="1676520" cy="6858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3047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27" descr=""/>
          <p:cNvPicPr/>
          <p:nvPr/>
        </p:nvPicPr>
        <p:blipFill>
          <a:blip r:embed="rId3"/>
          <a:stretch/>
        </p:blipFill>
        <p:spPr>
          <a:xfrm>
            <a:off x="228600" y="27241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91" name="45" descr=""/>
          <p:cNvPicPr/>
          <p:nvPr/>
        </p:nvPicPr>
        <p:blipFill>
          <a:blip r:embed="rId4"/>
          <a:stretch/>
        </p:blipFill>
        <p:spPr>
          <a:xfrm>
            <a:off x="1447920" y="4861080"/>
            <a:ext cx="541800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25:43Z</dcterms:created>
  <dc:creator>ww</dc:creator>
  <dc:description/>
  <dc:language>en-US</dc:language>
  <cp:lastModifiedBy>fd</cp:lastModifiedBy>
  <dcterms:modified xsi:type="dcterms:W3CDTF">2001-12-05T09:55:56Z</dcterms:modified>
  <cp:revision>27</cp:revision>
  <dc:subject/>
  <dc:title>PowerPoint 演示文稿</dc:title>
</cp:coreProperties>
</file>