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FB0-E99F-4E1D-9423-8B0EA1BF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8A6-23B5-4F1A-8A14-3EFAB901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C93-E25A-4B56-938F-FD42FBE1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449-8FC5-4A0B-B9E4-083CF4B0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E848-576E-4280-8F89-476D6AE1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37CB-6E10-4021-8A78-16370246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3D74-24FA-4295-A7D1-A3AD1120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43A7-68CE-4594-A1EC-3D9B0D4E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E878-7B3C-461E-8153-94BE302D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8C9E-0DB0-474C-A76F-4FDB9181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D6B1-721F-4BE4-B15F-E7F441B2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D5A-646D-48CA-89CA-44381C52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58BC-15BE-4497-BDC8-BF3D820E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1B73-A0C6-4445-888D-E874645A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B678-CA68-431A-84BC-B6F1299F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82DD-1C87-46E5-87D6-8F167D33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B999-9C86-4DB2-8062-04FC9B71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175-88D7-4A22-877F-41CA74D3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991-FB3F-4B3A-9CAF-59CCBE75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F14-3F95-4053-9188-72122E1E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BDE-87B6-4331-BAB9-0E1ED084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45F-6F54-46DC-AEAD-4D22B405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544-586B-4857-8A85-B73AEC68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9A3-864F-4BE4-B20E-FBE962A3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C406-C806-4E6C-8E30-4DFD360C9E3A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E5CD-5981-4D88-818C-C1B8FA2BEE5A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476520" y="0"/>
            <a:ext cx="16894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</a:rPr>
              <a:t>认钟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45080" y="1295280"/>
            <a:ext cx="26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99480" y="350532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9900"/>
                </a:solidFill>
                <a:uFillTx/>
                <a:latin typeface="Times New Roman"/>
                <a:hlinkClick r:id="rId2" action="ppaction://hlinksldjump"/>
              </a:rPr>
              <a:t>设计理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77640" y="33480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9900"/>
                </a:solidFill>
                <a:uFillTx/>
                <a:latin typeface="Times New Roman"/>
                <a:hlinkClick r:id="rId3" action="ppaction://hlinksldjump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53560" y="47196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9900"/>
                </a:solidFill>
                <a:uFillTx/>
                <a:latin typeface="Times New Roman"/>
                <a:hlinkClick r:id="rId4" action="ppaction://hlinksldjump"/>
              </a:rPr>
              <a:t>课程资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1320" y="464328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9900"/>
                </a:solidFill>
                <a:uFillTx/>
                <a:latin typeface="Times New Roman"/>
                <a:hlinkClick r:id="rId5" action="ppaction://hlinksldjump"/>
              </a:rPr>
              <a:t>教学过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96680" y="5954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设计理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447920" y="1981080"/>
            <a:ext cx="7238880" cy="3123720"/>
            <a:chOff x="1447920" y="1981080"/>
            <a:chExt cx="7238880" cy="3123720"/>
          </a:xfrm>
        </p:grpSpPr>
        <p:sp>
          <p:nvSpPr>
            <p:cNvPr id="118" name=""/>
            <p:cNvSpPr/>
            <p:nvPr/>
          </p:nvSpPr>
          <p:spPr>
            <a:xfrm>
              <a:off x="1447920" y="1981080"/>
              <a:ext cx="7238880" cy="31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cc9900"/>
                  </a:solidFill>
                  <a:uFillTx/>
                  <a:latin typeface="宋体"/>
                  <a:hlinkClick r:id="rId2" action="ppaction://hlinksldjump"/>
                </a:rPr>
                <a:t>数学课程标准》指出，数学知识的教学是建立在学生已有的生活经验上，要把数学知识与学生的日常生活实际联系起来，学生的学习过程是一个自主、合作、探究的学习过程。本节课的教学设计，充分体现了《课标》的精神，从导入到实践活动整个环节都与学生的日常生活联系在一起。而且根据一年级学生好奇、好玩、好动的天性，在学生学习的过程中让学生观察、动手、比较等一系列的活动，创设和谐的学习氛围，拉近学生与数学的距离，使学生的思维可以得到尽情的跳跃，个性得到尽情的张扬，逐渐感受到数学学科的趣味性、生活性和挑战性，达到教学的目的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1981080"/>
              <a:ext cx="7238880" cy="31237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124080" y="609480"/>
            <a:ext cx="457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97960" y="2362320"/>
            <a:ext cx="5036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2" action="ppaction://hlinksldjump"/>
              </a:rPr>
              <a:t>1．使学生认识钟面，结合生活经验学会看整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3" action="ppaction://hlinksldjump"/>
              </a:rPr>
              <a:t>2．培养学生建立时间观念，从小养成珍惜时间、遵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4" action="ppaction://hlinksldjump"/>
              </a:rPr>
              <a:t>时间的生活和学习习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5" action="ppaction://hlinksldjump"/>
              </a:rPr>
              <a:t>3．培养学生的观察能力和动手操作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175920" y="141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课程资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3414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7680" y="407988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edu.beelink.com.cn/20020809/1179476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86640" y="232740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haibei.com/cp/zyzs/xx/sx/s4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799800" y="685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教学过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5400" y="1981080"/>
            <a:ext cx="14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Times New Roman"/>
                <a:hlinkClick r:id="rId2" action="ppaction://hlinksldjump"/>
              </a:rPr>
              <a:t>1     故事导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743200"/>
            <a:ext cx="18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Times New Roman"/>
                <a:hlinkClick r:id="rId3" action="ppaction://hlinksldjump"/>
              </a:rPr>
              <a:t>2   自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276720"/>
            <a:ext cx="21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cc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3505320"/>
            <a:ext cx="132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Times New Roman"/>
                <a:hlinkClick r:id="rId4" action="ppaction://hlinksldjump"/>
              </a:rPr>
              <a:t>3   反馈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4343400"/>
            <a:ext cx="216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Times New Roman"/>
                <a:hlinkClick r:id="rId5" action="ppaction://hlinksldjump"/>
              </a:rPr>
              <a:t>4    实践应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24160" y="1981080"/>
            <a:ext cx="52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一、故事导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屏幕上出示主题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师：“同学们说一说，小东什么时候？在做什么？”（小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早上</a:t>
            </a: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时起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师：“你是从哪里知道时间的？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让学生认识到在我们的日常生活中处处都离不开钟表，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及时教育学生怎样知识的？”早上按时起床，上学才不会迟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师：“今天老师就和同学们一起来认识钟表。”（出示课题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21337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二、自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，观察钟面，反馈交流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、观察主题图，认识整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、查寻相关资料  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www.harcourt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933440" y="1981080"/>
            <a:ext cx="182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三、反馈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拨钟游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）教师拨钟，学生说时间；或教师说时间，学生拨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（指名学生上台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）小组活动：一个同学说时间，另一个同学拨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《快乐的一天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54960" y="2057400"/>
            <a:ext cx="4847040" cy="58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2" action="ppaction://hlinksldjump"/>
              </a:rPr>
              <a:t>四、实践应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3" action="ppaction://hlinksldjump"/>
              </a:rPr>
              <a:t>1．找朋友练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4" action="ppaction://hlinksldjump"/>
              </a:rPr>
              <a:t>教师先说明题目的要求，后学生独立完成，最后集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5" action="ppaction://hlinksldjump"/>
              </a:rPr>
              <a:t>订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6" action="ppaction://hlinksldjump"/>
              </a:rPr>
              <a:t>2．创设情景：（边问边演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7" action="ppaction://hlinksldjump"/>
              </a:rPr>
              <a:t>（1）老师中午12时吃饭，过一个小时要午休，你知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8" action="ppaction://hlinksldjump"/>
              </a:rPr>
              <a:t>老师是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9" action="ppaction://hlinksldjump"/>
              </a:rPr>
              <a:t>时候午休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10" action="ppaction://hlinksldjump"/>
              </a:rPr>
              <a:t>（2）老师晚上7时吃饭，过三个小时要睡觉，你知道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11" action="ppaction://hlinksldjump"/>
              </a:rPr>
              <a:t>师是什么时候睡觉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12" action="ppaction://hlinksldjump"/>
              </a:rPr>
              <a:t>3．完成课本练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13" action="ppaction://hlinksldjump"/>
              </a:rPr>
              <a:t>明确题目要求，学生独立完成，后集体订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53cf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14:01:04Z</dcterms:created>
  <dc:creator>ww</dc:creator>
  <dc:description/>
  <dc:language>en-US</dc:language>
  <cp:lastModifiedBy>a</cp:lastModifiedBy>
  <dcterms:modified xsi:type="dcterms:W3CDTF">2004-02-05T02:35:27Z</dcterms:modified>
  <cp:revision>13</cp:revision>
  <dc:subject/>
  <dc:title>PowerPoint 演示文稿</dc:title>
</cp:coreProperties>
</file>