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267-E0FD-473D-9EE6-497531F3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F3B-38EE-4F2F-BF5E-2FD81129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4A9-66E6-463F-B2EE-00610F0D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F96-BD9F-4E0F-B491-C7752E1A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AB7-D4A2-49FF-A62C-5B78210B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649-6B8E-45E1-9AF0-E05167E1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5EB-5DC5-4ECF-872C-5099BE4C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2B1-42C2-429A-8C10-1BFAC4F0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7D8-5C8A-4CEF-BF0C-45C11CBF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634-4EA8-4352-87F3-25323D52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795-D14A-4D50-9844-1146B9F7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04E-24F8-4456-8D3F-BB6BA24B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16B9-119C-4FB1-8CCD-5D0D3A67AA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cochet.wav" TargetMode="External"/><Relationship Id="rId2" Type="http://schemas.microsoft.com/office/2007/relationships/media" Target="file:///tmp/home/.config/libreoffice/4/user/gallery/ricochet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ZR93.WAV" TargetMode="External"/><Relationship Id="rId5" Type="http://schemas.microsoft.com/office/2007/relationships/media" Target="file:///tmp/home/.config/libreoffice/4/user/gallery/ZR93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ZR990.WAV" TargetMode="External"/><Relationship Id="rId8" Type="http://schemas.microsoft.com/office/2007/relationships/media" Target="file:///tmp/home/.config/libreoffice/4/user/gallery/ZR990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ZR1490.WAV" TargetMode="External"/><Relationship Id="rId11" Type="http://schemas.microsoft.com/office/2007/relationships/media" Target="file:///tmp/home/.config/libreoffice/4/user/gallery/ZR1490.WAV" TargetMode="External"/><Relationship Id="rId12" Type="http://schemas.openxmlformats.org/officeDocument/2006/relationships/image" Target="../media/image1.png"/><Relationship Id="rId13" Type="http://schemas.openxmlformats.org/officeDocument/2006/relationships/audio" Target="file:///usr/lib/libreoffice/share/gallery/sounds/applause.wav" TargetMode="External"/><Relationship Id="rId14" Type="http://schemas.microsoft.com/office/2007/relationships/media" Target="file:///usr/lib/libreoffice/share/gallery/sounds/applause.wav" TargetMode="External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gif"/><Relationship Id="rId6" Type="http://schemas.openxmlformats.org/officeDocument/2006/relationships/image" Target="../media/image2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54400">
            <a:off x="914040" y="2133360"/>
            <a:ext cx="6553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认 识 钟 表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42840" y="25146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914400" y="25621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914400" y="25621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809880" y="457200"/>
            <a:ext cx="1752840" cy="457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685800"/>
            <a:ext cx="1828800" cy="15238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685800"/>
            <a:ext cx="152388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43800" y="18288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7480" y="609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96080" y="15238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0120" y="1447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15328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1295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77320" y="8380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05920" y="11430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29600" y="18288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010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17524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8380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703280" y="1391040"/>
            <a:ext cx="443160" cy="11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086600" y="2895480"/>
            <a:ext cx="1752480" cy="914400"/>
            <a:chOff x="7086600" y="2895480"/>
            <a:chExt cx="1752480" cy="914400"/>
          </a:xfrm>
        </p:grpSpPr>
        <p:sp>
          <p:nvSpPr>
            <p:cNvPr id="314" name=""/>
            <p:cNvSpPr/>
            <p:nvPr/>
          </p:nvSpPr>
          <p:spPr>
            <a:xfrm>
              <a:off x="7086600" y="2895480"/>
              <a:ext cx="1752480" cy="914400"/>
            </a:xfrm>
            <a:custGeom>
              <a:avLst/>
              <a:gdLst>
                <a:gd name="textAreaLeft" fmla="*/ 399960 w 1752480"/>
                <a:gd name="textAreaRight" fmla="*/ 1352520 w 175248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312408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21" descr=""/>
          <p:cNvPicPr/>
          <p:nvPr/>
        </p:nvPicPr>
        <p:blipFill>
          <a:blip r:embed="rId4"/>
          <a:stretch/>
        </p:blipFill>
        <p:spPr>
          <a:xfrm>
            <a:off x="2590920" y="41148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17" name="23" descr=""/>
          <p:cNvPicPr/>
          <p:nvPr/>
        </p:nvPicPr>
        <p:blipFill>
          <a:blip r:embed="rId5"/>
          <a:stretch/>
        </p:blipFill>
        <p:spPr>
          <a:xfrm>
            <a:off x="358920" y="1816200"/>
            <a:ext cx="1317600" cy="1612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666880" y="152280"/>
            <a:ext cx="1524240" cy="11430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1143000"/>
            <a:ext cx="2590560" cy="380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45720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  识   钟   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205740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2133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22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259092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062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3581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6960" y="38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1620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8304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89480" y="3657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724280" y="3352320"/>
            <a:ext cx="609840" cy="25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2514600"/>
            <a:ext cx="0" cy="838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190512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90512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98108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057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2057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60880" y="2514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9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505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692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065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73000" y="3900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79440" y="3581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14240" y="3276360"/>
            <a:ext cx="609480" cy="216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438280"/>
            <a:ext cx="0" cy="838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200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190512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190512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198108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057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2057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47080" y="2514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29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3505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312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27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9200" y="3900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65640" y="3581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342120" y="3249720"/>
            <a:ext cx="574560" cy="20448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276720"/>
            <a:ext cx="0" cy="838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3200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5334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点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点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4419720"/>
            <a:ext cx="152388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4510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480060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51814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6019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</a:rPr>
              <a:t>整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4343400"/>
            <a:ext cx="152388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208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18148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51055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6019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</a:rPr>
              <a:t>半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05740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133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22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70560" y="259092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3062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581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6960" y="38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620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8304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89480" y="3657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724280" y="3352320"/>
            <a:ext cx="609840" cy="25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514600"/>
            <a:ext cx="0" cy="838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45720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  识   钟   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280" y="457200"/>
            <a:ext cx="17528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623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3623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193840" y="47847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178000" y="47847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1981080"/>
            <a:ext cx="1523880" cy="1524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609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3124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057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0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286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2743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2133720"/>
            <a:ext cx="7596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4382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31240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33526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33526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30481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5146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21337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79680" y="2863440"/>
            <a:ext cx="403200" cy="21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46960" y="3389760"/>
            <a:ext cx="1830960" cy="1830960"/>
            <a:chOff x="3846960" y="3389760"/>
            <a:chExt cx="1830960" cy="1830960"/>
          </a:xfrm>
        </p:grpSpPr>
        <p:sp>
          <p:nvSpPr>
            <p:cNvPr id="207" name=""/>
            <p:cNvSpPr/>
            <p:nvPr/>
          </p:nvSpPr>
          <p:spPr>
            <a:xfrm rot="8194800">
              <a:off x="4114440" y="3657240"/>
              <a:ext cx="1295280" cy="1295280"/>
            </a:xfrm>
            <a:prstGeom prst="flowChartMagneticTap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19360" y="4114800"/>
              <a:ext cx="762120" cy="45972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" name="2" descr=""/>
          <p:cNvPicPr/>
          <p:nvPr/>
        </p:nvPicPr>
        <p:blipFill>
          <a:blip r:embed="rId5"/>
          <a:stretch/>
        </p:blipFill>
        <p:spPr>
          <a:xfrm>
            <a:off x="1600200" y="3809880"/>
            <a:ext cx="1373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371600" y="3794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371600" y="3794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2" name="0029" descr=""/>
          <p:cNvPicPr/>
          <p:nvPr/>
        </p:nvPicPr>
        <p:blipFill>
          <a:blip r:embed="rId3"/>
          <a:stretch/>
        </p:blipFill>
        <p:spPr>
          <a:xfrm>
            <a:off x="2666880" y="228600"/>
            <a:ext cx="27432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3200400" y="3505320"/>
            <a:ext cx="1828800" cy="1218960"/>
            <a:chOff x="3200400" y="3505320"/>
            <a:chExt cx="1828800" cy="1218960"/>
          </a:xfrm>
        </p:grpSpPr>
        <p:sp>
          <p:nvSpPr>
            <p:cNvPr id="214" name=""/>
            <p:cNvSpPr/>
            <p:nvPr/>
          </p:nvSpPr>
          <p:spPr>
            <a:xfrm>
              <a:off x="3200400" y="3505320"/>
              <a:ext cx="1828800" cy="1218960"/>
            </a:xfrm>
            <a:prstGeom prst="cloudCallout">
              <a:avLst>
                <a:gd name="adj1" fmla="val -41143"/>
                <a:gd name="adj2" fmla="val 7877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862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1" descr=""/>
          <p:cNvPicPr/>
          <p:nvPr/>
        </p:nvPicPr>
        <p:blipFill>
          <a:blip r:embed="rId4"/>
          <a:stretch/>
        </p:blipFill>
        <p:spPr>
          <a:xfrm>
            <a:off x="762120" y="2133720"/>
            <a:ext cx="25606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791320" y="24224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791320" y="24224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715000" y="25909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715000" y="26067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715000" y="26067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8120" y="685800"/>
            <a:ext cx="1523880" cy="1523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18288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762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776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914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1295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11430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18288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7524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8380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447720" y="1516680"/>
            <a:ext cx="343440" cy="1656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14600" y="3048120"/>
            <a:ext cx="2133720" cy="1523880"/>
            <a:chOff x="2514600" y="3048120"/>
            <a:chExt cx="2133720" cy="1523880"/>
          </a:xfrm>
        </p:grpSpPr>
        <p:sp>
          <p:nvSpPr>
            <p:cNvPr id="240" name=""/>
            <p:cNvSpPr/>
            <p:nvPr/>
          </p:nvSpPr>
          <p:spPr>
            <a:xfrm>
              <a:off x="2514600" y="3048120"/>
              <a:ext cx="2133720" cy="1523880"/>
            </a:xfrm>
            <a:custGeom>
              <a:avLst/>
              <a:gdLst>
                <a:gd name="textAreaLeft" fmla="*/ 487080 w 2133720"/>
                <a:gd name="textAreaRight" fmla="*/ 1646640 w 2133720"/>
                <a:gd name="textAreaTop" fmla="*/ 347760 h 1523880"/>
                <a:gd name="textAreaBottom" fmla="*/ 117612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35049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13" descr=""/>
          <p:cNvPicPr/>
          <p:nvPr/>
        </p:nvPicPr>
        <p:blipFill>
          <a:blip r:embed="rId6"/>
          <a:stretch/>
        </p:blipFill>
        <p:spPr>
          <a:xfrm>
            <a:off x="5334120" y="1808280"/>
            <a:ext cx="35971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 rot="10800000">
            <a:off x="1066320" y="4371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 rot="10800000">
            <a:off x="1066320" y="43434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 rot="10800000">
            <a:off x="199800" y="4495680"/>
            <a:ext cx="485640" cy="4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rot="10800000">
            <a:off x="152280" y="4495680"/>
            <a:ext cx="486000" cy="486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048120" y="457200"/>
            <a:ext cx="2438280" cy="228600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1600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685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20574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14479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1447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914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22860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22860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19810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8380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914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352680" y="3124080"/>
            <a:ext cx="1981440" cy="1067040"/>
            <a:chOff x="3352680" y="3124080"/>
            <a:chExt cx="1981440" cy="1067040"/>
          </a:xfrm>
        </p:grpSpPr>
        <p:sp>
          <p:nvSpPr>
            <p:cNvPr id="263" name=""/>
            <p:cNvSpPr/>
            <p:nvPr/>
          </p:nvSpPr>
          <p:spPr>
            <a:xfrm>
              <a:off x="3352680" y="3124080"/>
              <a:ext cx="1981440" cy="1067040"/>
            </a:xfrm>
            <a:prstGeom prst="horizontalScroll">
              <a:avLst>
                <a:gd name="adj" fmla="val 12500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62520" y="34290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5" name="2" descr=""/>
          <p:cNvPicPr/>
          <p:nvPr/>
        </p:nvPicPr>
        <p:blipFill>
          <a:blip r:embed="rId5"/>
          <a:stretch/>
        </p:blipFill>
        <p:spPr>
          <a:xfrm>
            <a:off x="3378240" y="4267080"/>
            <a:ext cx="1193760" cy="20196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 rot="10800000">
            <a:off x="152280" y="4466880"/>
            <a:ext cx="486000" cy="485640"/>
          </a:xfrm>
          <a:prstGeom prst="rect">
            <a:avLst/>
          </a:prstGeom>
          <a:ln w="0">
            <a:noFill/>
          </a:ln>
        </p:spPr>
      </p:pic>
      <p:pic>
        <p:nvPicPr>
          <p:cNvPr id="267" name="43" descr=""/>
          <p:cNvPicPr/>
          <p:nvPr/>
        </p:nvPicPr>
        <p:blipFill>
          <a:blip r:embed="rId7"/>
          <a:stretch/>
        </p:blipFill>
        <p:spPr>
          <a:xfrm>
            <a:off x="0" y="3497400"/>
            <a:ext cx="1752480" cy="1531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267080" y="1676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295280" y="40384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76720" y="838080"/>
            <a:ext cx="2286000" cy="1524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762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1676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1600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266720" y="1693080"/>
            <a:ext cx="154800" cy="3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13716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1371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rot="18435000">
            <a:off x="3847680" y="2247840"/>
            <a:ext cx="1530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rot="18435000">
            <a:off x="3390480" y="2019240"/>
            <a:ext cx="1530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rot="14289600">
            <a:off x="5371920" y="201924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rot="14289600">
            <a:off x="4914720" y="224784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rot="8889600">
            <a:off x="4875480" y="91440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rot="8889600">
            <a:off x="5332680" y="114300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rot="3716400">
            <a:off x="3771720" y="951840"/>
            <a:ext cx="1522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rot="3716400">
            <a:off x="3390120" y="1142640"/>
            <a:ext cx="152640" cy="7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581280" y="2895480"/>
            <a:ext cx="1676520" cy="685800"/>
            <a:chOff x="3581280" y="2895480"/>
            <a:chExt cx="1676520" cy="685800"/>
          </a:xfrm>
        </p:grpSpPr>
        <p:sp>
          <p:nvSpPr>
            <p:cNvPr id="288" name=""/>
            <p:cNvSpPr/>
            <p:nvPr/>
          </p:nvSpPr>
          <p:spPr>
            <a:xfrm>
              <a:off x="3581280" y="2895480"/>
              <a:ext cx="1676520" cy="68580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6200" y="30477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0" name="27" descr=""/>
          <p:cNvPicPr/>
          <p:nvPr/>
        </p:nvPicPr>
        <p:blipFill>
          <a:blip r:embed="rId3"/>
          <a:stretch/>
        </p:blipFill>
        <p:spPr>
          <a:xfrm>
            <a:off x="228600" y="2724120"/>
            <a:ext cx="2057400" cy="2457360"/>
          </a:xfrm>
          <a:prstGeom prst="rect">
            <a:avLst/>
          </a:prstGeom>
          <a:ln w="0">
            <a:noFill/>
          </a:ln>
        </p:spPr>
      </p:pic>
      <p:pic>
        <p:nvPicPr>
          <p:cNvPr id="291" name="45" descr=""/>
          <p:cNvPicPr/>
          <p:nvPr/>
        </p:nvPicPr>
        <p:blipFill>
          <a:blip r:embed="rId4"/>
          <a:stretch/>
        </p:blipFill>
        <p:spPr>
          <a:xfrm>
            <a:off x="1447920" y="4861080"/>
            <a:ext cx="541800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03:25:43Z</dcterms:created>
  <dc:creator>ww</dc:creator>
  <dc:description/>
  <dc:language>en-US</dc:language>
  <cp:lastModifiedBy>fd</cp:lastModifiedBy>
  <dcterms:modified xsi:type="dcterms:W3CDTF">2001-12-05T09:55:56Z</dcterms:modified>
  <cp:revision>27</cp:revision>
  <dc:subject/>
  <dc:title>PowerPoint 演示文稿</dc:title>
</cp:coreProperties>
</file>