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37B-E0A9-4B60-8067-E28D9C45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B9E-C2E6-4FC8-B78F-94AB836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927-B38A-4F42-983C-75FBE6C8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F95-164A-4F93-A2B4-1F0EC5A5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B78-C9BD-4246-85D5-AA97B6D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2A3-435A-413B-9CA5-BF159BA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E1D-498D-468B-8A76-9C4ACB7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355-577F-4F1D-B14D-3F65502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085-E8A2-4635-BB88-DAA8E2A8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5C1-2359-4DE9-9961-7D0FC0E0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D8B-632B-4B8A-8BD7-2ADB115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CD5-081A-4868-93D5-A2947FF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0C8-8592-4EBE-8A87-599FCC5C72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29528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0257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27432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3429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295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011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2760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3444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9240" y="41148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97440" y="482904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0160" y="4132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0160" y="4844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32520" y="925560"/>
            <a:ext cx="2364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　）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72960" y="914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72960" y="1803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2960" y="2604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49200" y="351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296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72960" y="51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905120" y="2590920"/>
            <a:ext cx="5105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十 几 减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5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、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4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、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3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、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1066680"/>
            <a:ext cx="9144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632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- 5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940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怎样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9400" y="452268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904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056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4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984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怎样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5200" y="45226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328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10080" y="2330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5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3160" y="2330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92800" y="350532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4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3160" y="3505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0960" y="46483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3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3680" y="4648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219320"/>
            <a:ext cx="1918800" cy="494640"/>
            <a:chOff x="1143000" y="1219320"/>
            <a:chExt cx="1918800" cy="494640"/>
          </a:xfrm>
        </p:grpSpPr>
        <p:sp>
          <p:nvSpPr>
            <p:cNvPr id="77" name=""/>
            <p:cNvSpPr/>
            <p:nvPr/>
          </p:nvSpPr>
          <p:spPr>
            <a:xfrm>
              <a:off x="1143000" y="1219320"/>
              <a:ext cx="838080" cy="457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6160" y="1254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做一做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248160" cy="293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6238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57400" y="62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21000" y="811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2760" y="13096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1280" y="4394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7800" y="43117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0040" y="439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6720" y="439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1680" y="439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8200" y="42670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0440" y="443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07120" y="443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5740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1000" y="7970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73600" y="14479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96800" y="299232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9960" y="29718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0520" y="3003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47840" y="2209680"/>
            <a:ext cx="18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2080" y="22096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06200" y="22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44600" y="22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60440" y="3003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5240" y="3003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1760" y="22096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49600" y="22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9600" y="3003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96800" y="38242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30520" y="38098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38098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96800" y="45864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30520" y="4572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0200" y="4572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9960" y="38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6200" y="4572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63680" y="38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63680" y="45864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73360" y="38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572000"/>
            <a:ext cx="685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05740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1000" y="7970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600" y="14479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练习三" descr=""/>
          <p:cNvPicPr/>
          <p:nvPr/>
        </p:nvPicPr>
        <p:blipFill>
          <a:blip r:embed="rId2"/>
          <a:stretch/>
        </p:blipFill>
        <p:spPr>
          <a:xfrm>
            <a:off x="1523880" y="1506600"/>
            <a:ext cx="6248520" cy="341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24000" y="262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4000" y="3382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048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yanjunxia</cp:lastModifiedBy>
  <dcterms:modified xsi:type="dcterms:W3CDTF">2003-02-25T06:10:03Z</dcterms:modified>
  <cp:revision>186</cp:revision>
  <dc:subject/>
  <dc:title>PowerPoint 演示文稿</dc:title>
</cp:coreProperties>
</file>