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2D8-5D46-4E17-BB25-A1341D0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953-1C48-40F7-A2EF-CEBF2A0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415-74B8-410A-8FDC-28AC62B4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6FF-B4E8-4DFB-B6DD-2812556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4AE-9D84-47D7-8BF2-30499D7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DE-1440-4BD1-8881-3BBC1D6E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A76-90EE-4A14-876D-F48B22C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DFD-A3DA-4623-8B08-8B49574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94D-E4A6-4291-9290-6251F384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9E9-ED9C-4CA2-B100-9C94D29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7A6-D42F-4EC7-96C9-DF065C3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D89-5A38-42FC-8CF7-5FD82C2B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6E32-E77A-4FB9-907C-575D913BF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8240" y="838080"/>
            <a:ext cx="706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口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　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8560" y="3124080"/>
            <a:ext cx="59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（    ）里应填几（出示投影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      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3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4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6068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8880" y="156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2136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4216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60680" y="229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888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1828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7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740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8320" y="460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3740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606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3740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98760" y="606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05120" y="2209680"/>
            <a:ext cx="5486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十 几 减 </a:t>
            </a: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6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066680"/>
            <a:ext cx="990360" cy="6098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7720" y="184788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1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3040" y="184788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7560" y="2919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3760" y="3809880"/>
            <a:ext cx="20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6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加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得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30040" y="18399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440" y="29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怎样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440" y="3824280"/>
            <a:ext cx="20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6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加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7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得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06760" y="185904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066680"/>
            <a:ext cx="990360" cy="6098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02880" y="222876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2880" y="3429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5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0" y="222084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6600" y="34401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94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2880" y="4572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4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6600" y="45831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3520" y="609480"/>
            <a:ext cx="1523160" cy="533160"/>
            <a:chOff x="533520" y="609480"/>
            <a:chExt cx="1523160" cy="533160"/>
          </a:xfrm>
        </p:grpSpPr>
        <p:sp>
          <p:nvSpPr>
            <p:cNvPr id="76" name=""/>
            <p:cNvSpPr/>
            <p:nvPr/>
          </p:nvSpPr>
          <p:spPr>
            <a:xfrm>
              <a:off x="533520" y="609480"/>
              <a:ext cx="101556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1536120" y="622080"/>
              <a:ext cx="533160" cy="507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3360" y="828000"/>
              <a:ext cx="8424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15680" y="1666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83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5 复制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4678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609480"/>
            <a:ext cx="1523160" cy="533160"/>
            <a:chOff x="533520" y="609480"/>
            <a:chExt cx="1523160" cy="533160"/>
          </a:xfrm>
        </p:grpSpPr>
        <p:sp>
          <p:nvSpPr>
            <p:cNvPr id="83" name=""/>
            <p:cNvSpPr/>
            <p:nvPr/>
          </p:nvSpPr>
          <p:spPr>
            <a:xfrm>
              <a:off x="533520" y="609480"/>
              <a:ext cx="101556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1536120" y="622080"/>
              <a:ext cx="533160" cy="507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3360" y="828000"/>
              <a:ext cx="8424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15680" y="18414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83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0520" y="1878120"/>
            <a:ext cx="49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 + 5 =     6 + 8 =     6 +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1 – 6 =    14 – 6 =    12 – 6 =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5680" y="3867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3200" y="3884760"/>
            <a:ext cx="61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 + □ = 13    6 + □ = 15    6 + □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3 – 6 = □    15 – 6 = □    16 – 6 = □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6:41:04Z</dcterms:created>
  <dc:creator>ww</dc:creator>
  <dc:description/>
  <dc:language>en-US</dc:language>
  <cp:lastModifiedBy>ccw</cp:lastModifiedBy>
  <dcterms:modified xsi:type="dcterms:W3CDTF">2004-03-09T10:01:04Z</dcterms:modified>
  <cp:revision>48</cp:revision>
  <dc:subject/>
  <dc:title>PowerPoint 演示文稿</dc:title>
</cp:coreProperties>
</file>