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E70-5193-4199-8821-273DF4B3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78F-CD2C-4F0A-B5B3-189E9769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47A-36BE-4585-A6CA-51E4EBF5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A59-F4D4-465A-A49F-B0360920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73F-3EB2-49EE-BF21-4DA8F70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D8E-3305-451B-BE80-72B80DBF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02E-E33A-4B6C-8AE7-BEEE0BAE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88E-B33C-4356-BEB7-667D58C9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DAA-211C-454F-9469-3804E61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00E-0580-4407-B6B0-AA5986C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4DF-1718-4EFE-BE62-EDE83B1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409-B9C2-43FD-B663-8ED90C5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77F-235B-4503-BBF9-656C25AF22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89640" y="37018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–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89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8320" y="5060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5720" y="4971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0120" y="366696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2362320" y="1455840"/>
            <a:ext cx="46479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1066680"/>
            <a:ext cx="9144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632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01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5480" y="3637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240" y="35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904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1056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900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5880" y="46274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3640" y="458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328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10080" y="2330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3160" y="2330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505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3160" y="3505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0960" y="4648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03680" y="4648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43000" y="1219320"/>
            <a:ext cx="1918800" cy="494640"/>
            <a:chOff x="1143000" y="1219320"/>
            <a:chExt cx="1918800" cy="494640"/>
          </a:xfrm>
        </p:grpSpPr>
        <p:sp>
          <p:nvSpPr>
            <p:cNvPr id="75" name=""/>
            <p:cNvSpPr/>
            <p:nvPr/>
          </p:nvSpPr>
          <p:spPr>
            <a:xfrm>
              <a:off x="1143000" y="121932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6160" y="1254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3600" y="12193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7840" y="261144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212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6800" y="259092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9440" y="2622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1828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2584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352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104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6760" y="2622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63160" y="2622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5956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3476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70120" y="2622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63040" y="40528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5720" y="40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6440" y="40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9240" y="48150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0320" y="48006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–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15800" y="48006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0400" y="40528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848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30080" y="4038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68520" y="4815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7560" y="4038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815000"/>
            <a:ext cx="43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0:51Z</dcterms:modified>
  <cp:revision>145</cp:revision>
  <dc:subject/>
  <dc:title>PowerPoint 演示文稿</dc:title>
</cp:coreProperties>
</file>