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0F6A-2574-42D7-A3A3-4508577FE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EE13-B0E7-488C-92B8-E147568B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CB24-171F-4735-BF9E-168BA59CD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C99B-EFB3-434C-BA08-BEB840E81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147F-2455-4573-A72E-680C6941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7481-8F1D-4D26-8A34-0DE8E876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24FF-F726-401B-8405-7891C108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48F4-7570-44A0-9B02-45E8BE54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24DE-96C3-4534-BBC7-4EB141AA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1951-A3C2-4FE6-9373-AD10F1EC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A807-EBAA-42F6-B1B4-360F2BB0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D0F2-58FB-4EAD-B5CD-BC98185E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3598-ABF4-49C4-9D5E-99C65298B6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97440" y="1676520"/>
            <a:ext cx="29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8 +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   ）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=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13280" y="2496960"/>
            <a:ext cx="29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8 +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   ）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= 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15080" y="3335400"/>
            <a:ext cx="29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8 +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   ）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= 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13280" y="4219560"/>
            <a:ext cx="29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8 +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   ）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= 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44840" y="16765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56000" y="24829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56000" y="33526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56000" y="42354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043520" y="1648080"/>
            <a:ext cx="1185840" cy="422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9900"/>
                </a:solidFill>
                <a:latin typeface="隶书"/>
                <a:ea typeface="隶书"/>
              </a:rPr>
              <a:t>十几减</a:t>
            </a:r>
            <a:r>
              <a:rPr b="1" lang="en-US" sz="6600" spc="-1" strike="noStrike">
                <a:solidFill>
                  <a:srgbClr val="ff9900"/>
                </a:solidFill>
                <a:latin typeface="隶书"/>
                <a:ea typeface="隶书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19320" y="914400"/>
            <a:ext cx="83808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63000" y="3692520"/>
            <a:ext cx="18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 – 8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39560" y="4343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44360" y="475632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9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加（   ）得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55720" y="4667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99000" y="36752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68760" y="5410080"/>
            <a:ext cx="18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减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得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1" descr=""/>
          <p:cNvPicPr/>
          <p:nvPr/>
        </p:nvPicPr>
        <p:blipFill>
          <a:blip r:embed="rId2"/>
          <a:stretch/>
        </p:blipFill>
        <p:spPr>
          <a:xfrm>
            <a:off x="2438280" y="914400"/>
            <a:ext cx="487692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19320" y="914400"/>
            <a:ext cx="83808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86320" y="347328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 - 8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90160" y="4495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91520" y="455148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加（   ）得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03240" y="4510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59040" y="3473280"/>
            <a:ext cx="442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10560" y="347328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5 - 8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39760" y="4495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52560" y="455148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加（   ）得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64280" y="4510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83280" y="3473280"/>
            <a:ext cx="442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33720" y="990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摆一摆，算一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2" descr=""/>
          <p:cNvPicPr/>
          <p:nvPr/>
        </p:nvPicPr>
        <p:blipFill>
          <a:blip r:embed="rId2"/>
          <a:srcRect l="0" t="0" r="57964" b="0"/>
          <a:stretch/>
        </p:blipFill>
        <p:spPr>
          <a:xfrm>
            <a:off x="1600200" y="1751040"/>
            <a:ext cx="2666880" cy="1292040"/>
          </a:xfrm>
          <a:prstGeom prst="rect">
            <a:avLst/>
          </a:prstGeom>
          <a:ln w="0">
            <a:noFill/>
          </a:ln>
        </p:spPr>
      </p:pic>
      <p:pic>
        <p:nvPicPr>
          <p:cNvPr id="71" name="2" descr=""/>
          <p:cNvPicPr/>
          <p:nvPr/>
        </p:nvPicPr>
        <p:blipFill>
          <a:blip r:embed="rId3"/>
          <a:srcRect l="54003" t="0" r="0" b="0"/>
          <a:stretch/>
        </p:blipFill>
        <p:spPr>
          <a:xfrm>
            <a:off x="4572000" y="1739880"/>
            <a:ext cx="320040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43000" y="838080"/>
            <a:ext cx="83808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06720" y="150660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 - 8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47360" y="2452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72760" y="249408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加（   ）得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84480" y="2452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79800" y="1506600"/>
            <a:ext cx="442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31160" y="150660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6 - 8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47760" y="2452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73160" y="249408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加（   ）得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84880" y="2452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03880" y="1506600"/>
            <a:ext cx="442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06720" y="446400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 - 8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79800" y="4464000"/>
            <a:ext cx="442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1160" y="446400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7 - 8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103880" y="4464000"/>
            <a:ext cx="442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143000" y="3546360"/>
            <a:ext cx="1919160" cy="494640"/>
            <a:chOff x="1143000" y="3546360"/>
            <a:chExt cx="1919160" cy="494640"/>
          </a:xfrm>
        </p:grpSpPr>
        <p:sp>
          <p:nvSpPr>
            <p:cNvPr id="88" name=""/>
            <p:cNvSpPr/>
            <p:nvPr/>
          </p:nvSpPr>
          <p:spPr>
            <a:xfrm>
              <a:off x="1143000" y="3546360"/>
              <a:ext cx="838080" cy="4572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576520" y="35812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想一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95280" y="685800"/>
            <a:ext cx="9144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做一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2209680" y="6858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73280" y="873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68720" y="121932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93520" y="3352680"/>
            <a:ext cx="241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□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○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□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=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70240" y="3352680"/>
            <a:ext cx="241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□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○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□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=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04280" y="41911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２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420516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8 + 5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420516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8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＋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489096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 – 8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489096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 – 8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3" descr=""/>
          <p:cNvPicPr/>
          <p:nvPr/>
        </p:nvPicPr>
        <p:blipFill>
          <a:blip r:embed="rId2"/>
          <a:stretch/>
        </p:blipFill>
        <p:spPr>
          <a:xfrm>
            <a:off x="1752480" y="1523880"/>
            <a:ext cx="5867640" cy="1676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791320" y="420516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8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＋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489096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5 – 8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95960" y="3443400"/>
            <a:ext cx="586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81040" y="3332160"/>
            <a:ext cx="328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82520" y="342900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4840" y="342900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70240" y="3352680"/>
            <a:ext cx="241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□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○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□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=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72680" y="3443400"/>
            <a:ext cx="586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57760" y="3332160"/>
            <a:ext cx="328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58880" y="342900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81200" y="342900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67560" y="42051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85440" y="42051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39880" y="42051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87080" y="48769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20800" y="48909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225920" y="48909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19320" y="914400"/>
            <a:ext cx="83808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86320" y="415908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0 - 3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83880" y="4159080"/>
            <a:ext cx="56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7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36120" y="415908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 - □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7320" y="4159080"/>
            <a:ext cx="442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4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6210360" cy="1905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034040" y="4159080"/>
            <a:ext cx="7048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1447920" y="1143000"/>
            <a:ext cx="1675080" cy="533160"/>
            <a:chOff x="1447920" y="1143000"/>
            <a:chExt cx="1675080" cy="533160"/>
          </a:xfrm>
        </p:grpSpPr>
        <p:sp>
          <p:nvSpPr>
            <p:cNvPr id="127" name=""/>
            <p:cNvSpPr/>
            <p:nvPr/>
          </p:nvSpPr>
          <p:spPr>
            <a:xfrm>
              <a:off x="1447920" y="1143000"/>
              <a:ext cx="1117080" cy="5331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做一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5400000">
              <a:off x="2577240" y="1130400"/>
              <a:ext cx="533160" cy="55836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08880" y="1361160"/>
              <a:ext cx="9324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0" name="6" descr=""/>
          <p:cNvPicPr/>
          <p:nvPr/>
        </p:nvPicPr>
        <p:blipFill>
          <a:blip r:embed="rId2"/>
          <a:stretch/>
        </p:blipFill>
        <p:spPr>
          <a:xfrm>
            <a:off x="1333440" y="2611440"/>
            <a:ext cx="6286680" cy="1635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575320" y="320040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7680" y="3276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32680" y="3276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8T03:58:23Z</dcterms:created>
  <dc:creator>ww</dc:creator>
  <dc:description/>
  <dc:language>en-US</dc:language>
  <cp:lastModifiedBy>ccw</cp:lastModifiedBy>
  <dcterms:modified xsi:type="dcterms:W3CDTF">2004-03-09T09:55:17Z</dcterms:modified>
  <cp:revision>92</cp:revision>
  <dc:subject/>
  <dc:title>PowerPoint 演示文稿</dc:title>
</cp:coreProperties>
</file>