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5BB-5731-494E-8A5A-7B28E209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2ED-A66B-4911-8586-5EDF1A7A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E75-5605-490C-9AF3-73E2BC9E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BA5-14B2-4EEC-9F77-6F50BDF6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520-311C-4CDF-AEC8-CF9494B1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DCD-D8EC-4CBF-80F5-8E23A4BD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BDC-D597-4BE0-BF1E-71465F49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648-204C-4471-B51D-70D421EE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1C3-7459-413D-919B-A4D3D558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E0A-3D5C-435E-B3D1-30CDAD8F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7DF-0B3C-473E-B732-2E067F9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1AF-CE66-4BBB-8C09-F939345B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6DF-EF23-4205-819B-46DC39D97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440" y="16765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3280" y="24969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5080" y="33354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3280" y="42195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1676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4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35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4235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43520" y="164808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"/>
          <p:cNvPicPr/>
          <p:nvPr/>
        </p:nvPicPr>
        <p:blipFill>
          <a:blip r:embed="rId2"/>
          <a:srcRect l="0" t="0" r="52445" b="0"/>
          <a:stretch/>
        </p:blipFill>
        <p:spPr>
          <a:xfrm>
            <a:off x="1371600" y="1752480"/>
            <a:ext cx="2971800" cy="129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73000" y="346392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2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7240" y="34639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638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68240" y="45277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1" descr=""/>
          <p:cNvPicPr/>
          <p:nvPr/>
        </p:nvPicPr>
        <p:blipFill>
          <a:blip r:embed="rId3"/>
          <a:srcRect l="50004" t="0" r="0" b="0"/>
          <a:stretch/>
        </p:blipFill>
        <p:spPr>
          <a:xfrm>
            <a:off x="4343400" y="1812960"/>
            <a:ext cx="3505320" cy="1235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79600" y="4438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22880" y="344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92640" y="518148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6320" y="30481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52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8320" y="42991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4004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9040" y="30481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90160" y="4952880"/>
            <a:ext cx="18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2" descr=""/>
          <p:cNvPicPr/>
          <p:nvPr/>
        </p:nvPicPr>
        <p:blipFill>
          <a:blip r:embed="rId2"/>
          <a:srcRect l="0" t="0" r="55341" b="0"/>
          <a:stretch/>
        </p:blipFill>
        <p:spPr>
          <a:xfrm>
            <a:off x="1382760" y="1523880"/>
            <a:ext cx="3265560" cy="1301760"/>
          </a:xfrm>
          <a:prstGeom prst="rect">
            <a:avLst/>
          </a:prstGeom>
          <a:ln w="0">
            <a:noFill/>
          </a:ln>
        </p:spPr>
      </p:pic>
      <p:pic>
        <p:nvPicPr>
          <p:cNvPr id="68" name="2" descr=""/>
          <p:cNvPicPr/>
          <p:nvPr/>
        </p:nvPicPr>
        <p:blipFill>
          <a:blip r:embed="rId3"/>
          <a:srcRect l="50004" t="0" r="0" b="0"/>
          <a:stretch/>
        </p:blipFill>
        <p:spPr>
          <a:xfrm>
            <a:off x="4495680" y="1523880"/>
            <a:ext cx="3200400" cy="129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01800" y="492912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0560" y="30481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776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52560" y="42991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428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83280" y="30481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4400" y="4952880"/>
            <a:ext cx="18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29280" y="492444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86320" y="33210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5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8320" y="4780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0040" y="47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9040" y="33210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10560" y="33210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776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52560" y="4780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4280" y="47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83280" y="33210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3" descr=""/>
          <p:cNvPicPr/>
          <p:nvPr/>
        </p:nvPicPr>
        <p:blipFill>
          <a:blip r:embed="rId2"/>
          <a:srcRect l="0" t="0" r="48001" b="0"/>
          <a:stretch/>
        </p:blipFill>
        <p:spPr>
          <a:xfrm>
            <a:off x="1143000" y="1643040"/>
            <a:ext cx="3429000" cy="1557360"/>
          </a:xfrm>
          <a:prstGeom prst="rect">
            <a:avLst/>
          </a:prstGeom>
          <a:ln w="0">
            <a:noFill/>
          </a:ln>
        </p:spPr>
      </p:pic>
      <p:pic>
        <p:nvPicPr>
          <p:cNvPr id="89" name="3" descr=""/>
          <p:cNvPicPr/>
          <p:nvPr/>
        </p:nvPicPr>
        <p:blipFill>
          <a:blip r:embed="rId3"/>
          <a:srcRect l="56671" t="0" r="0" b="0"/>
          <a:stretch/>
        </p:blipFill>
        <p:spPr>
          <a:xfrm>
            <a:off x="4648320" y="1660680"/>
            <a:ext cx="304776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86320" y="17208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52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28320" y="3179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0040" y="31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9040" y="17208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10560" y="17208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7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776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52560" y="3179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64280" y="31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3280" y="17208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0360" y="40831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7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2360" y="55418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4080" y="5500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3080" y="40831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68580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209680" y="685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3280" y="873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08720" y="3657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68720" y="1219320"/>
            <a:ext cx="6251400" cy="2971080"/>
            <a:chOff x="1368720" y="1219320"/>
            <a:chExt cx="6251400" cy="2971080"/>
          </a:xfrm>
        </p:grpSpPr>
        <p:sp>
          <p:nvSpPr>
            <p:cNvPr id="111" name=""/>
            <p:cNvSpPr/>
            <p:nvPr/>
          </p:nvSpPr>
          <p:spPr>
            <a:xfrm>
              <a:off x="1368720" y="121932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4" descr=""/>
            <p:cNvPicPr/>
            <p:nvPr/>
          </p:nvPicPr>
          <p:blipFill>
            <a:blip r:embed="rId2"/>
            <a:stretch/>
          </p:blipFill>
          <p:spPr>
            <a:xfrm>
              <a:off x="1523880" y="1604880"/>
              <a:ext cx="6096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929600" y="2986200"/>
              <a:ext cx="181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4 - 9 = 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18760" y="3679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想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09240" y="372096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加（   ）得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8880" y="2995560"/>
              <a:ext cx="199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５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- 9 = 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1800" y="3689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想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920" y="373068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加（   ）得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161400" y="3666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7200" y="297180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04280" y="4419720"/>
            <a:ext cx="6468120" cy="1220400"/>
            <a:chOff x="1304280" y="4419720"/>
            <a:chExt cx="6468120" cy="1220400"/>
          </a:xfrm>
        </p:grpSpPr>
        <p:sp>
          <p:nvSpPr>
            <p:cNvPr id="122" name=""/>
            <p:cNvSpPr/>
            <p:nvPr/>
          </p:nvSpPr>
          <p:spPr>
            <a:xfrm>
              <a:off x="1304280" y="441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２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800" y="44337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9 +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   ）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=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9200" y="44337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＋（   ）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=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51195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3 – 9 =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51195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6 – 9 =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40040" y="4441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41960" y="445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7360" y="512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3240" y="512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0160" y="296244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10:01:40Z</dcterms:modified>
  <cp:revision>63</cp:revision>
  <dc:subject/>
  <dc:title>PowerPoint 演示文稿</dc:title>
</cp:coreProperties>
</file>