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566-39A6-4621-AE32-63BB08AC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FEC-7819-4E3F-AE05-9DB883C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FCC-85DE-44EF-A901-2047FD96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502-A5DB-4158-A521-AEBFA537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CFC-A32E-4D67-AD22-DFD685D9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FC1-81EF-4DDF-B032-B3D08AA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B57-EF6E-40E8-BAF2-C638F0A2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85A-C45E-4716-8189-9C93ACBF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D15-48E6-4E27-B997-D5B4AA37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47A-4B5A-443E-AD4A-2669A28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C40-F4D8-470D-B102-449BA25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D78-2B3A-4360-9A83-9E905E1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8051-0D8C-42CF-8206-D3791C1ED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82880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以内的退位减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038480"/>
            <a:ext cx="373392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148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600" y="4038480"/>
            <a:ext cx="37339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038480"/>
            <a:ext cx="373392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41148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1040" y="4051080"/>
            <a:ext cx="3747240" cy="203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1148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不同的四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114800"/>
            <a:ext cx="3581640" cy="1981080"/>
          </a:xfrm>
          <a:prstGeom prst="parallelogram">
            <a:avLst>
              <a:gd name="adj" fmla="val 45198"/>
            </a:avLst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99840" y="4114800"/>
            <a:ext cx="152388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228600"/>
            <a:ext cx="2210040" cy="1099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复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905120"/>
            <a:ext cx="4191120" cy="1191240"/>
            <a:chOff x="457200" y="1905120"/>
            <a:chExt cx="4191120" cy="1191240"/>
          </a:xfrm>
        </p:grpSpPr>
        <p:sp>
          <p:nvSpPr>
            <p:cNvPr id="44" name=""/>
            <p:cNvSpPr/>
            <p:nvPr/>
          </p:nvSpPr>
          <p:spPr>
            <a:xfrm>
              <a:off x="457200" y="190512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1440" y="2133720"/>
              <a:ext cx="761760" cy="762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840" y="19051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=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648320" y="1905120"/>
            <a:ext cx="3809520" cy="1191240"/>
            <a:chOff x="4648320" y="1905120"/>
            <a:chExt cx="3809520" cy="1191240"/>
          </a:xfrm>
        </p:grpSpPr>
        <p:sp>
          <p:nvSpPr>
            <p:cNvPr id="48" name=""/>
            <p:cNvSpPr/>
            <p:nvPr/>
          </p:nvSpPr>
          <p:spPr>
            <a:xfrm>
              <a:off x="4648320" y="19051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96080" y="2133720"/>
              <a:ext cx="761760" cy="7617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81680" y="1905120"/>
              <a:ext cx="68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343400" y="4038480"/>
            <a:ext cx="762120" cy="762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0" y="2971800"/>
            <a:ext cx="5791320" cy="1523880"/>
            <a:chOff x="2286000" y="2971800"/>
            <a:chExt cx="5791320" cy="1523880"/>
          </a:xfrm>
        </p:grpSpPr>
        <p:sp>
          <p:nvSpPr>
            <p:cNvPr id="53" name=""/>
            <p:cNvSpPr/>
            <p:nvPr/>
          </p:nvSpPr>
          <p:spPr>
            <a:xfrm>
              <a:off x="228600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0" y="4495680"/>
              <a:ext cx="20574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4495680"/>
              <a:ext cx="28958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057400" y="1905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190512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38098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04%5B2%5D" descr=""/>
          <p:cNvPicPr/>
          <p:nvPr/>
        </p:nvPicPr>
        <p:blipFill>
          <a:blip r:embed="rId1">
            <a:lum contrast="72000"/>
          </a:blip>
          <a:srcRect l="7196" t="7801" r="0" b="0"/>
          <a:stretch/>
        </p:blipFill>
        <p:spPr>
          <a:xfrm>
            <a:off x="6095880" y="175248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30492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看图理解图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04%5B1%5D" descr=""/>
          <p:cNvPicPr/>
          <p:nvPr/>
        </p:nvPicPr>
        <p:blipFill>
          <a:blip r:embed="rId2">
            <a:lum contrast="60000"/>
          </a:blip>
          <a:srcRect l="7537" t="0" r="0" b="0"/>
          <a:stretch/>
        </p:blipFill>
        <p:spPr>
          <a:xfrm>
            <a:off x="1981080" y="16765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3" name="004%5B1%5D" descr=""/>
          <p:cNvPicPr/>
          <p:nvPr/>
        </p:nvPicPr>
        <p:blipFill>
          <a:blip r:embed="rId3">
            <a:lum contrast="60000"/>
          </a:blip>
          <a:srcRect l="7537" t="0" r="0" b="0"/>
          <a:stretch/>
        </p:blipFill>
        <p:spPr>
          <a:xfrm>
            <a:off x="533520" y="16765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4" name="004%5B1%5D" descr=""/>
          <p:cNvPicPr/>
          <p:nvPr/>
        </p:nvPicPr>
        <p:blipFill>
          <a:blip r:embed="rId4">
            <a:lum contrast="60000"/>
          </a:blip>
          <a:srcRect l="7537" t="0" r="0" b="0"/>
          <a:stretch/>
        </p:blipFill>
        <p:spPr>
          <a:xfrm>
            <a:off x="3429000" y="3276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004%5B1%5D" descr=""/>
          <p:cNvPicPr/>
          <p:nvPr/>
        </p:nvPicPr>
        <p:blipFill>
          <a:blip r:embed="rId5">
            <a:lum contrast="60000"/>
          </a:blip>
          <a:srcRect l="7537" t="0" r="0" b="0"/>
          <a:stretch/>
        </p:blipFill>
        <p:spPr>
          <a:xfrm>
            <a:off x="1981080" y="3276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66" name="004%5B1%5D" descr=""/>
          <p:cNvPicPr/>
          <p:nvPr/>
        </p:nvPicPr>
        <p:blipFill>
          <a:blip r:embed="rId6">
            <a:lum contrast="60000"/>
          </a:blip>
          <a:srcRect l="7537" t="0" r="0" b="0"/>
          <a:stretch/>
        </p:blipFill>
        <p:spPr>
          <a:xfrm>
            <a:off x="457200" y="3276720"/>
            <a:ext cx="1266840" cy="1447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4114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</a:rPr>
              <a:t>？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572000" y="2133720"/>
            <a:ext cx="457200" cy="6705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74600 h 6705360"/>
              <a:gd name="textAreaBottom" fmla="*/ 653076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75928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13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1905120"/>
            <a:ext cx="4191120" cy="1191240"/>
            <a:chOff x="457200" y="1905120"/>
            <a:chExt cx="4191120" cy="1191240"/>
          </a:xfrm>
        </p:grpSpPr>
        <p:sp>
          <p:nvSpPr>
            <p:cNvPr id="71" name=""/>
            <p:cNvSpPr/>
            <p:nvPr/>
          </p:nvSpPr>
          <p:spPr>
            <a:xfrm>
              <a:off x="457200" y="190512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440" y="2133720"/>
              <a:ext cx="761760" cy="762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5840" y="19051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</a:rPr>
                <a:t>=1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0" y="1905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057400"/>
            <a:ext cx="7621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4038480"/>
            <a:ext cx="762120" cy="762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6000" y="2971800"/>
            <a:ext cx="5791320" cy="1523880"/>
            <a:chOff x="2286000" y="2971800"/>
            <a:chExt cx="5791320" cy="1523880"/>
          </a:xfrm>
        </p:grpSpPr>
        <p:sp>
          <p:nvSpPr>
            <p:cNvPr id="79" name=""/>
            <p:cNvSpPr/>
            <p:nvPr/>
          </p:nvSpPr>
          <p:spPr>
            <a:xfrm>
              <a:off x="228600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4495680"/>
              <a:ext cx="20574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4495680"/>
              <a:ext cx="28958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2971800"/>
              <a:ext cx="0" cy="1523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057400" y="1905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18288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8098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5334120" cy="41907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蝴蝶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蝴蝶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蝴蝶" descr=""/>
          <p:cNvPicPr/>
          <p:nvPr/>
        </p:nvPicPr>
        <p:blipFill>
          <a:blip r:embed="rId3"/>
          <a:stretch/>
        </p:blipFill>
        <p:spPr>
          <a:xfrm>
            <a:off x="28195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蝴蝶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蝴蝶" descr=""/>
          <p:cNvPicPr/>
          <p:nvPr/>
        </p:nvPicPr>
        <p:blipFill>
          <a:blip r:embed="rId5"/>
          <a:stretch/>
        </p:blipFill>
        <p:spPr>
          <a:xfrm>
            <a:off x="55627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蝴蝶" descr=""/>
          <p:cNvPicPr/>
          <p:nvPr/>
        </p:nvPicPr>
        <p:blipFill>
          <a:blip r:embed="rId6"/>
          <a:stretch/>
        </p:blipFill>
        <p:spPr>
          <a:xfrm>
            <a:off x="71629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蝴蝶" descr=""/>
          <p:cNvPicPr/>
          <p:nvPr/>
        </p:nvPicPr>
        <p:blipFill>
          <a:blip r:embed="rId7"/>
          <a:stretch/>
        </p:blipFill>
        <p:spPr>
          <a:xfrm>
            <a:off x="76212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蝴蝶" descr=""/>
          <p:cNvPicPr/>
          <p:nvPr/>
        </p:nvPicPr>
        <p:blipFill>
          <a:blip r:embed="rId8"/>
          <a:stretch/>
        </p:blipFill>
        <p:spPr>
          <a:xfrm>
            <a:off x="2438280" y="30481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蝴蝶" descr=""/>
          <p:cNvPicPr/>
          <p:nvPr/>
        </p:nvPicPr>
        <p:blipFill>
          <a:blip r:embed="rId9"/>
          <a:stretch/>
        </p:blipFill>
        <p:spPr>
          <a:xfrm>
            <a:off x="38862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蝴蝶" descr=""/>
          <p:cNvPicPr/>
          <p:nvPr/>
        </p:nvPicPr>
        <p:blipFill>
          <a:blip r:embed="rId10"/>
          <a:stretch/>
        </p:blipFill>
        <p:spPr>
          <a:xfrm>
            <a:off x="533412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蝴蝶" descr=""/>
          <p:cNvPicPr/>
          <p:nvPr/>
        </p:nvPicPr>
        <p:blipFill>
          <a:blip r:embed="rId11"/>
          <a:stretch/>
        </p:blipFill>
        <p:spPr>
          <a:xfrm>
            <a:off x="66294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蝴蝶" descr=""/>
          <p:cNvPicPr/>
          <p:nvPr/>
        </p:nvPicPr>
        <p:blipFill>
          <a:blip r:embed="rId12"/>
          <a:stretch/>
        </p:blipFill>
        <p:spPr>
          <a:xfrm>
            <a:off x="7696080" y="30481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14400" y="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试一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5105520"/>
            <a:ext cx="3200400" cy="916920"/>
            <a:chOff x="304920" y="5105520"/>
            <a:chExt cx="3200400" cy="916920"/>
          </a:xfrm>
        </p:grpSpPr>
        <p:sp>
          <p:nvSpPr>
            <p:cNvPr id="103" name=""/>
            <p:cNvSpPr/>
            <p:nvPr/>
          </p:nvSpPr>
          <p:spPr>
            <a:xfrm>
              <a:off x="304920" y="5105520"/>
              <a:ext cx="2666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7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5257800"/>
              <a:ext cx="83844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1480" y="4419720"/>
            <a:ext cx="3200400" cy="2057400"/>
            <a:chOff x="5181480" y="4419720"/>
            <a:chExt cx="3200400" cy="2057400"/>
          </a:xfrm>
        </p:grpSpPr>
        <p:sp>
          <p:nvSpPr>
            <p:cNvPr id="106" name=""/>
            <p:cNvSpPr/>
            <p:nvPr/>
          </p:nvSpPr>
          <p:spPr>
            <a:xfrm>
              <a:off x="5181480" y="4419720"/>
              <a:ext cx="3200400" cy="2057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4120" y="4876920"/>
              <a:ext cx="2819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想：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＋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5=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2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7=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19520" y="52578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04920"/>
            <a:ext cx="281952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004%5B3%5D" descr=""/>
          <p:cNvPicPr/>
          <p:nvPr/>
        </p:nvPicPr>
        <p:blipFill>
          <a:blip r:embed="rId1">
            <a:lum contrast="24000"/>
          </a:blip>
          <a:srcRect l="8244" t="8346" r="5165" b="8346"/>
          <a:stretch/>
        </p:blipFill>
        <p:spPr>
          <a:xfrm>
            <a:off x="380880" y="1371600"/>
            <a:ext cx="8001000" cy="3421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24080" y="533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理解图意，再列算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76520" y="5257800"/>
            <a:ext cx="4876200" cy="951840"/>
            <a:chOff x="1676520" y="5257800"/>
            <a:chExt cx="4876200" cy="951840"/>
          </a:xfrm>
        </p:grpSpPr>
        <p:sp>
          <p:nvSpPr>
            <p:cNvPr id="113" name=""/>
            <p:cNvSpPr/>
            <p:nvPr/>
          </p:nvSpPr>
          <p:spPr>
            <a:xfrm>
              <a:off x="1676520" y="5257800"/>
              <a:ext cx="265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70920" y="5352840"/>
              <a:ext cx="997200" cy="856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0600" y="5352840"/>
              <a:ext cx="77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55520" y="5352840"/>
              <a:ext cx="997200" cy="856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0988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52578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205740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343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37720" y="4114800"/>
            <a:ext cx="20574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14800"/>
            <a:ext cx="205740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343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相同的三角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7360" y="4114800"/>
            <a:ext cx="20574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457200"/>
            <a:ext cx="6781680" cy="109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05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在每个图形上加一直线，使成为要求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114800"/>
            <a:ext cx="2057400" cy="20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4343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个不同的长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6483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02:02Z</dcterms:created>
  <dc:creator>ww</dc:creator>
  <dc:description/>
  <dc:language>en-US</dc:language>
  <cp:lastModifiedBy>wang</cp:lastModifiedBy>
  <dcterms:modified xsi:type="dcterms:W3CDTF">2004-01-18T06:26:31Z</dcterms:modified>
  <cp:revision>4</cp:revision>
  <dc:subject/>
  <dc:title>PowerPoint 演示文稿</dc:title>
</cp:coreProperties>
</file>