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4406-515A-420D-B471-F5991E00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FCA8-1EA9-4DF5-8FEC-2C027EC8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19E0-48D4-43CF-963F-7BAE3BBD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B31-04D0-4E1D-8182-1F498288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578-B748-4DAB-9827-AED8A523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B02-E78E-4B6C-A9A2-6C7EFD9E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A5FF-7D93-41A6-8C08-048D8F83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88F-29E7-490F-984D-9B5C8442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324-B717-45E3-AB2D-032C0069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897-EBA4-4AD3-A9F7-6B397C65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7EB-D20B-4A06-8681-658B8496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8B43-3273-49D2-9A13-4AF1D6CC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87EB-0A09-4237-A8A2-87CD42DBB5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75248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以内的退位减法练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228600"/>
            <a:ext cx="731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cc"/>
                </a:solidFill>
                <a:latin typeface="Times New Roman"/>
              </a:rPr>
              <a:t>讲一讲，算一算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010%5B1%5D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0" y="1295280"/>
            <a:ext cx="91440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28600"/>
            <a:ext cx="731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cc"/>
                </a:solidFill>
                <a:latin typeface="Times New Roman"/>
              </a:rPr>
              <a:t>讲一讲，算一算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10%5B1%5D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990720" y="1295280"/>
            <a:ext cx="6629400" cy="266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419112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问：你会写出一道加法，一道减法算式吗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6172200" cy="100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</a:rPr>
              <a:t>你是这样写的吗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362320"/>
            <a:ext cx="144756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4382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2362320"/>
            <a:ext cx="144756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251460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2362320"/>
            <a:ext cx="144792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4572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438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2438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2438280"/>
            <a:ext cx="213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457200"/>
            <a:ext cx="6172200" cy="100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</a:rPr>
              <a:t>你是这样写的吗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362320"/>
            <a:ext cx="144756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24382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362320"/>
            <a:ext cx="144756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251460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2362320"/>
            <a:ext cx="144792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572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2438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43828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2438280"/>
            <a:ext cx="213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457200"/>
            <a:ext cx="6172200" cy="100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</a:rPr>
              <a:t>你是这样写的吗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362320"/>
            <a:ext cx="144756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24382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2362320"/>
            <a:ext cx="144756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251460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2362320"/>
            <a:ext cx="144792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4572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2438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243828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438280"/>
            <a:ext cx="213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457200"/>
            <a:ext cx="6172200" cy="100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</a:rPr>
              <a:t>你是这样写的吗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362320"/>
            <a:ext cx="144756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4382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362320"/>
            <a:ext cx="144756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51460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2362320"/>
            <a:ext cx="144792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4572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2438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2438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438280"/>
            <a:ext cx="213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0"/>
            <a:ext cx="739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动动脑，想一想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2193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在       中填上适当的数，使式子符合大于和小于的要求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14300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圆片" descr=""/>
          <p:cNvPicPr/>
          <p:nvPr/>
        </p:nvPicPr>
        <p:blipFill>
          <a:blip r:embed="rId1">
            <a:lum contrast="18000"/>
          </a:blip>
          <a:srcRect l="20238" t="0" r="9537" b="10861"/>
          <a:stretch/>
        </p:blipFill>
        <p:spPr>
          <a:xfrm>
            <a:off x="1752480" y="2666880"/>
            <a:ext cx="5181840" cy="3962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5305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案有多种，只要符合要求就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27432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42670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579132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4191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43434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2120" y="0"/>
            <a:ext cx="739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动动脑，想一想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2193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在       中填上适当的数，使式子符合大于和小于的要求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114300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圆片" descr=""/>
          <p:cNvPicPr/>
          <p:nvPr/>
        </p:nvPicPr>
        <p:blipFill>
          <a:blip r:embed="rId1">
            <a:lum contrast="18000"/>
          </a:blip>
          <a:srcRect l="20238" t="0" r="9537" b="10861"/>
          <a:stretch/>
        </p:blipFill>
        <p:spPr>
          <a:xfrm>
            <a:off x="1752480" y="2666880"/>
            <a:ext cx="5181840" cy="3962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305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案有多种，只要符合要求就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28954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4419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59436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43434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419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1:07:51Z</dcterms:created>
  <dc:creator>ww</dc:creator>
  <dc:description/>
  <dc:language>en-US</dc:language>
  <cp:lastModifiedBy>wang</cp:lastModifiedBy>
  <dcterms:modified xsi:type="dcterms:W3CDTF">2004-01-18T06:27:16Z</dcterms:modified>
  <cp:revision>3</cp:revision>
  <dc:subject/>
  <dc:title>PowerPoint 演示文稿</dc:title>
</cp:coreProperties>
</file>