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FCC-3CD1-4C22-927D-9348E201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2B5-35B9-4ADC-928D-0C8F208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528-3F56-4570-B4E8-08C76D70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20D-D07F-421D-9629-BF93F7F6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258-CF37-411C-B855-F67698C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14F-0295-4650-96C6-2682C9E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6B1-B9B4-4227-AA87-FA6B2F1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9B2-D464-4AC8-86A9-A524EBD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2F7-D2B7-47B4-B51B-16AF3E12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2F4-056B-4774-9EE2-40C11E0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FAF-9060-4027-B436-39BCD4C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027-E7EA-4EDB-BAD5-54E8B157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6DD2-E7D7-4C40-85F7-B348929DF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960" y="606600"/>
            <a:ext cx="713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口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=         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   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          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          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=         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7196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632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880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61280" y="131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4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72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77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5400" y="27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71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6000" y="3546360"/>
            <a:ext cx="7701840" cy="2167920"/>
            <a:chOff x="756000" y="3546360"/>
            <a:chExt cx="7701840" cy="2167920"/>
          </a:xfrm>
        </p:grpSpPr>
        <p:pic>
          <p:nvPicPr>
            <p:cNvPr id="55" name="1" descr=""/>
            <p:cNvPicPr/>
            <p:nvPr/>
          </p:nvPicPr>
          <p:blipFill>
            <a:blip r:embed="rId1"/>
            <a:stretch/>
          </p:blipFill>
          <p:spPr>
            <a:xfrm>
              <a:off x="1318320" y="3702240"/>
              <a:ext cx="7139520" cy="20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56000" y="35463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94800" y="532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1400" y="5318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11040" y="5334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516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6440" y="533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9400" y="51800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9280" y="53085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320" y="531828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5480" y="53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08440" y="5181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8320" y="5310360"/>
            <a:ext cx="3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1000" y="53197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8080" y="8380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27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34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" descr=""/>
          <p:cNvPicPr/>
          <p:nvPr/>
        </p:nvPicPr>
        <p:blipFill>
          <a:blip r:embed="rId2"/>
          <a:stretch/>
        </p:blipFill>
        <p:spPr>
          <a:xfrm>
            <a:off x="4967280" y="2209680"/>
            <a:ext cx="387180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83040" y="14479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43520" y="1645560"/>
            <a:ext cx="1185840" cy="42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隶书"/>
                <a:ea typeface="隶书"/>
              </a:rPr>
              <a:t>十几减</a:t>
            </a:r>
            <a:r>
              <a:rPr b="1" lang="en-US" sz="66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1200" y="11430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 ，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   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共养多少只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t" descr=""/>
          <p:cNvPicPr/>
          <p:nvPr/>
        </p:nvPicPr>
        <p:blipFill>
          <a:blip r:embed="rId2"/>
          <a:stretch/>
        </p:blipFill>
        <p:spPr>
          <a:xfrm>
            <a:off x="4106880" y="990720"/>
            <a:ext cx="998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ht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722320" y="4648320"/>
            <a:ext cx="3798720" cy="534600"/>
            <a:chOff x="2722320" y="4648320"/>
            <a:chExt cx="3798720" cy="534600"/>
          </a:xfrm>
        </p:grpSpPr>
        <p:sp>
          <p:nvSpPr>
            <p:cNvPr id="82" name=""/>
            <p:cNvSpPr/>
            <p:nvPr/>
          </p:nvSpPr>
          <p:spPr>
            <a:xfrm>
              <a:off x="4725720" y="4648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680" y="468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22320" y="466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0800" y="4648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02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7480" y="4648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49520" y="5500800"/>
            <a:ext cx="1543320" cy="521640"/>
            <a:chOff x="4349520" y="5500800"/>
            <a:chExt cx="1543320" cy="521640"/>
          </a:xfrm>
        </p:grpSpPr>
        <p:sp>
          <p:nvSpPr>
            <p:cNvPr id="89" name=""/>
            <p:cNvSpPr/>
            <p:nvPr/>
          </p:nvSpPr>
          <p:spPr>
            <a:xfrm>
              <a:off x="4349520" y="556272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一共养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500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29000" y="1676520"/>
            <a:ext cx="182880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76520"/>
            <a:ext cx="16765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3440" y="20574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00400" y="2604960"/>
            <a:ext cx="998640" cy="1014480"/>
            <a:chOff x="3200400" y="2604960"/>
            <a:chExt cx="998640" cy="1014480"/>
          </a:xfrm>
        </p:grpSpPr>
        <p:pic>
          <p:nvPicPr>
            <p:cNvPr id="95" name="bt" descr=""/>
            <p:cNvPicPr/>
            <p:nvPr/>
          </p:nvPicPr>
          <p:blipFill>
            <a:blip r:embed="rId4"/>
            <a:stretch/>
          </p:blipFill>
          <p:spPr>
            <a:xfrm>
              <a:off x="3200400" y="2971800"/>
              <a:ext cx="9986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450600" y="26049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10080" y="2590920"/>
            <a:ext cx="922320" cy="992160"/>
            <a:chOff x="5410080" y="2590920"/>
            <a:chExt cx="922320" cy="992160"/>
          </a:xfrm>
        </p:grpSpPr>
        <p:pic>
          <p:nvPicPr>
            <p:cNvPr id="98" name="ht" descr=""/>
            <p:cNvPicPr/>
            <p:nvPr/>
          </p:nvPicPr>
          <p:blipFill>
            <a:blip r:embed="rId5"/>
            <a:stretch/>
          </p:blipFill>
          <p:spPr>
            <a:xfrm>
              <a:off x="5410080" y="2971800"/>
              <a:ext cx="92232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28600" y="25909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578760" y="3802320"/>
            <a:ext cx="2287800" cy="640440"/>
            <a:chOff x="3578760" y="3802320"/>
            <a:chExt cx="2287800" cy="640440"/>
          </a:xfrm>
        </p:grpSpPr>
        <p:sp>
          <p:nvSpPr>
            <p:cNvPr id="101" name=""/>
            <p:cNvSpPr/>
            <p:nvPr/>
          </p:nvSpPr>
          <p:spPr>
            <a:xfrm rot="16246200">
              <a:off x="4646160" y="2750760"/>
              <a:ext cx="152640" cy="22860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2960" y="3983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914400"/>
            <a:ext cx="83808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6880" y="1143000"/>
            <a:ext cx="37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养            和              一共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兔是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，黑兔是几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99828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ht" descr=""/>
          <p:cNvPicPr/>
          <p:nvPr/>
        </p:nvPicPr>
        <p:blipFill>
          <a:blip r:embed="rId3"/>
          <a:stretch/>
        </p:blipFill>
        <p:spPr>
          <a:xfrm>
            <a:off x="5097600" y="990720"/>
            <a:ext cx="922320" cy="610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840" y="4700520"/>
            <a:ext cx="3424320" cy="711360"/>
            <a:chOff x="2895840" y="4700520"/>
            <a:chExt cx="3424320" cy="711360"/>
          </a:xfrm>
        </p:grpSpPr>
        <p:sp>
          <p:nvSpPr>
            <p:cNvPr id="108" name=""/>
            <p:cNvSpPr/>
            <p:nvPr/>
          </p:nvSpPr>
          <p:spPr>
            <a:xfrm>
              <a:off x="4401360" y="48304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7920" y="4782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只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840" y="4819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2200" y="4700520"/>
              <a:ext cx="49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416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880" y="48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53520" y="5576760"/>
            <a:ext cx="2335680" cy="521640"/>
            <a:chOff x="3953520" y="5576760"/>
            <a:chExt cx="2335680" cy="521640"/>
          </a:xfrm>
        </p:grpSpPr>
        <p:sp>
          <p:nvSpPr>
            <p:cNvPr id="115" name=""/>
            <p:cNvSpPr/>
            <p:nvPr/>
          </p:nvSpPr>
          <p:spPr>
            <a:xfrm>
              <a:off x="3953520" y="5638680"/>
              <a:ext cx="23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口答：黑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只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99080" y="557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480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2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4382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33520" y="457200"/>
            <a:ext cx="1675080" cy="533160"/>
            <a:chOff x="533520" y="457200"/>
            <a:chExt cx="1675080" cy="533160"/>
          </a:xfrm>
        </p:grpSpPr>
        <p:sp>
          <p:nvSpPr>
            <p:cNvPr id="120" name=""/>
            <p:cNvSpPr/>
            <p:nvPr/>
          </p:nvSpPr>
          <p:spPr>
            <a:xfrm>
              <a:off x="533520" y="457200"/>
              <a:ext cx="111708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62840" y="444240"/>
              <a:ext cx="533160" cy="558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4480" y="675360"/>
              <a:ext cx="932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3320" y="990720"/>
            <a:ext cx="4741920" cy="1735560"/>
            <a:chOff x="1903320" y="990720"/>
            <a:chExt cx="4741920" cy="1735560"/>
          </a:xfrm>
        </p:grpSpPr>
        <p:grpSp>
          <p:nvGrpSpPr>
            <p:cNvPr id="124" name=""/>
            <p:cNvGrpSpPr/>
            <p:nvPr/>
          </p:nvGrpSpPr>
          <p:grpSpPr>
            <a:xfrm>
              <a:off x="1903320" y="990720"/>
              <a:ext cx="4741920" cy="1186920"/>
              <a:chOff x="1903320" y="990720"/>
              <a:chExt cx="4741920" cy="1186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903320" y="1108080"/>
                <a:ext cx="465804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小明家有７条　　　　　，８条　　　　　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　　一共有多少条金鱼？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bj" descr=""/>
              <p:cNvPicPr/>
              <p:nvPr/>
            </p:nvPicPr>
            <p:blipFill>
              <a:blip r:embed="rId2"/>
              <a:stretch/>
            </p:blipFill>
            <p:spPr>
              <a:xfrm>
                <a:off x="3521160" y="990720"/>
                <a:ext cx="114300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hj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001880"/>
                <a:ext cx="110808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2854440" y="2313000"/>
              <a:ext cx="3087360" cy="413280"/>
              <a:chOff x="2854440" y="2313000"/>
              <a:chExt cx="3087360" cy="413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854440" y="23130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2354400"/>
                <a:ext cx="30492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04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43120" y="232740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44880" y="23130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03880" y="23130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286240" y="287964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一共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金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6560" y="23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73280" y="2292480"/>
            <a:ext cx="2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41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3640" y="229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1560" y="28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8120" y="3352680"/>
            <a:ext cx="4528440" cy="1678680"/>
            <a:chOff x="1968120" y="3352680"/>
            <a:chExt cx="4528440" cy="1678680"/>
          </a:xfrm>
        </p:grpSpPr>
        <p:sp>
          <p:nvSpPr>
            <p:cNvPr id="142" name=""/>
            <p:cNvSpPr/>
            <p:nvPr/>
          </p:nvSpPr>
          <p:spPr>
            <a:xfrm>
              <a:off x="1968120" y="3470400"/>
              <a:ext cx="4528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明家有　　　　　和　　　　　一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条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白金鱼有７条，红金鱼有几条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bj" descr=""/>
            <p:cNvPicPr/>
            <p:nvPr/>
          </p:nvPicPr>
          <p:blipFill>
            <a:blip r:embed="rId4"/>
            <a:stretch/>
          </p:blipFill>
          <p:spPr>
            <a:xfrm>
              <a:off x="2971800" y="3352680"/>
              <a:ext cx="114300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hj" descr=""/>
            <p:cNvPicPr/>
            <p:nvPr/>
          </p:nvPicPr>
          <p:blipFill>
            <a:blip r:embed="rId5"/>
            <a:stretch/>
          </p:blipFill>
          <p:spPr>
            <a:xfrm>
              <a:off x="4572000" y="3352680"/>
              <a:ext cx="1108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879640" y="4618080"/>
              <a:ext cx="3812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89480" y="4618080"/>
              <a:ext cx="2468160" cy="413280"/>
              <a:chOff x="3489480" y="4618080"/>
              <a:chExt cx="2468160" cy="4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3489480" y="4659480"/>
                <a:ext cx="30456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66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9320" y="4632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61080" y="4618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9720" y="4618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条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4754160" y="5192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答：红金鱼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4520" y="4608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1840" y="4378320"/>
            <a:ext cx="2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2680" y="460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2920" y="459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0920" y="5165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03:58:23Z</dcterms:created>
  <dc:creator>ww</dc:creator>
  <dc:description/>
  <dc:language>en-US</dc:language>
  <cp:lastModifiedBy>ccw</cp:lastModifiedBy>
  <dcterms:modified xsi:type="dcterms:W3CDTF">2004-03-09T09:59:37Z</dcterms:modified>
  <cp:revision>171</cp:revision>
  <dc:subject/>
  <dc:title>PowerPoint 演示文稿</dc:title>
</cp:coreProperties>
</file>