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FA6-27B9-4FF4-B84E-1FF16724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6C4-5357-48DA-A849-1B0674AF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1F6-6494-44F5-8814-9E8CF64D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E73-67A3-45FC-B6A0-8916494C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55D-6E2C-49CC-A6A4-3938B8A6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4C7-DAB7-4EE8-863F-47F4E80B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697-F1D7-4967-9B2C-F26A6F80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6EF-7FDA-4B20-832D-3882BBA6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FDC-4663-4DA8-98D3-860745A7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BDE-A5FC-449E-A9C4-B818155B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DD9-6C1A-4496-82E9-7E86EDBE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A8B-B222-4B1A-898F-57ED4933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3163-F6D6-412D-B481-027D95702B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440" y="129528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3280" y="202572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5080" y="27432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3280" y="34290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1295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011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2760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3444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9240" y="41148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97440" y="482904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0160" y="4132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0160" y="48448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32520" y="925560"/>
            <a:ext cx="2364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72960" y="914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72960" y="1803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2960" y="2604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49200" y="351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296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72960" y="5195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905120" y="2590920"/>
            <a:ext cx="5105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十 几 减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5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、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4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、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3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、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1066680"/>
            <a:ext cx="9144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6320" y="24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- 5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940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怎样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59400" y="452268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</a:t>
            </a: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9040" y="24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0560" y="24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4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984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怎样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5200" y="452268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</a:t>
            </a: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3280" y="24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10080" y="2330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5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3160" y="23302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92800" y="350532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4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3160" y="35053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30960" y="46483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3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3680" y="46483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219320"/>
            <a:ext cx="1918800" cy="494640"/>
            <a:chOff x="1143000" y="1219320"/>
            <a:chExt cx="1918800" cy="494640"/>
          </a:xfrm>
        </p:grpSpPr>
        <p:sp>
          <p:nvSpPr>
            <p:cNvPr id="77" name=""/>
            <p:cNvSpPr/>
            <p:nvPr/>
          </p:nvSpPr>
          <p:spPr>
            <a:xfrm>
              <a:off x="1143000" y="1219320"/>
              <a:ext cx="838080" cy="457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6160" y="1254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做一做" descr=""/>
          <p:cNvPicPr/>
          <p:nvPr/>
        </p:nvPicPr>
        <p:blipFill>
          <a:blip r:embed="rId2"/>
          <a:stretch/>
        </p:blipFill>
        <p:spPr>
          <a:xfrm>
            <a:off x="1447920" y="2057400"/>
            <a:ext cx="6248160" cy="2932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43000" y="6238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2057400" y="62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21000" y="811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2760" y="13096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1280" y="4394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7800" y="43117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40040" y="4394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06720" y="4394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1680" y="439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8200" y="42670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0440" y="443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07120" y="443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09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57400" y="609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1000" y="7970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73600" y="14479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96800" y="299232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9960" y="29718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30520" y="3003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47840" y="2209680"/>
            <a:ext cx="18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2080" y="220968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06200" y="2209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44600" y="2209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60440" y="30034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45240" y="3003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1760" y="220968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49600" y="2209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9600" y="30034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96800" y="38242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30520" y="38098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38098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96800" y="45864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30520" y="4572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0200" y="4572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9960" y="3809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06200" y="4572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63680" y="3809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63680" y="45864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73360" y="3809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572000"/>
            <a:ext cx="685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09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057400" y="609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1000" y="7970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600" y="14479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练习三" descr=""/>
          <p:cNvPicPr/>
          <p:nvPr/>
        </p:nvPicPr>
        <p:blipFill>
          <a:blip r:embed="rId2"/>
          <a:stretch/>
        </p:blipFill>
        <p:spPr>
          <a:xfrm>
            <a:off x="1523880" y="1506600"/>
            <a:ext cx="6248520" cy="3419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24000" y="2620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4000" y="3382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3048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yanjunxia</cp:lastModifiedBy>
  <dcterms:modified xsi:type="dcterms:W3CDTF">2003-02-25T06:10:03Z</dcterms:modified>
  <cp:revision>186</cp:revision>
  <dc:subject/>
  <dc:title>PowerPoint 演示文稿</dc:title>
</cp:coreProperties>
</file>