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A2B6-3123-4CEF-952D-FE379F0CD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5358-3F38-4539-8467-95BBA842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0471-C6F1-4690-98CE-1A2E3F87C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790E-6959-406B-B484-5256F2475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4AAF-262B-4646-B404-C6BDE7F4F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4726-CBC2-4E03-85AB-8808F6ED9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30B9-7ECE-4647-B83B-10A0FA38A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2505-81F1-4C71-983A-288E313C1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6D31-349C-4672-881E-D1868B6EE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66EB-B2BA-44ED-8E4C-B9148518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13C4-BD50-4ED2-A344-4A46896C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26B4-8717-486C-BFB8-2065F30F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CA1FF-48C2-4ED4-AE55-8EFA57EFC9C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38240" y="838080"/>
            <a:ext cx="7067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．口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　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＋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＝       　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＋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＝      　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＋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＝       　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＋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　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＋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＝　   　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＋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＝      　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＋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708560" y="3124080"/>
            <a:ext cx="5910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．（    ）里应填几（出示投影）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6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＋（    ）＝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10      6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＋（   ）＝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11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　　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6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＋（    ）＝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12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　　　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6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＋（   ）＝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13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　　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6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＋（    ）＝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14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　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6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＋（   ）＝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　　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6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＋（    ）＝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16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60680" y="1558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268880" y="1565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21360" y="1558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42160" y="1558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60680" y="2292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268880" y="2286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18280" y="2286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92720" y="3868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837400" y="387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78320" y="460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837400" y="4613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60680" y="5334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837400" y="5334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98760" y="60609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905120" y="2209680"/>
            <a:ext cx="548640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隶书"/>
              </a:rPr>
              <a:t>十 几 减 </a:t>
            </a:r>
            <a:r>
              <a:rPr b="1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隶书"/>
              </a:rPr>
              <a:t>6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3520" y="1066680"/>
            <a:ext cx="990360" cy="609840"/>
          </a:xfrm>
          <a:prstGeom prst="ellipse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67720" y="1847880"/>
            <a:ext cx="188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1 – 6 = 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03040" y="1847880"/>
            <a:ext cx="188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3 – 6 = 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07560" y="29192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想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73760" y="3809880"/>
            <a:ext cx="202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ccff"/>
                </a:solidFill>
                <a:latin typeface="Times New Roman"/>
              </a:rPr>
              <a:t>6 </a:t>
            </a:r>
            <a:r>
              <a:rPr b="0" lang="zh-CN" sz="2800" spc="-1" strike="noStrike">
                <a:solidFill>
                  <a:srgbClr val="66ccff"/>
                </a:solidFill>
                <a:latin typeface="Times New Roman"/>
              </a:rPr>
              <a:t>加 </a:t>
            </a:r>
            <a:r>
              <a:rPr b="0" lang="zh-CN" sz="2800" spc="-1" strike="noStrike">
                <a:solidFill>
                  <a:srgbClr val="66ccff"/>
                </a:solidFill>
                <a:latin typeface="Times New Roman"/>
              </a:rPr>
              <a:t>5 </a:t>
            </a:r>
            <a:r>
              <a:rPr b="0" lang="zh-CN" sz="2800" spc="-1" strike="noStrike">
                <a:solidFill>
                  <a:srgbClr val="66ccff"/>
                </a:solidFill>
                <a:latin typeface="Times New Roman"/>
              </a:rPr>
              <a:t>得 </a:t>
            </a:r>
            <a:r>
              <a:rPr b="0" lang="zh-CN" sz="2800" spc="-1" strike="noStrike">
                <a:solidFill>
                  <a:srgbClr val="66ccff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30040" y="1839960"/>
            <a:ext cx="38484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10440" y="2909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怎样想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626440" y="3824280"/>
            <a:ext cx="202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ccff"/>
                </a:solidFill>
                <a:latin typeface="Times New Roman"/>
              </a:rPr>
              <a:t>6 </a:t>
            </a:r>
            <a:r>
              <a:rPr b="0" lang="zh-CN" sz="2800" spc="-1" strike="noStrike">
                <a:solidFill>
                  <a:srgbClr val="66ccff"/>
                </a:solidFill>
                <a:latin typeface="Times New Roman"/>
              </a:rPr>
              <a:t>加 </a:t>
            </a:r>
            <a:r>
              <a:rPr b="0" lang="zh-CN" sz="2800" spc="-1" strike="noStrike">
                <a:solidFill>
                  <a:srgbClr val="66ccff"/>
                </a:solidFill>
                <a:latin typeface="Times New Roman"/>
              </a:rPr>
              <a:t>7 </a:t>
            </a:r>
            <a:r>
              <a:rPr b="0" lang="zh-CN" sz="2800" spc="-1" strike="noStrike">
                <a:solidFill>
                  <a:srgbClr val="66ccff"/>
                </a:solidFill>
                <a:latin typeface="Times New Roman"/>
              </a:rPr>
              <a:t>得 </a:t>
            </a:r>
            <a:r>
              <a:rPr b="0" lang="zh-CN" sz="2800" spc="-1" strike="noStrike">
                <a:solidFill>
                  <a:srgbClr val="66ccff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06760" y="1859040"/>
            <a:ext cx="38484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33520" y="1066680"/>
            <a:ext cx="990360" cy="609840"/>
          </a:xfrm>
          <a:prstGeom prst="ellipse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02880" y="2228760"/>
            <a:ext cx="188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2 – 6 = 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602880" y="3429000"/>
            <a:ext cx="188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5 – 6 = 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065200" y="2220840"/>
            <a:ext cx="38484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106600" y="3440160"/>
            <a:ext cx="38484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79440" y="1219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想一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02880" y="4572000"/>
            <a:ext cx="188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4 – 6 = 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106600" y="4583160"/>
            <a:ext cx="38484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533520" y="609480"/>
            <a:ext cx="1523160" cy="533160"/>
            <a:chOff x="533520" y="609480"/>
            <a:chExt cx="1523160" cy="533160"/>
          </a:xfrm>
        </p:grpSpPr>
        <p:sp>
          <p:nvSpPr>
            <p:cNvPr id="76" name=""/>
            <p:cNvSpPr/>
            <p:nvPr/>
          </p:nvSpPr>
          <p:spPr>
            <a:xfrm>
              <a:off x="533520" y="609480"/>
              <a:ext cx="1015560" cy="5331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做一做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5400000">
              <a:off x="1536120" y="622080"/>
              <a:ext cx="533160" cy="50760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953360" y="828000"/>
              <a:ext cx="8424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715680" y="166680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3836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15 复制" descr=""/>
          <p:cNvPicPr/>
          <p:nvPr/>
        </p:nvPicPr>
        <p:blipFill>
          <a:blip r:embed="rId1"/>
          <a:stretch/>
        </p:blipFill>
        <p:spPr>
          <a:xfrm>
            <a:off x="1066680" y="2438280"/>
            <a:ext cx="7467840" cy="27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533520" y="609480"/>
            <a:ext cx="1523160" cy="533160"/>
            <a:chOff x="533520" y="609480"/>
            <a:chExt cx="1523160" cy="533160"/>
          </a:xfrm>
        </p:grpSpPr>
        <p:sp>
          <p:nvSpPr>
            <p:cNvPr id="83" name=""/>
            <p:cNvSpPr/>
            <p:nvPr/>
          </p:nvSpPr>
          <p:spPr>
            <a:xfrm>
              <a:off x="533520" y="609480"/>
              <a:ext cx="1015560" cy="5331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做一做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5400000">
              <a:off x="1536120" y="622080"/>
              <a:ext cx="533160" cy="50760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953360" y="828000"/>
              <a:ext cx="8424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715680" y="184140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3836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10520" y="1878120"/>
            <a:ext cx="490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6 + 5 =     6 + 8 =     6 + 6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11 – 6 =    14 – 6 =    12 – 6 =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15680" y="386712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33200" y="3884760"/>
            <a:ext cx="6105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6 + □ = 13    6 + □ = 15    6 + □ = 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13 – 6 = □    15 – 6 = □    16 – 6 = □</a:t>
            </a:r>
            <a:r>
              <a:rPr b="0" lang="zh-CN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06:41:04Z</dcterms:created>
  <dc:creator>ww</dc:creator>
  <dc:description/>
  <dc:language>en-US</dc:language>
  <cp:lastModifiedBy>ccw</cp:lastModifiedBy>
  <dcterms:modified xsi:type="dcterms:W3CDTF">2004-03-09T10:01:04Z</dcterms:modified>
  <cp:revision>48</cp:revision>
  <dc:subject/>
  <dc:title>PowerPoint 演示文稿</dc:title>
</cp:coreProperties>
</file>