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gif" ContentType="image/gif"/>
  <Override PartName="/ppt/media/image15.png" ContentType="image/png"/>
  <Override PartName="/ppt/media/image24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7.png" ContentType="image/png"/>
  <Override PartName="/ppt/media/image5.jpeg" ContentType="image/jpeg"/>
  <Override PartName="/ppt/media/image26.jpeg" ContentType="image/jpeg"/>
  <Override PartName="/ppt/media/image8.gif" ContentType="image/gif"/>
  <Override PartName="/ppt/media/image28.png" ContentType="image/png"/>
  <Override PartName="/ppt/media/image16.png" ContentType="image/png"/>
  <Override PartName="/ppt/media/image27.png" ContentType="image/png"/>
  <Override PartName="/ppt/media/image19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media/image14.png" ContentType="image/png"/>
  <Override PartName="/ppt/media/image1.png" ContentType="image/png"/>
  <Override PartName="/ppt/media/image21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自定义放映7" id="0">
      <p:sldLst>
        <p:sld r:id="rId14"/>
      </p:sldLst>
    </p:custShow>
    <p:custShow name="自定义放映10" id="1">
      <p:sldLst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491-9265-4588-B768-6C2A024E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F44-7B1C-4350-8C19-DB78910A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7EB-EE0C-428E-831F-2C5B2C81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32A-D7A9-473F-8365-DA9D5CF6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E33-1600-4AD5-8D7F-13849D29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730-0A57-4E6F-9882-6D03CDFA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4CF-357C-4E1A-B601-A161EA22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579-6513-4F51-AA23-5C84F668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248-6170-42E8-B7C1-3386318C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5FD-14CA-4131-9921-72832C4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9B5-2163-4DDF-838C-012FEB9D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F46-758B-409C-9798-E9CBC77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2039-2427-45EF-9152-9425468B78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8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6.gif"/><Relationship Id="rId5" Type="http://schemas.openxmlformats.org/officeDocument/2006/relationships/image" Target="../media/image8.gif"/><Relationship Id="rId6" Type="http://schemas.openxmlformats.org/officeDocument/2006/relationships/image" Target="../media/image10.gif"/><Relationship Id="rId7" Type="http://schemas.openxmlformats.org/officeDocument/2006/relationships/image" Target="../media/image9.png"/><Relationship Id="rId8" Type="http://schemas.openxmlformats.org/officeDocument/2006/relationships/image" Target="../media/image12.gif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7.png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1.png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" Target="slide8.xml"/><Relationship Id="rId5" Type="http://schemas.openxmlformats.org/officeDocument/2006/relationships/image" Target="../media/image18.gif"/><Relationship Id="rId6" Type="http://schemas.openxmlformats.org/officeDocument/2006/relationships/slide" Target="slide9.xml"/><Relationship Id="rId7" Type="http://schemas.openxmlformats.org/officeDocument/2006/relationships/image" Target="../media/image18.gif"/><Relationship Id="rId8" Type="http://schemas.openxmlformats.org/officeDocument/2006/relationships/slide" Target="slide10.xml"/><Relationship Id="rId9" Type="http://schemas.openxmlformats.org/officeDocument/2006/relationships/image" Target="../media/image18.gif"/><Relationship Id="rId10" Type="http://schemas.openxmlformats.org/officeDocument/2006/relationships/slide" Target="slide11.xml"/><Relationship Id="rId11" Type="http://schemas.openxmlformats.org/officeDocument/2006/relationships/image" Target="../media/image18.gif"/><Relationship Id="rId12" Type="http://schemas.openxmlformats.org/officeDocument/2006/relationships/slide" Target="slide7.xml"/><Relationship Id="rId13" Type="http://schemas.openxmlformats.org/officeDocument/2006/relationships/image" Target="../media/image18.gif"/><Relationship Id="rId14" Type="http://schemas.openxmlformats.org/officeDocument/2006/relationships/slide" Target="slide12.xml"/><Relationship Id="rId15" Type="http://schemas.openxmlformats.org/officeDocument/2006/relationships/image" Target="../media/image18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" Target="slide8.xml"/><Relationship Id="rId5" Type="http://schemas.openxmlformats.org/officeDocument/2006/relationships/image" Target="../media/image18.gif"/><Relationship Id="rId6" Type="http://schemas.openxmlformats.org/officeDocument/2006/relationships/slide" Target="slide9.xml"/><Relationship Id="rId7" Type="http://schemas.openxmlformats.org/officeDocument/2006/relationships/image" Target="../media/image18.gif"/><Relationship Id="rId8" Type="http://schemas.openxmlformats.org/officeDocument/2006/relationships/slide" Target="slide10.xml"/><Relationship Id="rId9" Type="http://schemas.openxmlformats.org/officeDocument/2006/relationships/image" Target="../media/image18.gif"/><Relationship Id="rId10" Type="http://schemas.openxmlformats.org/officeDocument/2006/relationships/slide" Target="slide11.xml"/><Relationship Id="rId11" Type="http://schemas.openxmlformats.org/officeDocument/2006/relationships/image" Target="../media/image18.gif"/><Relationship Id="rId12" Type="http://schemas.openxmlformats.org/officeDocument/2006/relationships/slide" Target="slide7.xml"/><Relationship Id="rId13" Type="http://schemas.openxmlformats.org/officeDocument/2006/relationships/image" Target="../media/image18.gif"/><Relationship Id="rId14" Type="http://schemas.openxmlformats.org/officeDocument/2006/relationships/slide" Target="slide12.xml"/><Relationship Id="rId15" Type="http://schemas.openxmlformats.org/officeDocument/2006/relationships/image" Target="../media/image18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" Target="slide8.xml"/><Relationship Id="rId5" Type="http://schemas.openxmlformats.org/officeDocument/2006/relationships/image" Target="../media/image18.gif"/><Relationship Id="rId6" Type="http://schemas.openxmlformats.org/officeDocument/2006/relationships/slide" Target="slide9.xml"/><Relationship Id="rId7" Type="http://schemas.openxmlformats.org/officeDocument/2006/relationships/image" Target="../media/image18.gif"/><Relationship Id="rId8" Type="http://schemas.openxmlformats.org/officeDocument/2006/relationships/slide" Target="slide10.xml"/><Relationship Id="rId9" Type="http://schemas.openxmlformats.org/officeDocument/2006/relationships/image" Target="../media/image18.gif"/><Relationship Id="rId10" Type="http://schemas.openxmlformats.org/officeDocument/2006/relationships/slide" Target="slide11.xml"/><Relationship Id="rId11" Type="http://schemas.openxmlformats.org/officeDocument/2006/relationships/image" Target="../media/image18.gif"/><Relationship Id="rId12" Type="http://schemas.openxmlformats.org/officeDocument/2006/relationships/slide" Target="slide7.xml"/><Relationship Id="rId13" Type="http://schemas.openxmlformats.org/officeDocument/2006/relationships/image" Target="../media/image18.gif"/><Relationship Id="rId14" Type="http://schemas.openxmlformats.org/officeDocument/2006/relationships/slide" Target="slide12.xml"/><Relationship Id="rId15" Type="http://schemas.openxmlformats.org/officeDocument/2006/relationships/image" Target="../media/image18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" Target="slide8.xml"/><Relationship Id="rId5" Type="http://schemas.openxmlformats.org/officeDocument/2006/relationships/image" Target="../media/image18.gif"/><Relationship Id="rId6" Type="http://schemas.openxmlformats.org/officeDocument/2006/relationships/slide" Target="slide9.xml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" Target="slide7.xml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十几减六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53320" cy="1766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74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75" name="bflys3clr" descr=""/>
          <p:cNvPicPr/>
          <p:nvPr/>
        </p:nvPicPr>
        <p:blipFill>
          <a:blip r:embed="rId4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bflys3clr" descr=""/>
          <p:cNvPicPr/>
          <p:nvPr/>
        </p:nvPicPr>
        <p:blipFill>
          <a:blip r:embed="rId5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bflys3clr" descr=""/>
          <p:cNvPicPr/>
          <p:nvPr/>
        </p:nvPicPr>
        <p:blipFill>
          <a:blip r:embed="rId6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bflys3clr" descr=""/>
          <p:cNvPicPr/>
          <p:nvPr/>
        </p:nvPicPr>
        <p:blipFill>
          <a:blip r:embed="rId7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bflys3clr" descr=""/>
          <p:cNvPicPr/>
          <p:nvPr/>
        </p:nvPicPr>
        <p:blipFill>
          <a:blip r:embed="rId8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81" name="bflys3clr" descr=""/>
          <p:cNvPicPr/>
          <p:nvPr/>
        </p:nvPicPr>
        <p:blipFill>
          <a:blip r:embed="rId9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 rot="24000">
            <a:off x="3352680" y="28191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2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 rot="24000">
            <a:off x="3352680" y="365724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3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 rot="24000">
            <a:off x="3350880" y="4492800"/>
            <a:ext cx="19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4-6=</a:t>
            </a:r>
            <a:endParaRPr b="0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 rot="24000">
            <a:off x="3352680" y="5333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5-6=?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 rot="24000">
            <a:off x="3352680" y="19807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1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5182560" y="41911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89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90" name="bflys3clr" descr=""/>
          <p:cNvPicPr/>
          <p:nvPr/>
        </p:nvPicPr>
        <p:blipFill>
          <a:blip r:embed="rId4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bflys3clr" descr=""/>
          <p:cNvPicPr/>
          <p:nvPr/>
        </p:nvPicPr>
        <p:blipFill>
          <a:blip r:embed="rId5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bflys3clr" descr=""/>
          <p:cNvPicPr/>
          <p:nvPr/>
        </p:nvPicPr>
        <p:blipFill>
          <a:blip r:embed="rId6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93" name="bflys3clr" descr=""/>
          <p:cNvPicPr/>
          <p:nvPr/>
        </p:nvPicPr>
        <p:blipFill>
          <a:blip r:embed="rId7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bflys3clr" descr=""/>
          <p:cNvPicPr/>
          <p:nvPr/>
        </p:nvPicPr>
        <p:blipFill>
          <a:blip r:embed="rId8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bflys3clr" descr=""/>
          <p:cNvPicPr/>
          <p:nvPr/>
        </p:nvPicPr>
        <p:blipFill>
          <a:blip r:embed="rId9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24000">
            <a:off x="3352680" y="28191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2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 rot="24000">
            <a:off x="3352680" y="365724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3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99" name=""/>
          <p:cNvSpPr txBox="1"/>
          <p:nvPr/>
        </p:nvSpPr>
        <p:spPr>
          <a:xfrm rot="24000">
            <a:off x="3352680" y="44953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4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200" name=""/>
          <p:cNvSpPr txBox="1"/>
          <p:nvPr/>
        </p:nvSpPr>
        <p:spPr>
          <a:xfrm rot="24000">
            <a:off x="3350880" y="533088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5-6=</a:t>
            </a:r>
            <a:endParaRPr b="0" lang="en-US" sz="60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 rot="24000">
            <a:off x="3352680" y="19807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1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412416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6600" y="49528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SUN_040" descr=""/>
          <p:cNvPicPr/>
          <p:nvPr/>
        </p:nvPicPr>
        <p:blipFill>
          <a:blip r:embed="rId2"/>
          <a:stretch/>
        </p:blipFill>
        <p:spPr>
          <a:xfrm>
            <a:off x="5029200" y="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205" name="SUN_038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206" name="SUN_094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708120" cy="707760"/>
          </a:xfrm>
          <a:prstGeom prst="rect">
            <a:avLst/>
          </a:prstGeom>
          <a:ln w="0">
            <a:noFill/>
          </a:ln>
        </p:spPr>
      </p:pic>
      <p:pic>
        <p:nvPicPr>
          <p:cNvPr id="207" name="15" descr=""/>
          <p:cNvPicPr/>
          <p:nvPr/>
        </p:nvPicPr>
        <p:blipFill>
          <a:blip r:embed="rId5"/>
          <a:stretch/>
        </p:blipFill>
        <p:spPr>
          <a:xfrm>
            <a:off x="5334120" y="-457200"/>
            <a:ext cx="3962160" cy="5715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133720" y="51055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动物 乐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96c4"/>
            </a:gs>
            <a:gs pos="100000">
              <a:srgbClr val="53ed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304560"/>
            <a:ext cx="3348000" cy="3047400"/>
            <a:chOff x="0" y="304560"/>
            <a:chExt cx="3348000" cy="3047400"/>
          </a:xfrm>
        </p:grpSpPr>
        <p:grpSp>
          <p:nvGrpSpPr>
            <p:cNvPr id="210" name=""/>
            <p:cNvGrpSpPr/>
            <p:nvPr/>
          </p:nvGrpSpPr>
          <p:grpSpPr>
            <a:xfrm>
              <a:off x="0" y="304560"/>
              <a:ext cx="3348000" cy="3047400"/>
              <a:chOff x="0" y="304560"/>
              <a:chExt cx="3348000" cy="3047400"/>
            </a:xfrm>
          </p:grpSpPr>
          <p:sp>
            <p:nvSpPr>
              <p:cNvPr id="211" name=""/>
              <p:cNvSpPr/>
              <p:nvPr/>
            </p:nvSpPr>
            <p:spPr>
              <a:xfrm>
                <a:off x="457200" y="1290960"/>
                <a:ext cx="2438280" cy="2061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0" y="304560"/>
                <a:ext cx="3348000" cy="3046680"/>
                <a:chOff x="0" y="304560"/>
                <a:chExt cx="3348000" cy="30466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981080" y="2007360"/>
                  <a:ext cx="609840" cy="13438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62120" y="1828440"/>
                  <a:ext cx="609480" cy="7167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62120" y="21866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066680" y="1828440"/>
                  <a:ext cx="0" cy="71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0" y="303840"/>
                  <a:ext cx="3348000" cy="1075320"/>
                </a:xfrm>
                <a:custGeom>
                  <a:avLst/>
                  <a:gdLst>
                    <a:gd name="textAreaLeft" fmla="*/ 736200 w 3348000"/>
                    <a:gd name="textAreaRight" fmla="*/ 2611800 w 3348000"/>
                    <a:gd name="textAreaTop" fmla="*/ 236520 h 1075320"/>
                    <a:gd name="textAreaBottom" fmla="*/ 838800 h 107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533160" y="39456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钓鱼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791320" y="380880"/>
            <a:ext cx="5104800" cy="2590920"/>
            <a:chOff x="5791320" y="380880"/>
            <a:chExt cx="5104800" cy="2590920"/>
          </a:xfrm>
        </p:grpSpPr>
        <p:sp>
          <p:nvSpPr>
            <p:cNvPr id="220" name=""/>
            <p:cNvSpPr/>
            <p:nvPr/>
          </p:nvSpPr>
          <p:spPr>
            <a:xfrm>
              <a:off x="6248160" y="1219320"/>
              <a:ext cx="2437920" cy="175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72040" y="1828800"/>
              <a:ext cx="60948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3080" y="1676520"/>
              <a:ext cx="609120" cy="6094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19810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7640" y="1676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791320" y="380520"/>
              <a:ext cx="3347640" cy="914400"/>
            </a:xfrm>
            <a:custGeom>
              <a:avLst/>
              <a:gdLst>
                <a:gd name="textAreaLeft" fmla="*/ 736200 w 3347640"/>
                <a:gd name="textAreaRight" fmla="*/ 2611440 w 334764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4480" y="457200"/>
              <a:ext cx="45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通信站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0" y="4038480"/>
            <a:ext cx="4190760" cy="2590920"/>
            <a:chOff x="0" y="4038480"/>
            <a:chExt cx="4190760" cy="2590920"/>
          </a:xfrm>
        </p:grpSpPr>
        <p:sp>
          <p:nvSpPr>
            <p:cNvPr id="228" name=""/>
            <p:cNvSpPr/>
            <p:nvPr/>
          </p:nvSpPr>
          <p:spPr>
            <a:xfrm>
              <a:off x="457200" y="4876920"/>
              <a:ext cx="2438280" cy="17524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81080" y="5486400"/>
              <a:ext cx="60948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1760" y="5334120"/>
              <a:ext cx="60984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760" y="56386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66680" y="53341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0" y="4038480"/>
              <a:ext cx="3348000" cy="914400"/>
            </a:xfrm>
            <a:custGeom>
              <a:avLst/>
              <a:gdLst>
                <a:gd name="textAreaLeft" fmla="*/ 736200 w 3348000"/>
                <a:gd name="textAreaRight" fmla="*/ 2611800 w 334800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480" y="4038480"/>
              <a:ext cx="35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密码室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791320" y="3962160"/>
            <a:ext cx="3886200" cy="2590560"/>
            <a:chOff x="5791320" y="3962160"/>
            <a:chExt cx="3886200" cy="2590560"/>
          </a:xfrm>
        </p:grpSpPr>
        <p:sp>
          <p:nvSpPr>
            <p:cNvPr id="236" name=""/>
            <p:cNvSpPr/>
            <p:nvPr/>
          </p:nvSpPr>
          <p:spPr>
            <a:xfrm>
              <a:off x="6248520" y="4800600"/>
              <a:ext cx="2438280" cy="175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72400" y="5410080"/>
              <a:ext cx="609840" cy="114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53440" y="5257800"/>
              <a:ext cx="60948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440" y="5562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0" y="52578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791320" y="3961800"/>
              <a:ext cx="3348000" cy="914040"/>
            </a:xfrm>
            <a:custGeom>
              <a:avLst/>
              <a:gdLst>
                <a:gd name="textAreaLeft" fmla="*/ 736200 w 3348000"/>
                <a:gd name="textAreaRight" fmla="*/ 2611800 w 3348000"/>
                <a:gd name="textAreaTop" fmla="*/ 200880 h 914040"/>
                <a:gd name="textAreaBottom" fmla="*/ 71316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77120" y="4038480"/>
              <a:ext cx="320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足球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895480" y="1600200"/>
            <a:ext cx="3348000" cy="3048120"/>
            <a:chOff x="2895480" y="1600200"/>
            <a:chExt cx="3348000" cy="3048120"/>
          </a:xfrm>
        </p:grpSpPr>
        <p:sp>
          <p:nvSpPr>
            <p:cNvPr id="244" name=""/>
            <p:cNvSpPr/>
            <p:nvPr/>
          </p:nvSpPr>
          <p:spPr>
            <a:xfrm>
              <a:off x="3352680" y="2585880"/>
              <a:ext cx="2438640" cy="2062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6920" y="3303720"/>
              <a:ext cx="609480" cy="134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3124080"/>
              <a:ext cx="609480" cy="7178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3483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62520" y="3124080"/>
              <a:ext cx="0" cy="7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95480" y="1599840"/>
              <a:ext cx="3348000" cy="1076400"/>
            </a:xfrm>
            <a:custGeom>
              <a:avLst/>
              <a:gdLst>
                <a:gd name="textAreaLeft" fmla="*/ 736200 w 3348000"/>
                <a:gd name="textAreaRight" fmla="*/ 2611800 w 3348000"/>
                <a:gd name="textAreaTop" fmla="*/ 236520 h 1076400"/>
                <a:gd name="textAreaBottom" fmla="*/ 839880 h 107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9000" y="168912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660066"/>
                  </a:solidFill>
                  <a:latin typeface="Times New Roman"/>
                </a:rPr>
                <a:t>聪明屋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0" y="2514600"/>
            <a:ext cx="175248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600200" y="2133720"/>
            <a:ext cx="556272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做游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999240" y="4580280"/>
            <a:ext cx="2821680" cy="1768680"/>
            <a:chOff x="3999240" y="4580280"/>
            <a:chExt cx="2821680" cy="1768680"/>
          </a:xfrm>
        </p:grpSpPr>
        <p:sp>
          <p:nvSpPr>
            <p:cNvPr id="254" name=""/>
            <p:cNvSpPr/>
            <p:nvPr/>
          </p:nvSpPr>
          <p:spPr>
            <a:xfrm rot="16372200">
              <a:off x="4593240" y="4092840"/>
              <a:ext cx="1633320" cy="2743200"/>
            </a:xfrm>
            <a:prstGeom prst="flowChartPunchedTap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800600" y="4721040"/>
              <a:ext cx="1854000" cy="133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宋体"/>
                </a:rPr>
                <a:t>我大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pic>
        <p:nvPicPr>
          <p:cNvPr id="256" name="13" descr=""/>
          <p:cNvPicPr/>
          <p:nvPr/>
        </p:nvPicPr>
        <p:blipFill>
          <a:blip r:embed="rId4"/>
          <a:stretch/>
        </p:blipFill>
        <p:spPr>
          <a:xfrm>
            <a:off x="5791320" y="3276720"/>
            <a:ext cx="2361960" cy="3124080"/>
          </a:xfrm>
          <a:prstGeom prst="rect">
            <a:avLst/>
          </a:prstGeom>
          <a:ln w="0">
            <a:noFill/>
          </a:ln>
        </p:spPr>
      </p:pic>
      <p:pic>
        <p:nvPicPr>
          <p:cNvPr id="257" name="026" descr=""/>
          <p:cNvPicPr/>
          <p:nvPr/>
        </p:nvPicPr>
        <p:blipFill>
          <a:blip r:embed="rId5"/>
          <a:stretch/>
        </p:blipFill>
        <p:spPr>
          <a:xfrm>
            <a:off x="-1066680" y="2133720"/>
            <a:ext cx="5562360" cy="41907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590920" y="3048120"/>
            <a:ext cx="914400" cy="2819160"/>
            <a:chOff x="2590920" y="3048120"/>
            <a:chExt cx="914400" cy="2819160"/>
          </a:xfrm>
        </p:grpSpPr>
        <p:sp>
          <p:nvSpPr>
            <p:cNvPr id="259" name=""/>
            <p:cNvSpPr/>
            <p:nvPr/>
          </p:nvSpPr>
          <p:spPr>
            <a:xfrm>
              <a:off x="2590920" y="3048120"/>
              <a:ext cx="914400" cy="2819160"/>
            </a:xfrm>
            <a:prstGeom prst="plus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 rot="5400000">
              <a:off x="2057040" y="4190400"/>
              <a:ext cx="2057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宋体"/>
                </a:rPr>
                <a:t>我大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133720" y="1600200"/>
            <a:ext cx="16761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5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2286000"/>
            <a:ext cx="16761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3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342900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13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361960" cy="3124080"/>
          </a:xfrm>
          <a:prstGeom prst="rect">
            <a:avLst/>
          </a:prstGeom>
          <a:ln w="0">
            <a:noFill/>
          </a:ln>
        </p:spPr>
      </p:pic>
      <p:pic>
        <p:nvPicPr>
          <p:cNvPr id="265" name="026" descr=""/>
          <p:cNvPicPr/>
          <p:nvPr/>
        </p:nvPicPr>
        <p:blipFill>
          <a:blip r:embed="rId3"/>
          <a:stretch/>
        </p:blipFill>
        <p:spPr>
          <a:xfrm>
            <a:off x="-1066680" y="2133720"/>
            <a:ext cx="5562360" cy="419076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2895480" y="3200400"/>
            <a:ext cx="914400" cy="2819520"/>
            <a:chOff x="2895480" y="3200400"/>
            <a:chExt cx="914400" cy="2819520"/>
          </a:xfrm>
        </p:grpSpPr>
        <p:sp>
          <p:nvSpPr>
            <p:cNvPr id="267" name=""/>
            <p:cNvSpPr/>
            <p:nvPr/>
          </p:nvSpPr>
          <p:spPr>
            <a:xfrm>
              <a:off x="2895480" y="3200400"/>
              <a:ext cx="914400" cy="2819520"/>
            </a:xfrm>
            <a:prstGeom prst="plus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 rot="5400000">
              <a:off x="2361600" y="434340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宋体"/>
                </a:rPr>
                <a:t>我大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133720" y="1600200"/>
            <a:ext cx="16761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5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2286000"/>
            <a:ext cx="16761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3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342900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6781680"/>
            <a:ext cx="2286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新房子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2590920" y="4114800"/>
            <a:ext cx="3276000" cy="2514600"/>
            <a:chOff x="2590920" y="4114800"/>
            <a:chExt cx="3276000" cy="2514600"/>
          </a:xfrm>
        </p:grpSpPr>
        <p:graphicFrame>
          <p:nvGraphicFramePr>
            <p:cNvPr id="275" name=""/>
            <p:cNvGraphicFramePr/>
            <p:nvPr/>
          </p:nvGraphicFramePr>
          <p:xfrm>
            <a:off x="2590920" y="4114800"/>
            <a:ext cx="2285640" cy="251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90920" y="4114800"/>
                      <a:ext cx="22856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4267080" y="4648320"/>
              <a:ext cx="159984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3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048120" y="3809880"/>
            <a:ext cx="2818800" cy="2743200"/>
            <a:chOff x="3048120" y="3809880"/>
            <a:chExt cx="2818800" cy="2743200"/>
          </a:xfrm>
        </p:grpSpPr>
        <p:pic>
          <p:nvPicPr>
            <p:cNvPr id="279" name="A1_589" descr=""/>
            <p:cNvPicPr/>
            <p:nvPr/>
          </p:nvPicPr>
          <p:blipFill>
            <a:blip r:embed="rId4"/>
            <a:stretch/>
          </p:blipFill>
          <p:spPr>
            <a:xfrm>
              <a:off x="3048120" y="3809880"/>
              <a:ext cx="22856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267080" y="5262480"/>
              <a:ext cx="159984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2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429000" y="3429000"/>
            <a:ext cx="3429000" cy="3048120"/>
            <a:chOff x="3429000" y="3429000"/>
            <a:chExt cx="3429000" cy="3048120"/>
          </a:xfrm>
        </p:grpSpPr>
        <p:pic>
          <p:nvPicPr>
            <p:cNvPr id="282" name="13" descr=""/>
            <p:cNvPicPr/>
            <p:nvPr/>
          </p:nvPicPr>
          <p:blipFill>
            <a:blip r:embed="rId5"/>
            <a:stretch/>
          </p:blipFill>
          <p:spPr>
            <a:xfrm>
              <a:off x="3733920" y="3429000"/>
              <a:ext cx="312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429000" y="4572000"/>
              <a:ext cx="160020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5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438280" y="3276720"/>
            <a:ext cx="4191120" cy="3352680"/>
            <a:chOff x="2438280" y="3276720"/>
            <a:chExt cx="4191120" cy="3352680"/>
          </a:xfrm>
        </p:grpSpPr>
        <p:pic>
          <p:nvPicPr>
            <p:cNvPr id="285" name="026" descr=""/>
            <p:cNvPicPr/>
            <p:nvPr/>
          </p:nvPicPr>
          <p:blipFill>
            <a:blip r:embed="rId6"/>
            <a:stretch/>
          </p:blipFill>
          <p:spPr>
            <a:xfrm>
              <a:off x="2438280" y="3276720"/>
              <a:ext cx="41911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666880" y="4648320"/>
              <a:ext cx="167652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4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590920" y="3886200"/>
            <a:ext cx="3657600" cy="2133720"/>
            <a:chOff x="2590920" y="3886200"/>
            <a:chExt cx="3657600" cy="2133720"/>
          </a:xfrm>
        </p:grpSpPr>
        <p:pic>
          <p:nvPicPr>
            <p:cNvPr id="288" name="0082" descr=""/>
            <p:cNvPicPr/>
            <p:nvPr/>
          </p:nvPicPr>
          <p:blipFill>
            <a:blip r:embed="rId7"/>
            <a:stretch/>
          </p:blipFill>
          <p:spPr>
            <a:xfrm>
              <a:off x="3962520" y="3886200"/>
              <a:ext cx="22860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590920" y="4648320"/>
              <a:ext cx="175248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1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76720" y="4114800"/>
            <a:ext cx="3581280" cy="2209680"/>
            <a:chOff x="3276720" y="4114800"/>
            <a:chExt cx="3581280" cy="2209680"/>
          </a:xfrm>
        </p:grpSpPr>
        <p:pic>
          <p:nvPicPr>
            <p:cNvPr id="291" name="A1_121" descr=""/>
            <p:cNvPicPr/>
            <p:nvPr/>
          </p:nvPicPr>
          <p:blipFill>
            <a:blip r:embed="rId8"/>
            <a:stretch/>
          </p:blipFill>
          <p:spPr>
            <a:xfrm>
              <a:off x="4495680" y="4114800"/>
              <a:ext cx="23623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276720" y="4800240"/>
              <a:ext cx="167616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7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90920" y="3733920"/>
            <a:ext cx="3581280" cy="2438280"/>
            <a:chOff x="2590920" y="3733920"/>
            <a:chExt cx="3581280" cy="2438280"/>
          </a:xfrm>
        </p:grpSpPr>
        <p:sp>
          <p:nvSpPr>
            <p:cNvPr id="294" name=""/>
            <p:cNvSpPr/>
            <p:nvPr/>
          </p:nvSpPr>
          <p:spPr>
            <a:xfrm>
              <a:off x="2590920" y="4800600"/>
              <a:ext cx="167616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5-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Horse" descr=""/>
            <p:cNvPicPr/>
            <p:nvPr/>
          </p:nvPicPr>
          <p:blipFill>
            <a:blip r:embed="rId9"/>
            <a:stretch/>
          </p:blipFill>
          <p:spPr>
            <a:xfrm>
              <a:off x="3581280" y="3733920"/>
              <a:ext cx="259092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2743200" y="4191120"/>
            <a:ext cx="4724280" cy="2286000"/>
            <a:chOff x="2743200" y="4191120"/>
            <a:chExt cx="4724280" cy="2286000"/>
          </a:xfrm>
        </p:grpSpPr>
        <p:pic>
          <p:nvPicPr>
            <p:cNvPr id="297" name="" descr=""/>
            <p:cNvPicPr/>
            <p:nvPr/>
          </p:nvPicPr>
          <p:blipFill>
            <a:blip r:embed="rId10"/>
            <a:stretch/>
          </p:blipFill>
          <p:spPr>
            <a:xfrm>
              <a:off x="4800600" y="4191120"/>
              <a:ext cx="26668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743200" y="4572000"/>
              <a:ext cx="182880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3-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2133720" y="685800"/>
            <a:ext cx="48765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谁的朋友多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2286000" y="3657600"/>
            <a:ext cx="3504960" cy="1434600"/>
            <a:chOff x="2286000" y="3657600"/>
            <a:chExt cx="3504960" cy="1434600"/>
          </a:xfrm>
        </p:grpSpPr>
        <p:sp>
          <p:nvSpPr>
            <p:cNvPr id="301" name=""/>
            <p:cNvSpPr/>
            <p:nvPr/>
          </p:nvSpPr>
          <p:spPr>
            <a:xfrm>
              <a:off x="2286000" y="4038480"/>
              <a:ext cx="609480" cy="685800"/>
            </a:xfrm>
            <a:prstGeom prst="rect">
              <a:avLst/>
            </a:prstGeom>
            <a:solidFill>
              <a:srgbClr val="b2b2b2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24080" y="4114800"/>
              <a:ext cx="609480" cy="533520"/>
            </a:xfrm>
            <a:prstGeom prst="ellipse">
              <a:avLst/>
            </a:prstGeom>
            <a:solidFill>
              <a:srgbClr val="b2b2b2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9880" y="3657600"/>
              <a:ext cx="1752480" cy="143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Times New Roman"/>
                </a:rPr>
                <a:t>6=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81480" y="4038480"/>
              <a:ext cx="609480" cy="685800"/>
            </a:xfrm>
            <a:prstGeom prst="rect">
              <a:avLst/>
            </a:prstGeom>
            <a:solidFill>
              <a:srgbClr val="b2b2b2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 txBox="1"/>
          <p:nvPr/>
        </p:nvSpPr>
        <p:spPr>
          <a:xfrm>
            <a:off x="4800600" y="685800"/>
            <a:ext cx="20574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486400" y="990720"/>
            <a:ext cx="2057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新房子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5480" y="5486400"/>
            <a:ext cx="281952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Times New Roman"/>
              </a:rPr>
              <a:t>动物学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33720" y="2057400"/>
            <a:ext cx="4724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宋体"/>
              </a:rPr>
              <a:t>对号入座</a:t>
            </a:r>
            <a:endParaRPr b="0" lang="en-US" sz="24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352680" y="685800"/>
            <a:ext cx="5790960" cy="6629040"/>
            <a:chOff x="3352680" y="685800"/>
            <a:chExt cx="5790960" cy="6629040"/>
          </a:xfrm>
        </p:grpSpPr>
        <p:pic>
          <p:nvPicPr>
            <p:cNvPr id="47" name="09" descr=""/>
            <p:cNvPicPr/>
            <p:nvPr/>
          </p:nvPicPr>
          <p:blipFill>
            <a:blip r:embed="rId1"/>
            <a:stretch/>
          </p:blipFill>
          <p:spPr>
            <a:xfrm>
              <a:off x="3352680" y="685800"/>
              <a:ext cx="5790960" cy="66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5221440"/>
              <a:ext cx="565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57440" y="52214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53080" y="522144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05560" y="199404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29040" y="199404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3760" y="190692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7240" y="190692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240" y="522144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248520" y="5105520"/>
            <a:ext cx="2332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1447920"/>
            <a:ext cx="533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04920" y="4114800"/>
            <a:ext cx="3810240" cy="2742840"/>
            <a:chOff x="-304920" y="4114800"/>
            <a:chExt cx="3810240" cy="2742840"/>
          </a:xfrm>
        </p:grpSpPr>
        <p:pic>
          <p:nvPicPr>
            <p:cNvPr id="59" name="A1_589" descr=""/>
            <p:cNvPicPr/>
            <p:nvPr/>
          </p:nvPicPr>
          <p:blipFill>
            <a:blip r:embed="rId2"/>
            <a:stretch/>
          </p:blipFill>
          <p:spPr>
            <a:xfrm>
              <a:off x="-304920" y="4114800"/>
              <a:ext cx="228600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14400" y="5567040"/>
              <a:ext cx="259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1-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A1_589" descr=""/>
          <p:cNvPicPr/>
          <p:nvPr/>
        </p:nvPicPr>
        <p:blipFill>
          <a:blip r:embed="rId3"/>
          <a:stretch/>
        </p:blipFill>
        <p:spPr>
          <a:xfrm>
            <a:off x="1676520" y="38098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A1_589" descr=""/>
          <p:cNvPicPr/>
          <p:nvPr/>
        </p:nvPicPr>
        <p:blipFill>
          <a:blip r:embed="rId4"/>
          <a:stretch/>
        </p:blipFill>
        <p:spPr>
          <a:xfrm>
            <a:off x="3276720" y="4343400"/>
            <a:ext cx="16761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-457200" y="4343400"/>
            <a:ext cx="4419720" cy="2514600"/>
            <a:chOff x="-457200" y="4343400"/>
            <a:chExt cx="4419720" cy="2514600"/>
          </a:xfrm>
        </p:grpSpPr>
        <p:graphicFrame>
          <p:nvGraphicFramePr>
            <p:cNvPr id="64" name=""/>
            <p:cNvGraphicFramePr/>
            <p:nvPr/>
          </p:nvGraphicFramePr>
          <p:xfrm>
            <a:off x="-457200" y="4343400"/>
            <a:ext cx="2286000" cy="251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457200" y="4343400"/>
                      <a:ext cx="22860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1371600" y="4876560"/>
              <a:ext cx="259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3-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1066680" y="1905120"/>
          <a:ext cx="2057400" cy="22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1905120"/>
                    <a:ext cx="20574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352680" y="685800"/>
          <a:ext cx="1600200" cy="15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685800"/>
                    <a:ext cx="1600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66880" y="1447920"/>
            <a:ext cx="533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320" y="0"/>
            <a:ext cx="5790960" cy="6629040"/>
            <a:chOff x="76320" y="0"/>
            <a:chExt cx="5790960" cy="6629040"/>
          </a:xfrm>
        </p:grpSpPr>
        <p:pic>
          <p:nvPicPr>
            <p:cNvPr id="73" name="09" descr=""/>
            <p:cNvPicPr/>
            <p:nvPr/>
          </p:nvPicPr>
          <p:blipFill>
            <a:blip r:embed="rId1"/>
            <a:stretch/>
          </p:blipFill>
          <p:spPr>
            <a:xfrm>
              <a:off x="76320" y="0"/>
              <a:ext cx="5790960" cy="66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04920" y="4535640"/>
              <a:ext cx="565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81080" y="45356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76720" y="453564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30824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2680" y="130824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122112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122112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2880" y="453564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A1_589" descr=""/>
          <p:cNvPicPr/>
          <p:nvPr/>
        </p:nvPicPr>
        <p:blipFill>
          <a:blip r:embed="rId2"/>
          <a:stretch/>
        </p:blipFill>
        <p:spPr>
          <a:xfrm>
            <a:off x="0" y="36576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13" descr=""/>
          <p:cNvPicPr/>
          <p:nvPr/>
        </p:nvPicPr>
        <p:blipFill>
          <a:blip r:embed="rId3"/>
          <a:stretch/>
        </p:blipFill>
        <p:spPr>
          <a:xfrm>
            <a:off x="990720" y="0"/>
            <a:ext cx="23619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6324480" y="2666880"/>
            <a:ext cx="3124080" cy="2133720"/>
            <a:chOff x="6324480" y="2666880"/>
            <a:chExt cx="3124080" cy="2133720"/>
          </a:xfrm>
        </p:grpSpPr>
        <p:pic>
          <p:nvPicPr>
            <p:cNvPr id="85" name="0082" descr=""/>
            <p:cNvPicPr/>
            <p:nvPr/>
          </p:nvPicPr>
          <p:blipFill>
            <a:blip r:embed="rId4"/>
            <a:stretch/>
          </p:blipFill>
          <p:spPr>
            <a:xfrm>
              <a:off x="7162560" y="2666880"/>
              <a:ext cx="22860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324480" y="3276360"/>
              <a:ext cx="190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9-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0082" descr=""/>
          <p:cNvPicPr/>
          <p:nvPr/>
        </p:nvPicPr>
        <p:blipFill>
          <a:blip r:embed="rId5"/>
          <a:stretch/>
        </p:blipFill>
        <p:spPr>
          <a:xfrm>
            <a:off x="3276720" y="22860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0082" descr=""/>
          <p:cNvPicPr/>
          <p:nvPr/>
        </p:nvPicPr>
        <p:blipFill>
          <a:blip r:embed="rId6"/>
          <a:stretch/>
        </p:blipFill>
        <p:spPr>
          <a:xfrm>
            <a:off x="1600200" y="3505320"/>
            <a:ext cx="11430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5867280" y="1447920"/>
            <a:ext cx="4191120" cy="3352680"/>
            <a:chOff x="5867280" y="1447920"/>
            <a:chExt cx="4191120" cy="3352680"/>
          </a:xfrm>
        </p:grpSpPr>
        <p:pic>
          <p:nvPicPr>
            <p:cNvPr id="90" name="026" descr=""/>
            <p:cNvPicPr/>
            <p:nvPr/>
          </p:nvPicPr>
          <p:blipFill>
            <a:blip r:embed="rId7"/>
            <a:stretch/>
          </p:blipFill>
          <p:spPr>
            <a:xfrm>
              <a:off x="5867280" y="1447920"/>
              <a:ext cx="41911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095880" y="2819520"/>
              <a:ext cx="2971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4-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026" descr=""/>
          <p:cNvPicPr/>
          <p:nvPr/>
        </p:nvPicPr>
        <p:blipFill>
          <a:blip r:embed="rId8"/>
          <a:stretch/>
        </p:blipFill>
        <p:spPr>
          <a:xfrm>
            <a:off x="4495680" y="609480"/>
            <a:ext cx="2971800" cy="2438640"/>
          </a:xfrm>
          <a:prstGeom prst="rect">
            <a:avLst/>
          </a:prstGeom>
          <a:ln w="0">
            <a:noFill/>
          </a:ln>
        </p:spPr>
      </p:pic>
      <p:pic>
        <p:nvPicPr>
          <p:cNvPr id="93" name="026" descr=""/>
          <p:cNvPicPr/>
          <p:nvPr/>
        </p:nvPicPr>
        <p:blipFill>
          <a:blip r:embed="rId9"/>
          <a:stretch/>
        </p:blipFill>
        <p:spPr>
          <a:xfrm>
            <a:off x="2438280" y="-152280"/>
            <a:ext cx="2590920" cy="1676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4343400" y="3124080"/>
            <a:ext cx="175248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0" y="0"/>
          <a:ext cx="1600200" cy="15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600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6400800" y="228600"/>
            <a:ext cx="3200400" cy="2209680"/>
            <a:chOff x="6400800" y="228600"/>
            <a:chExt cx="3200400" cy="2209680"/>
          </a:xfrm>
        </p:grpSpPr>
        <p:pic>
          <p:nvPicPr>
            <p:cNvPr id="98" name="A1_121" descr=""/>
            <p:cNvPicPr/>
            <p:nvPr/>
          </p:nvPicPr>
          <p:blipFill>
            <a:blip r:embed="rId13"/>
            <a:stretch/>
          </p:blipFill>
          <p:spPr>
            <a:xfrm>
              <a:off x="7239240" y="228600"/>
              <a:ext cx="2361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400800" y="838080"/>
              <a:ext cx="1524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8-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A1_121" descr=""/>
          <p:cNvPicPr/>
          <p:nvPr/>
        </p:nvPicPr>
        <p:blipFill>
          <a:blip r:embed="rId14"/>
          <a:stretch/>
        </p:blipFill>
        <p:spPr>
          <a:xfrm>
            <a:off x="5181480" y="175248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A1_121" descr=""/>
          <p:cNvPicPr/>
          <p:nvPr/>
        </p:nvPicPr>
        <p:blipFill>
          <a:blip r:embed="rId15"/>
          <a:stretch/>
        </p:blipFill>
        <p:spPr>
          <a:xfrm>
            <a:off x="3048120" y="32767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562720" y="2514600"/>
            <a:ext cx="3581280" cy="2438280"/>
            <a:chOff x="5562720" y="2514600"/>
            <a:chExt cx="3581280" cy="2438280"/>
          </a:xfrm>
        </p:grpSpPr>
        <p:sp>
          <p:nvSpPr>
            <p:cNvPr id="103" name=""/>
            <p:cNvSpPr/>
            <p:nvPr/>
          </p:nvSpPr>
          <p:spPr>
            <a:xfrm>
              <a:off x="5562720" y="3581280"/>
              <a:ext cx="2971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5-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Horse" descr=""/>
            <p:cNvPicPr/>
            <p:nvPr/>
          </p:nvPicPr>
          <p:blipFill>
            <a:blip r:embed="rId16"/>
            <a:stretch/>
          </p:blipFill>
          <p:spPr>
            <a:xfrm>
              <a:off x="6553080" y="2514600"/>
              <a:ext cx="2590920" cy="243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Horse" descr=""/>
          <p:cNvPicPr/>
          <p:nvPr/>
        </p:nvPicPr>
        <p:blipFill>
          <a:blip r:embed="rId17"/>
          <a:stretch/>
        </p:blipFill>
        <p:spPr>
          <a:xfrm>
            <a:off x="5410080" y="160020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Horse" descr=""/>
          <p:cNvPicPr/>
          <p:nvPr/>
        </p:nvPicPr>
        <p:blipFill>
          <a:blip r:embed="rId18"/>
          <a:stretch/>
        </p:blipFill>
        <p:spPr>
          <a:xfrm>
            <a:off x="426708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5029200" y="0"/>
            <a:ext cx="47340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0"/>
          <a:stretch/>
        </p:blipFill>
        <p:spPr>
          <a:xfrm>
            <a:off x="5181480" y="1371600"/>
            <a:ext cx="26672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6019920" y="2590920"/>
            <a:ext cx="3429000" cy="3047760"/>
            <a:chOff x="6019920" y="2590920"/>
            <a:chExt cx="3429000" cy="3047760"/>
          </a:xfrm>
        </p:grpSpPr>
        <p:pic>
          <p:nvPicPr>
            <p:cNvPr id="110" name="13" descr=""/>
            <p:cNvPicPr/>
            <p:nvPr/>
          </p:nvPicPr>
          <p:blipFill>
            <a:blip r:embed="rId21"/>
            <a:stretch/>
          </p:blipFill>
          <p:spPr>
            <a:xfrm>
              <a:off x="6324480" y="2590920"/>
              <a:ext cx="312444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019920" y="3733920"/>
              <a:ext cx="2209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5-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13" descr=""/>
          <p:cNvPicPr/>
          <p:nvPr/>
        </p:nvPicPr>
        <p:blipFill>
          <a:blip r:embed="rId22"/>
          <a:stretch/>
        </p:blipFill>
        <p:spPr>
          <a:xfrm>
            <a:off x="3429000" y="838080"/>
            <a:ext cx="2514600" cy="2438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14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15" name="bflys3cl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bflys3clr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bflys3clr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bflys3clr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flys3clr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bflys3clr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3350520" y="1973880"/>
            <a:ext cx="2062080" cy="4052880"/>
            <a:chOff x="3350520" y="1973880"/>
            <a:chExt cx="2062080" cy="4052880"/>
          </a:xfrm>
        </p:grpSpPr>
        <p:sp>
          <p:nvSpPr>
            <p:cNvPr id="123" name=""/>
            <p:cNvSpPr txBox="1"/>
            <p:nvPr/>
          </p:nvSpPr>
          <p:spPr>
            <a:xfrm rot="24000">
              <a:off x="3352680" y="281880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3366"/>
                  </a:solidFill>
                  <a:latin typeface="宋体"/>
                </a:rPr>
                <a:t>12-6=?</a:t>
              </a:r>
              <a:endPara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  <a:ea typeface="宋体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 rot="24000">
              <a:off x="3352680" y="365688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80"/>
                  </a:solidFill>
                  <a:latin typeface="宋体"/>
                </a:rPr>
                <a:t>13-6=?</a:t>
              </a:r>
              <a:endPara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 rot="24000">
              <a:off x="3352680" y="449532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80"/>
                  </a:solidFill>
                  <a:latin typeface="宋体"/>
                </a:rPr>
                <a:t>14-6=?</a:t>
              </a:r>
              <a:endPara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24000">
              <a:off x="3352680" y="533340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003366"/>
                  </a:solidFill>
                  <a:latin typeface="宋体"/>
                </a:rPr>
                <a:t>15-6=?</a:t>
              </a:r>
              <a:endPara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  <a:ea typeface="宋体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24000">
              <a:off x="3352680" y="198072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3366"/>
                  </a:solidFill>
                  <a:latin typeface="宋体"/>
                </a:rPr>
                <a:t>11-6=?</a:t>
              </a:r>
              <a:endPara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  <a:ea typeface="宋体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29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30" name="bflys3cl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bflys3clr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bflys3clr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bflys3clr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bflys3clr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bflys3clr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 rot="24000">
            <a:off x="3352680" y="28191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2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 rot="24000">
            <a:off x="3352680" y="365724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3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39" name=""/>
          <p:cNvSpPr txBox="1"/>
          <p:nvPr/>
        </p:nvSpPr>
        <p:spPr>
          <a:xfrm rot="24000">
            <a:off x="3352680" y="44953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4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 rot="24000">
            <a:off x="3352680" y="5333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5-6=?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 rot="24000">
            <a:off x="3350880" y="1978200"/>
            <a:ext cx="19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11-6=</a:t>
            </a:r>
            <a:endParaRPr b="0" lang="en-US" sz="60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5182560" y="16765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44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45" name="bflys3cl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bflys3clr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bflys3clr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bflys3clr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bflys3clr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bflys3clr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24000">
            <a:off x="3350880" y="281628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12-6=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 rot="24000">
            <a:off x="3352680" y="365724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3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 rot="24000">
            <a:off x="3352680" y="44953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4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55" name=""/>
          <p:cNvSpPr txBox="1"/>
          <p:nvPr/>
        </p:nvSpPr>
        <p:spPr>
          <a:xfrm rot="24000">
            <a:off x="3352680" y="5333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5-6=?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 rot="24000">
            <a:off x="3352680" y="19807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1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57" name=""/>
          <p:cNvSpPr/>
          <p:nvPr/>
        </p:nvSpPr>
        <p:spPr>
          <a:xfrm>
            <a:off x="5106600" y="2514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59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60" name="bflys3cl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bflys3clr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bflys3clr" descr=""/>
          <p:cNvPicPr/>
          <p:nvPr/>
        </p:nvPicPr>
        <p:blipFill>
          <a:blip r:embed="rId8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bflys3clr" descr=""/>
          <p:cNvPicPr/>
          <p:nvPr/>
        </p:nvPicPr>
        <p:blipFill>
          <a:blip r:embed="rId9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flys3clr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bflys3clr" descr=""/>
          <p:cNvPicPr/>
          <p:nvPr/>
        </p:nvPicPr>
        <p:blipFill>
          <a:blip r:embed="rId12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24000">
            <a:off x="3352680" y="28191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2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 rot="24000">
            <a:off x="3350880" y="365436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13-6=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169" name=""/>
          <p:cNvSpPr txBox="1"/>
          <p:nvPr/>
        </p:nvSpPr>
        <p:spPr>
          <a:xfrm rot="24000">
            <a:off x="3352680" y="44953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4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70" name=""/>
          <p:cNvSpPr txBox="1"/>
          <p:nvPr/>
        </p:nvSpPr>
        <p:spPr>
          <a:xfrm rot="24000">
            <a:off x="3352680" y="5333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5-6=?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 rot="24000">
            <a:off x="3352680" y="19807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1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72" name=""/>
          <p:cNvSpPr/>
          <p:nvPr/>
        </p:nvSpPr>
        <p:spPr>
          <a:xfrm>
            <a:off x="5106600" y="33526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6:40:59Z</dcterms:created>
  <dc:creator>ww</dc:creator>
  <dc:description/>
  <dc:language>en-US</dc:language>
  <cp:lastModifiedBy>wang</cp:lastModifiedBy>
  <dcterms:modified xsi:type="dcterms:W3CDTF">2004-01-18T06:46:30Z</dcterms:modified>
  <cp:revision>104</cp:revision>
  <dc:subject/>
  <dc:title>PowerPoint 演示文稿</dc:title>
</cp:coreProperties>
</file>