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33E6-AB8A-40D7-940C-546B42893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90F5-D691-47F6-8B0C-98674EDD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2539-6A65-4A00-B406-8E2D393CC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A909-6398-485C-8783-CB40C5CD7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CDF3-0B2F-46DF-A68D-87F19CEA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11C8-1AB3-4B59-B6CF-07AE475F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E042-5913-4BF6-92B0-A4BC8085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BB42-5351-48B0-8E20-D000916A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FB69-24B8-40E1-942C-64F64536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D268-2F08-4E30-9190-EEDD3D2C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B51A-7DC2-48E4-8DEA-3579AAB9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CECE-8E1F-4353-BD27-95C48EA1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728E-E43E-40A7-B638-8DCC608456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97440" y="1676520"/>
            <a:ext cx="29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7 + 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   ）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= 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13280" y="2496960"/>
            <a:ext cx="29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7 + 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   ）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= 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15080" y="3335400"/>
            <a:ext cx="29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7 + 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   ）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= 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13280" y="4219560"/>
            <a:ext cx="29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7 + 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   ）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= 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344840" y="16765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56000" y="24829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56000" y="33526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56000" y="42354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043520" y="1645560"/>
            <a:ext cx="1185840" cy="422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9900"/>
                </a:solidFill>
                <a:latin typeface="隶书"/>
                <a:ea typeface="隶书"/>
              </a:rPr>
              <a:t>十几减</a:t>
            </a:r>
            <a:r>
              <a:rPr b="1" lang="en-US" sz="6600" spc="-1" strike="noStrike">
                <a:solidFill>
                  <a:srgbClr val="ff9900"/>
                </a:solidFill>
                <a:latin typeface="隶书"/>
                <a:ea typeface="隶书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19320" y="914400"/>
            <a:ext cx="838080" cy="457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89640" y="3701880"/>
            <a:ext cx="23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 – 7 = 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18960" y="4495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想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48320" y="506088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7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加（   ）得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55720" y="49719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40120" y="3666960"/>
            <a:ext cx="442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1" descr=""/>
          <p:cNvPicPr/>
          <p:nvPr/>
        </p:nvPicPr>
        <p:blipFill>
          <a:blip r:embed="rId2"/>
          <a:stretch/>
        </p:blipFill>
        <p:spPr>
          <a:xfrm>
            <a:off x="2362320" y="1455840"/>
            <a:ext cx="4647960" cy="20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1066680"/>
            <a:ext cx="914400" cy="457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86320" y="240660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1 - 7 = 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90160" y="3581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华文中宋"/>
                <a:ea typeface="华文中宋"/>
              </a:rPr>
              <a:t>想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95480" y="363708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华文中宋"/>
                <a:ea typeface="华文中宋"/>
              </a:rPr>
              <a:t>7 </a:t>
            </a:r>
            <a:r>
              <a:rPr b="0" lang="zh-CN" sz="2400" spc="-1" strike="noStrike">
                <a:solidFill>
                  <a:srgbClr val="0099ff"/>
                </a:solidFill>
                <a:latin typeface="华文中宋"/>
                <a:ea typeface="华文中宋"/>
              </a:rPr>
              <a:t>加（   ）得 </a:t>
            </a:r>
            <a:r>
              <a:rPr b="0" lang="zh-CN" sz="2400" spc="-1" strike="noStrike">
                <a:solidFill>
                  <a:srgbClr val="0099ff"/>
                </a:solidFill>
                <a:latin typeface="华文中宋"/>
                <a:ea typeface="华文中宋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03240" y="3595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59040" y="2406600"/>
            <a:ext cx="442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10560" y="240660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5 - 7 = 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19000" y="3581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华文中宋"/>
                <a:ea typeface="华文中宋"/>
              </a:rPr>
              <a:t>怎样想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95880" y="462744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7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加（   ）得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03640" y="4586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983280" y="2406600"/>
            <a:ext cx="442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610080" y="233028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 - 7 = 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3160" y="2330280"/>
            <a:ext cx="442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10080" y="350532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6 - 7 = 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83160" y="3505320"/>
            <a:ext cx="442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30960" y="464832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 - 7 = 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03680" y="4648320"/>
            <a:ext cx="442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143000" y="1219320"/>
            <a:ext cx="1918800" cy="494640"/>
            <a:chOff x="1143000" y="1219320"/>
            <a:chExt cx="1918800" cy="494640"/>
          </a:xfrm>
        </p:grpSpPr>
        <p:sp>
          <p:nvSpPr>
            <p:cNvPr id="75" name=""/>
            <p:cNvSpPr/>
            <p:nvPr/>
          </p:nvSpPr>
          <p:spPr>
            <a:xfrm>
              <a:off x="1143000" y="1219320"/>
              <a:ext cx="838080" cy="4572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76160" y="12542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想一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143000" y="609480"/>
            <a:ext cx="9144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做一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5400000">
            <a:off x="2057400" y="6094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421000" y="79704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73600" y="121932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7840" y="2611440"/>
            <a:ext cx="138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 - 7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12120" y="3352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２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26800" y="2590920"/>
            <a:ext cx="38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29440" y="2622600"/>
            <a:ext cx="138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 - 7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44760" y="18288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7 + 5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25840" y="18288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7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＋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7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83520" y="18288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01040" y="18288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36760" y="2622600"/>
            <a:ext cx="38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63160" y="2622600"/>
            <a:ext cx="138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5 - 7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59560" y="18288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7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＋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8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34760" y="18288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70120" y="2622600"/>
            <a:ext cx="38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63040" y="4052880"/>
            <a:ext cx="19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7 + □ =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45720" y="4038480"/>
            <a:ext cx="19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7 + □ =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06440" y="4038480"/>
            <a:ext cx="19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7 + □ =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89240" y="4815000"/>
            <a:ext cx="187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1 – 7 = 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40320" y="4800600"/>
            <a:ext cx="187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 – 7 = 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15800" y="4800600"/>
            <a:ext cx="181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6 - 7 = 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20400" y="4052880"/>
            <a:ext cx="38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58480" y="4800600"/>
            <a:ext cx="38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30080" y="4038480"/>
            <a:ext cx="38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68520" y="4815000"/>
            <a:ext cx="38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87560" y="4038480"/>
            <a:ext cx="38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4815000"/>
            <a:ext cx="436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8T03:58:23Z</dcterms:created>
  <dc:creator>ww</dc:creator>
  <dc:description/>
  <dc:language>en-US</dc:language>
  <cp:lastModifiedBy>ccw</cp:lastModifiedBy>
  <dcterms:modified xsi:type="dcterms:W3CDTF">2004-03-09T10:00:51Z</dcterms:modified>
  <cp:revision>145</cp:revision>
  <dc:subject/>
  <dc:title>PowerPoint 演示文稿</dc:title>
</cp:coreProperties>
</file>