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078-D2B9-46CF-99A7-624A6983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F94-A5DE-460A-861C-E5479907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BAE-A80E-4354-97CD-CA3EF9F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83F-9528-437F-A86F-BA4928F2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6C3-8B75-46CE-A431-3A3FFDB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C87-933D-4267-8F6F-CD7A012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903-323D-4DBA-A67C-A503D646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B75-EBA8-4948-9803-B4B288D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4BA-59AF-47D5-AA96-D3B8815C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083-99F1-4489-B2BF-8EE3063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5BB-FDBA-4FDC-98B8-7AB79AC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DF3-2C63-4529-986D-50F31CA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1E60-16A3-465B-8659-7DB988543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808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3000" y="36925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8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95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4360" y="4756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5720" y="466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99000" y="36752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54100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4876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6320" y="3473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01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1520" y="4551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32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9040" y="3473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10560" y="3473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97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52560" y="4551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6428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3280" y="3473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37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摆一摆，算一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2" descr=""/>
          <p:cNvPicPr/>
          <p:nvPr/>
        </p:nvPicPr>
        <p:blipFill>
          <a:blip r:embed="rId2"/>
          <a:srcRect l="0" t="0" r="57964" b="0"/>
          <a:stretch/>
        </p:blipFill>
        <p:spPr>
          <a:xfrm>
            <a:off x="1600200" y="1751040"/>
            <a:ext cx="2666880" cy="1292040"/>
          </a:xfrm>
          <a:prstGeom prst="rect">
            <a:avLst/>
          </a:prstGeom>
          <a:ln w="0">
            <a:noFill/>
          </a:ln>
        </p:spPr>
      </p:pic>
      <p:pic>
        <p:nvPicPr>
          <p:cNvPr id="71" name="2" descr=""/>
          <p:cNvPicPr/>
          <p:nvPr/>
        </p:nvPicPr>
        <p:blipFill>
          <a:blip r:embed="rId3"/>
          <a:srcRect l="54003" t="0" r="0" b="0"/>
          <a:stretch/>
        </p:blipFill>
        <p:spPr>
          <a:xfrm>
            <a:off x="4572000" y="1739880"/>
            <a:ext cx="32004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83808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06720" y="15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7360" y="24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2760" y="2494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79800" y="15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31160" y="15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47760" y="24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73160" y="2494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8488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3880" y="15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6720" y="4464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79800" y="4464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1160" y="4464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 - 8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03880" y="4464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3546360"/>
            <a:ext cx="1919160" cy="494640"/>
            <a:chOff x="1143000" y="3546360"/>
            <a:chExt cx="1919160" cy="494640"/>
          </a:xfrm>
        </p:grpSpPr>
        <p:sp>
          <p:nvSpPr>
            <p:cNvPr id="88" name=""/>
            <p:cNvSpPr/>
            <p:nvPr/>
          </p:nvSpPr>
          <p:spPr>
            <a:xfrm>
              <a:off x="1143000" y="354636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76520" y="35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68580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209680" y="685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3280" y="87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8720" y="12193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352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024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4280" y="419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2051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+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4205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90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48909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86764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42051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890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–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5960" y="3443400"/>
            <a:ext cx="5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81040" y="3332160"/>
            <a:ext cx="32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252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484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240" y="33526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○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72680" y="3443400"/>
            <a:ext cx="5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7760" y="3332160"/>
            <a:ext cx="32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888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1200" y="3429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6756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544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9880" y="4205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87080" y="487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0800" y="489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5920" y="489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6320" y="41590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 - 3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3880" y="4159080"/>
            <a:ext cx="56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36120" y="415908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□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320" y="41590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4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21036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34040" y="4159080"/>
            <a:ext cx="704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447920" y="1143000"/>
            <a:ext cx="1675080" cy="533160"/>
            <a:chOff x="1447920" y="1143000"/>
            <a:chExt cx="1675080" cy="533160"/>
          </a:xfrm>
        </p:grpSpPr>
        <p:sp>
          <p:nvSpPr>
            <p:cNvPr id="127" name=""/>
            <p:cNvSpPr/>
            <p:nvPr/>
          </p:nvSpPr>
          <p:spPr>
            <a:xfrm>
              <a:off x="1447920" y="11430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577240" y="113040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8880" y="13611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6" descr=""/>
          <p:cNvPicPr/>
          <p:nvPr/>
        </p:nvPicPr>
        <p:blipFill>
          <a:blip r:embed="rId2"/>
          <a:stretch/>
        </p:blipFill>
        <p:spPr>
          <a:xfrm>
            <a:off x="1333440" y="2611440"/>
            <a:ext cx="6286680" cy="163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75320" y="32004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7680" y="327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2680" y="327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09:55:17Z</dcterms:modified>
  <cp:revision>92</cp:revision>
  <dc:subject/>
  <dc:title>PowerPoint 演示文稿</dc:title>
</cp:coreProperties>
</file>