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239-76C8-46F4-BBE2-F8A530E3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56E-05EE-4F74-93BC-BC9BCEF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95E-47C8-47B3-8DBE-BECE9B28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2CD-9FA4-406C-A866-879A4F47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EBA-B23F-4B5E-90E8-21E99CC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9B9-9FF2-4883-B851-4454AEAB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596-D4FD-464F-9C82-E1AE177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947-BD6F-4701-BF8E-75BBB45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694-BB55-4F36-8B85-069F6D76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1C7-FF94-40A7-BFB9-E7D6330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333-B2F8-4B37-BDC4-503295A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19A-0B48-435F-BDF6-59BF411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CE1-F7FF-49D2-90AA-E48CED6874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43520" y="164808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"/>
          <p:cNvPicPr/>
          <p:nvPr/>
        </p:nvPicPr>
        <p:blipFill>
          <a:blip r:embed="rId2"/>
          <a:srcRect l="0" t="0" r="52445" b="0"/>
          <a:stretch/>
        </p:blipFill>
        <p:spPr>
          <a:xfrm>
            <a:off x="1371600" y="1752480"/>
            <a:ext cx="2971800" cy="129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73000" y="346392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+ 2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7240" y="34639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638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68240" y="45277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" descr=""/>
          <p:cNvPicPr/>
          <p:nvPr/>
        </p:nvPicPr>
        <p:blipFill>
          <a:blip r:embed="rId3"/>
          <a:srcRect l="50004" t="0" r="0" b="0"/>
          <a:stretch/>
        </p:blipFill>
        <p:spPr>
          <a:xfrm>
            <a:off x="4343400" y="1812960"/>
            <a:ext cx="3505320" cy="1235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79600" y="443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22880" y="344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92640" y="518148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6320" y="30481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52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8320" y="42991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004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9040" y="30481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90160" y="4952880"/>
            <a:ext cx="18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2" descr=""/>
          <p:cNvPicPr/>
          <p:nvPr/>
        </p:nvPicPr>
        <p:blipFill>
          <a:blip r:embed="rId2"/>
          <a:srcRect l="0" t="0" r="55341" b="0"/>
          <a:stretch/>
        </p:blipFill>
        <p:spPr>
          <a:xfrm>
            <a:off x="1382760" y="1523880"/>
            <a:ext cx="326556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2" descr=""/>
          <p:cNvPicPr/>
          <p:nvPr/>
        </p:nvPicPr>
        <p:blipFill>
          <a:blip r:embed="rId3"/>
          <a:srcRect l="50004" t="0" r="0" b="0"/>
          <a:stretch/>
        </p:blipFill>
        <p:spPr>
          <a:xfrm>
            <a:off x="4495680" y="1523880"/>
            <a:ext cx="3200400" cy="129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01800" y="492912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0560" y="30481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776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52560" y="42991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428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83280" y="30481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4400" y="4952880"/>
            <a:ext cx="18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29280" y="492444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86320" y="3321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5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832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004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9040" y="3321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10560" y="33210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77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52560" y="4780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4280" y="47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83280" y="33210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3" descr=""/>
          <p:cNvPicPr/>
          <p:nvPr/>
        </p:nvPicPr>
        <p:blipFill>
          <a:blip r:embed="rId2"/>
          <a:srcRect l="0" t="0" r="48001" b="0"/>
          <a:stretch/>
        </p:blipFill>
        <p:spPr>
          <a:xfrm>
            <a:off x="1143000" y="1643040"/>
            <a:ext cx="3429000" cy="1557360"/>
          </a:xfrm>
          <a:prstGeom prst="rect">
            <a:avLst/>
          </a:prstGeom>
          <a:ln w="0">
            <a:noFill/>
          </a:ln>
        </p:spPr>
      </p:pic>
      <p:pic>
        <p:nvPicPr>
          <p:cNvPr id="89" name="3" descr=""/>
          <p:cNvPicPr/>
          <p:nvPr/>
        </p:nvPicPr>
        <p:blipFill>
          <a:blip r:embed="rId3"/>
          <a:srcRect l="56671" t="0" r="0" b="0"/>
          <a:stretch/>
        </p:blipFill>
        <p:spPr>
          <a:xfrm>
            <a:off x="4648320" y="1660680"/>
            <a:ext cx="30477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86320" y="17208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52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28320" y="3179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004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9040" y="17208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10560" y="17208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776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52560" y="3179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6428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3280" y="17208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0360" y="40831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 - 9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7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2360" y="55418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4080" y="5500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3080" y="40831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68580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209680" y="685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3280" y="873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0872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68720" y="1219320"/>
            <a:ext cx="6251400" cy="2971080"/>
            <a:chOff x="1368720" y="1219320"/>
            <a:chExt cx="6251400" cy="2971080"/>
          </a:xfrm>
        </p:grpSpPr>
        <p:sp>
          <p:nvSpPr>
            <p:cNvPr id="111" name=""/>
            <p:cNvSpPr/>
            <p:nvPr/>
          </p:nvSpPr>
          <p:spPr>
            <a:xfrm>
              <a:off x="1368720" y="121932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4" descr=""/>
            <p:cNvPicPr/>
            <p:nvPr/>
          </p:nvPicPr>
          <p:blipFill>
            <a:blip r:embed="rId2"/>
            <a:stretch/>
          </p:blipFill>
          <p:spPr>
            <a:xfrm>
              <a:off x="1523880" y="1604880"/>
              <a:ext cx="6096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929600" y="2986200"/>
              <a:ext cx="181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4 - 9 = 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8760" y="3679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想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9240" y="372096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加（   ）得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8880" y="2995560"/>
              <a:ext cx="199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５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 9 = 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1800" y="3689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想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920" y="373068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加（   ）得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161400" y="3666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7200" y="297180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04280" y="4419720"/>
            <a:ext cx="6468120" cy="1220400"/>
            <a:chOff x="1304280" y="4419720"/>
            <a:chExt cx="6468120" cy="1220400"/>
          </a:xfrm>
        </p:grpSpPr>
        <p:sp>
          <p:nvSpPr>
            <p:cNvPr id="122" name=""/>
            <p:cNvSpPr/>
            <p:nvPr/>
          </p:nvSpPr>
          <p:spPr>
            <a:xfrm>
              <a:off x="1304280" y="441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２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44337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+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9200" y="44337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9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＋（   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119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3 – 9 =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5119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6 – 9 =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40040" y="4441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41960" y="445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7360" y="512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3240" y="512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0160" y="296244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10:01:40Z</dcterms:modified>
  <cp:revision>63</cp:revision>
  <dc:subject/>
  <dc:title>PowerPoint 演示文稿</dc:title>
</cp:coreProperties>
</file>