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9942-7F6A-456B-AFFF-4EE1C4C6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709-E12B-4B70-BDF5-53D88969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9FC7-74A2-41C2-9B0E-710D0BAB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6DF-1AE5-4A70-BF46-B1747F36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5C9-9340-47BE-9EF6-318307FB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53F-BB52-4523-84E0-EEE73687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B23E-0C13-48E6-B52A-E9B7067B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ADE-0B33-4C8F-B2E1-A6EC16B8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706D-62EF-4E9A-90F9-25E1084D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B218-63FF-46DD-A82A-31CC5AA9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EFF-40A9-451D-80BF-6B6CC5C4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FD7-023F-4975-9419-8FBE1CD1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CB7F-5BFC-4FAE-A781-1DAE976DAC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82880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20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以内的退位减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457200"/>
            <a:ext cx="6781680" cy="1099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动动脑，想一想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19051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在每个图形上加一直线，使成为要求的图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4038480"/>
            <a:ext cx="3733920" cy="2057400"/>
          </a:xfrm>
          <a:prstGeom prst="rect">
            <a:avLst/>
          </a:prstGeom>
          <a:solidFill>
            <a:srgbClr val="ffffcc"/>
          </a:soli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41148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两个相同的三角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8600" y="4038480"/>
            <a:ext cx="373392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457200"/>
            <a:ext cx="6781680" cy="1099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动动脑，想一想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9051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在每个图形上加一直线，使成为要求的图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4038480"/>
            <a:ext cx="3733920" cy="2057400"/>
          </a:xfrm>
          <a:prstGeom prst="rect">
            <a:avLst/>
          </a:prstGeom>
          <a:solidFill>
            <a:srgbClr val="ffffcc"/>
          </a:soli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41148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两个相同的三角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1040" y="4051080"/>
            <a:ext cx="3747240" cy="203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457200"/>
            <a:ext cx="6781680" cy="1099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动动脑，想一想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9051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在每个图形上加一直线，使成为要求的图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1148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两个不同的四边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114800"/>
            <a:ext cx="3581640" cy="1981080"/>
          </a:xfrm>
          <a:prstGeom prst="parallelogram">
            <a:avLst>
              <a:gd name="adj" fmla="val 45198"/>
            </a:avLst>
          </a:prstGeom>
          <a:solidFill>
            <a:srgbClr val="ffffcc"/>
          </a:soli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599840" y="4114800"/>
            <a:ext cx="152388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228600"/>
            <a:ext cx="2210040" cy="10994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800000"/>
                </a:solidFill>
                <a:latin typeface="Times New Roman"/>
              </a:rPr>
              <a:t>复习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57200" y="1905120"/>
            <a:ext cx="4191120" cy="1191240"/>
            <a:chOff x="457200" y="1905120"/>
            <a:chExt cx="4191120" cy="1191240"/>
          </a:xfrm>
        </p:grpSpPr>
        <p:sp>
          <p:nvSpPr>
            <p:cNvPr id="44" name=""/>
            <p:cNvSpPr/>
            <p:nvPr/>
          </p:nvSpPr>
          <p:spPr>
            <a:xfrm>
              <a:off x="457200" y="1905120"/>
              <a:ext cx="160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72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1440" y="2133720"/>
              <a:ext cx="761760" cy="762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5840" y="190512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=8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648320" y="1905120"/>
            <a:ext cx="3809520" cy="1191240"/>
            <a:chOff x="4648320" y="1905120"/>
            <a:chExt cx="3809520" cy="1191240"/>
          </a:xfrm>
        </p:grpSpPr>
        <p:sp>
          <p:nvSpPr>
            <p:cNvPr id="48" name=""/>
            <p:cNvSpPr/>
            <p:nvPr/>
          </p:nvSpPr>
          <p:spPr>
            <a:xfrm>
              <a:off x="4648320" y="190512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72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7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96080" y="2133720"/>
              <a:ext cx="761760" cy="7617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81680" y="1905120"/>
              <a:ext cx="685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343400" y="4038480"/>
            <a:ext cx="762120" cy="7621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86000" y="2971800"/>
            <a:ext cx="5791320" cy="1523880"/>
            <a:chOff x="2286000" y="2971800"/>
            <a:chExt cx="5791320" cy="1523880"/>
          </a:xfrm>
        </p:grpSpPr>
        <p:sp>
          <p:nvSpPr>
            <p:cNvPr id="53" name=""/>
            <p:cNvSpPr/>
            <p:nvPr/>
          </p:nvSpPr>
          <p:spPr>
            <a:xfrm>
              <a:off x="2286000" y="2971800"/>
              <a:ext cx="0" cy="152388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86000" y="4495680"/>
              <a:ext cx="20574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4495680"/>
              <a:ext cx="289584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971800"/>
              <a:ext cx="0" cy="152388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057400" y="190512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72400" y="190512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380988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004%5B2%5D" descr=""/>
          <p:cNvPicPr/>
          <p:nvPr/>
        </p:nvPicPr>
        <p:blipFill>
          <a:blip r:embed="rId1">
            <a:lum contrast="72000"/>
          </a:blip>
          <a:srcRect l="7196" t="7801" r="0" b="0"/>
          <a:stretch/>
        </p:blipFill>
        <p:spPr>
          <a:xfrm>
            <a:off x="6095880" y="1752480"/>
            <a:ext cx="2514600" cy="2286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19320" y="304920"/>
            <a:ext cx="57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看图理解图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004%5B1%5D" descr=""/>
          <p:cNvPicPr/>
          <p:nvPr/>
        </p:nvPicPr>
        <p:blipFill>
          <a:blip r:embed="rId2">
            <a:lum contrast="60000"/>
          </a:blip>
          <a:srcRect l="7537" t="0" r="0" b="0"/>
          <a:stretch/>
        </p:blipFill>
        <p:spPr>
          <a:xfrm>
            <a:off x="1981080" y="1676520"/>
            <a:ext cx="1266840" cy="1447560"/>
          </a:xfrm>
          <a:prstGeom prst="rect">
            <a:avLst/>
          </a:prstGeom>
          <a:ln w="0">
            <a:noFill/>
          </a:ln>
        </p:spPr>
      </p:pic>
      <p:pic>
        <p:nvPicPr>
          <p:cNvPr id="63" name="004%5B1%5D" descr=""/>
          <p:cNvPicPr/>
          <p:nvPr/>
        </p:nvPicPr>
        <p:blipFill>
          <a:blip r:embed="rId3">
            <a:lum contrast="60000"/>
          </a:blip>
          <a:srcRect l="7537" t="0" r="0" b="0"/>
          <a:stretch/>
        </p:blipFill>
        <p:spPr>
          <a:xfrm>
            <a:off x="533520" y="1676520"/>
            <a:ext cx="1266840" cy="1447560"/>
          </a:xfrm>
          <a:prstGeom prst="rect">
            <a:avLst/>
          </a:prstGeom>
          <a:ln w="0">
            <a:noFill/>
          </a:ln>
        </p:spPr>
      </p:pic>
      <p:pic>
        <p:nvPicPr>
          <p:cNvPr id="64" name="004%5B1%5D" descr=""/>
          <p:cNvPicPr/>
          <p:nvPr/>
        </p:nvPicPr>
        <p:blipFill>
          <a:blip r:embed="rId4">
            <a:lum contrast="60000"/>
          </a:blip>
          <a:srcRect l="7537" t="0" r="0" b="0"/>
          <a:stretch/>
        </p:blipFill>
        <p:spPr>
          <a:xfrm>
            <a:off x="3429000" y="3276720"/>
            <a:ext cx="1266840" cy="1447560"/>
          </a:xfrm>
          <a:prstGeom prst="rect">
            <a:avLst/>
          </a:prstGeom>
          <a:ln w="0">
            <a:noFill/>
          </a:ln>
        </p:spPr>
      </p:pic>
      <p:pic>
        <p:nvPicPr>
          <p:cNvPr id="65" name="004%5B1%5D" descr=""/>
          <p:cNvPicPr/>
          <p:nvPr/>
        </p:nvPicPr>
        <p:blipFill>
          <a:blip r:embed="rId5">
            <a:lum contrast="60000"/>
          </a:blip>
          <a:srcRect l="7537" t="0" r="0" b="0"/>
          <a:stretch/>
        </p:blipFill>
        <p:spPr>
          <a:xfrm>
            <a:off x="1981080" y="3276720"/>
            <a:ext cx="1266840" cy="1447560"/>
          </a:xfrm>
          <a:prstGeom prst="rect">
            <a:avLst/>
          </a:prstGeom>
          <a:ln w="0">
            <a:noFill/>
          </a:ln>
        </p:spPr>
      </p:pic>
      <p:pic>
        <p:nvPicPr>
          <p:cNvPr id="66" name="004%5B1%5D" descr=""/>
          <p:cNvPicPr/>
          <p:nvPr/>
        </p:nvPicPr>
        <p:blipFill>
          <a:blip r:embed="rId6">
            <a:lum contrast="60000"/>
          </a:blip>
          <a:srcRect l="7537" t="0" r="0" b="0"/>
          <a:stretch/>
        </p:blipFill>
        <p:spPr>
          <a:xfrm>
            <a:off x="457200" y="3276720"/>
            <a:ext cx="1266840" cy="1447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72200" y="41148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Times New Roman"/>
              </a:rPr>
              <a:t>？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4572000" y="2133720"/>
            <a:ext cx="457200" cy="67053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74600 h 6705360"/>
              <a:gd name="textAreaBottom" fmla="*/ 6530760 h 670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5759280"/>
            <a:ext cx="32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Times New Roman"/>
              </a:rPr>
              <a:t>13</a:t>
            </a:r>
            <a:r>
              <a:rPr b="1" lang="zh-CN" sz="6600" spc="-1" strike="noStrike">
                <a:solidFill>
                  <a:srgbClr val="0033cc"/>
                </a:solidFill>
                <a:latin typeface="Times New Roman"/>
              </a:rPr>
              <a:t>本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457200" y="1905120"/>
            <a:ext cx="4191120" cy="1191240"/>
            <a:chOff x="457200" y="1905120"/>
            <a:chExt cx="4191120" cy="1191240"/>
          </a:xfrm>
        </p:grpSpPr>
        <p:sp>
          <p:nvSpPr>
            <p:cNvPr id="71" name=""/>
            <p:cNvSpPr/>
            <p:nvPr/>
          </p:nvSpPr>
          <p:spPr>
            <a:xfrm>
              <a:off x="457200" y="1905120"/>
              <a:ext cx="160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72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1440" y="2133720"/>
              <a:ext cx="761760" cy="762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95840" y="190512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Times New Roman"/>
                </a:rPr>
                <a:t>=13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572000" y="19051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96080" y="2057400"/>
            <a:ext cx="76212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19051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4038480"/>
            <a:ext cx="762120" cy="7621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286000" y="2971800"/>
            <a:ext cx="5791320" cy="1523880"/>
            <a:chOff x="2286000" y="2971800"/>
            <a:chExt cx="5791320" cy="1523880"/>
          </a:xfrm>
        </p:grpSpPr>
        <p:sp>
          <p:nvSpPr>
            <p:cNvPr id="79" name=""/>
            <p:cNvSpPr/>
            <p:nvPr/>
          </p:nvSpPr>
          <p:spPr>
            <a:xfrm>
              <a:off x="2286000" y="2971800"/>
              <a:ext cx="0" cy="152388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0" y="4495680"/>
              <a:ext cx="20574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81480" y="4495680"/>
              <a:ext cx="289584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77320" y="2971800"/>
              <a:ext cx="0" cy="152388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057400" y="190512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72400" y="182880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80988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2120"/>
            <a:ext cx="5334120" cy="419076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蝴蝶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蝴蝶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91" name="蝴蝶" descr=""/>
          <p:cNvPicPr/>
          <p:nvPr/>
        </p:nvPicPr>
        <p:blipFill>
          <a:blip r:embed="rId3"/>
          <a:stretch/>
        </p:blipFill>
        <p:spPr>
          <a:xfrm>
            <a:off x="2819520" y="1676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92" name="蝴蝶" descr=""/>
          <p:cNvPicPr/>
          <p:nvPr/>
        </p:nvPicPr>
        <p:blipFill>
          <a:blip r:embed="rId4"/>
          <a:stretch/>
        </p:blipFill>
        <p:spPr>
          <a:xfrm>
            <a:off x="4191120" y="1676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93" name="蝴蝶" descr=""/>
          <p:cNvPicPr/>
          <p:nvPr/>
        </p:nvPicPr>
        <p:blipFill>
          <a:blip r:embed="rId5"/>
          <a:stretch/>
        </p:blipFill>
        <p:spPr>
          <a:xfrm>
            <a:off x="5562720" y="1676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94" name="蝴蝶" descr=""/>
          <p:cNvPicPr/>
          <p:nvPr/>
        </p:nvPicPr>
        <p:blipFill>
          <a:blip r:embed="rId6"/>
          <a:stretch/>
        </p:blipFill>
        <p:spPr>
          <a:xfrm>
            <a:off x="7162920" y="1676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95" name="蝴蝶" descr=""/>
          <p:cNvPicPr/>
          <p:nvPr/>
        </p:nvPicPr>
        <p:blipFill>
          <a:blip r:embed="rId7"/>
          <a:stretch/>
        </p:blipFill>
        <p:spPr>
          <a:xfrm>
            <a:off x="76212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96" name="蝴蝶" descr=""/>
          <p:cNvPicPr/>
          <p:nvPr/>
        </p:nvPicPr>
        <p:blipFill>
          <a:blip r:embed="rId8"/>
          <a:stretch/>
        </p:blipFill>
        <p:spPr>
          <a:xfrm>
            <a:off x="2438280" y="30481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97" name="蝴蝶" descr=""/>
          <p:cNvPicPr/>
          <p:nvPr/>
        </p:nvPicPr>
        <p:blipFill>
          <a:blip r:embed="rId9"/>
          <a:stretch/>
        </p:blipFill>
        <p:spPr>
          <a:xfrm>
            <a:off x="38862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98" name="蝴蝶" descr=""/>
          <p:cNvPicPr/>
          <p:nvPr/>
        </p:nvPicPr>
        <p:blipFill>
          <a:blip r:embed="rId10"/>
          <a:stretch/>
        </p:blipFill>
        <p:spPr>
          <a:xfrm>
            <a:off x="533412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99" name="蝴蝶" descr=""/>
          <p:cNvPicPr/>
          <p:nvPr/>
        </p:nvPicPr>
        <p:blipFill>
          <a:blip r:embed="rId11"/>
          <a:stretch/>
        </p:blipFill>
        <p:spPr>
          <a:xfrm>
            <a:off x="66294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蝴蝶" descr=""/>
          <p:cNvPicPr/>
          <p:nvPr/>
        </p:nvPicPr>
        <p:blipFill>
          <a:blip r:embed="rId12"/>
          <a:stretch/>
        </p:blipFill>
        <p:spPr>
          <a:xfrm>
            <a:off x="7696080" y="304812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14400" y="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试一试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04920" y="5105520"/>
            <a:ext cx="3200400" cy="916920"/>
            <a:chOff x="304920" y="5105520"/>
            <a:chExt cx="3200400" cy="916920"/>
          </a:xfrm>
        </p:grpSpPr>
        <p:sp>
          <p:nvSpPr>
            <p:cNvPr id="103" name=""/>
            <p:cNvSpPr/>
            <p:nvPr/>
          </p:nvSpPr>
          <p:spPr>
            <a:xfrm>
              <a:off x="304920" y="5105520"/>
              <a:ext cx="2666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7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6880" y="5257800"/>
              <a:ext cx="83844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181480" y="4419720"/>
            <a:ext cx="3200400" cy="2057400"/>
            <a:chOff x="5181480" y="4419720"/>
            <a:chExt cx="3200400" cy="2057400"/>
          </a:xfrm>
        </p:grpSpPr>
        <p:sp>
          <p:nvSpPr>
            <p:cNvPr id="106" name=""/>
            <p:cNvSpPr/>
            <p:nvPr/>
          </p:nvSpPr>
          <p:spPr>
            <a:xfrm>
              <a:off x="5181480" y="4419720"/>
              <a:ext cx="3200400" cy="2057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4120" y="4876920"/>
              <a:ext cx="28191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想：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7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＋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5=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12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－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7=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819520" y="52578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304920"/>
            <a:ext cx="281952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Times New Roman"/>
              </a:rPr>
              <a:t>练一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004%5B3%5D" descr=""/>
          <p:cNvPicPr/>
          <p:nvPr/>
        </p:nvPicPr>
        <p:blipFill>
          <a:blip r:embed="rId1">
            <a:lum contrast="24000"/>
          </a:blip>
          <a:srcRect l="8244" t="8346" r="5165" b="8346"/>
          <a:stretch/>
        </p:blipFill>
        <p:spPr>
          <a:xfrm>
            <a:off x="380880" y="1371600"/>
            <a:ext cx="8001000" cy="3421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124080" y="5335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先理解图意，再列算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676520" y="5257800"/>
            <a:ext cx="4876200" cy="951840"/>
            <a:chOff x="1676520" y="5257800"/>
            <a:chExt cx="4876200" cy="951840"/>
          </a:xfrm>
        </p:grpSpPr>
        <p:sp>
          <p:nvSpPr>
            <p:cNvPr id="113" name=""/>
            <p:cNvSpPr/>
            <p:nvPr/>
          </p:nvSpPr>
          <p:spPr>
            <a:xfrm>
              <a:off x="1676520" y="5257800"/>
              <a:ext cx="265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70920" y="5352840"/>
              <a:ext cx="997200" cy="8568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90600" y="5352840"/>
              <a:ext cx="77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55520" y="5352840"/>
              <a:ext cx="997200" cy="8568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09880" y="5334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52578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457200"/>
            <a:ext cx="6781680" cy="1099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动动脑，想一想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9051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在每个图形上加一直线，使成为要求的图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2057400" cy="2057400"/>
          </a:xfrm>
          <a:prstGeom prst="rect">
            <a:avLst/>
          </a:prstGeom>
          <a:solidFill>
            <a:srgbClr val="ffffcc"/>
          </a:soli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3434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两个相同的三角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37720" y="4114800"/>
            <a:ext cx="20574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457200"/>
            <a:ext cx="6781680" cy="1099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动动脑，想一想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9051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在每个图形上加一直线，使成为要求的图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114800"/>
            <a:ext cx="2057400" cy="2057400"/>
          </a:xfrm>
          <a:prstGeom prst="rect">
            <a:avLst/>
          </a:prstGeom>
          <a:solidFill>
            <a:srgbClr val="ffffcc"/>
          </a:soli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43434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两个相同的三角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7360" y="4114800"/>
            <a:ext cx="20574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457200"/>
            <a:ext cx="6781680" cy="1099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动动脑，想一想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9051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在每个图形上加一直线，使成为要求的图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4114800"/>
            <a:ext cx="2057400" cy="2057400"/>
          </a:xfrm>
          <a:prstGeom prst="rect">
            <a:avLst/>
          </a:prstGeom>
          <a:solidFill>
            <a:srgbClr val="ffffcc"/>
          </a:soli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43434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两个不同的长方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46483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02:02Z</dcterms:created>
  <dc:creator>ww</dc:creator>
  <dc:description/>
  <dc:language>en-US</dc:language>
  <cp:lastModifiedBy>wang</cp:lastModifiedBy>
  <dcterms:modified xsi:type="dcterms:W3CDTF">2004-01-18T06:26:31Z</dcterms:modified>
  <cp:revision>4</cp:revision>
  <dc:subject/>
  <dc:title>PowerPoint 演示文稿</dc:title>
</cp:coreProperties>
</file>