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C94D2-34F4-4364-B48F-17EA2E901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C6D37-C7FC-4336-A574-8C9EB7B4D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1CC09-78F9-4533-BC7A-2C302B9A2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D48CC-0CBE-4403-AC33-3EDADB699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EFB26-6CD3-457A-8E2A-489828649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850DA-E54A-4779-8BA1-19DCFEEC6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6247E-E324-4406-BF7A-04F57C6A1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D403B-D606-4C98-8292-3D4068C49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2FE79-6F93-4FBB-837A-3F0054E24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5C268-FF0C-4BCA-9E66-8FA7EAA12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1C6B4-8B28-42EB-8A47-EFBBAE995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446BF-86B5-4F83-B477-CDD9F211C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9A47D-2D1C-4F95-BFF2-F0D8443E620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752480"/>
            <a:ext cx="8305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以内的退位减法练习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85800" y="228600"/>
            <a:ext cx="73152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cc00cc"/>
                </a:solidFill>
                <a:latin typeface="Times New Roman"/>
              </a:rPr>
              <a:t>讲一讲，算一算。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010%5B1%5D" descr=""/>
          <p:cNvPicPr/>
          <p:nvPr/>
        </p:nvPicPr>
        <p:blipFill>
          <a:blip r:embed="rId1">
            <a:lum contrast="48000"/>
          </a:blip>
          <a:stretch/>
        </p:blipFill>
        <p:spPr>
          <a:xfrm>
            <a:off x="0" y="1295280"/>
            <a:ext cx="9144000" cy="56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685800" y="228600"/>
            <a:ext cx="73152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cc00cc"/>
                </a:solidFill>
                <a:latin typeface="Times New Roman"/>
              </a:rPr>
              <a:t>讲一讲，算一算。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010%5B1%5D" descr=""/>
          <p:cNvPicPr/>
          <p:nvPr/>
        </p:nvPicPr>
        <p:blipFill>
          <a:blip r:embed="rId1">
            <a:lum contrast="48000"/>
          </a:blip>
          <a:stretch/>
        </p:blipFill>
        <p:spPr>
          <a:xfrm>
            <a:off x="990720" y="1295280"/>
            <a:ext cx="6629400" cy="2664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457200" y="4191120"/>
            <a:ext cx="8305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</a:rPr>
              <a:t>问：你会写出一道加法，一道减法算式吗？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04920" y="457200"/>
            <a:ext cx="6172200" cy="100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00cc"/>
                </a:solidFill>
                <a:latin typeface="Times New Roman"/>
              </a:rPr>
              <a:t>你是这样写的吗？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2362320"/>
            <a:ext cx="1447560" cy="144756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362320" y="2438280"/>
            <a:ext cx="1143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Times New Roman"/>
              </a:rPr>
              <a:t>＋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33920" y="2362320"/>
            <a:ext cx="1447560" cy="144756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638680" y="2514600"/>
            <a:ext cx="1067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781680" y="2362320"/>
            <a:ext cx="1447920" cy="144756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981080" y="457200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62120" y="2438280"/>
            <a:ext cx="1523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6600"/>
                </a:solidFill>
                <a:latin typeface="Times New Roman"/>
              </a:rPr>
              <a:t>7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962520" y="2438280"/>
            <a:ext cx="1523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6600"/>
                </a:solidFill>
                <a:latin typeface="Times New Roman"/>
              </a:rPr>
              <a:t>6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781680" y="2438280"/>
            <a:ext cx="2133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6600"/>
                </a:solidFill>
                <a:latin typeface="Times New Roman"/>
              </a:rPr>
              <a:t>13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04920" y="457200"/>
            <a:ext cx="6172200" cy="100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00cc"/>
                </a:solidFill>
                <a:latin typeface="Times New Roman"/>
              </a:rPr>
              <a:t>你是这样写的吗？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33520" y="2362320"/>
            <a:ext cx="1447560" cy="144756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362320" y="2438280"/>
            <a:ext cx="1143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Times New Roman"/>
              </a:rPr>
              <a:t>＋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733920" y="2362320"/>
            <a:ext cx="1447560" cy="144756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638680" y="2514600"/>
            <a:ext cx="1067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781680" y="2362320"/>
            <a:ext cx="1447920" cy="144756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981080" y="457200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86200" y="2438280"/>
            <a:ext cx="1523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6600"/>
                </a:solidFill>
                <a:latin typeface="Times New Roman"/>
              </a:rPr>
              <a:t>7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38080" y="2438280"/>
            <a:ext cx="1524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6600"/>
                </a:solidFill>
                <a:latin typeface="Times New Roman"/>
              </a:rPr>
              <a:t>6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781680" y="2438280"/>
            <a:ext cx="2133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6600"/>
                </a:solidFill>
                <a:latin typeface="Times New Roman"/>
              </a:rPr>
              <a:t>13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04920" y="457200"/>
            <a:ext cx="6172200" cy="100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00cc"/>
                </a:solidFill>
                <a:latin typeface="Times New Roman"/>
              </a:rPr>
              <a:t>你是这样写的吗？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33520" y="2362320"/>
            <a:ext cx="1447560" cy="144756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362320" y="2438280"/>
            <a:ext cx="1143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Times New Roman"/>
              </a:rPr>
              <a:t>－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733920" y="2362320"/>
            <a:ext cx="1447560" cy="144756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638680" y="2514600"/>
            <a:ext cx="1067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781680" y="2362320"/>
            <a:ext cx="1447920" cy="144756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981080" y="457200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886200" y="2438280"/>
            <a:ext cx="1523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6600"/>
                </a:solidFill>
                <a:latin typeface="Times New Roman"/>
              </a:rPr>
              <a:t>7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010280" y="2438280"/>
            <a:ext cx="1524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6600"/>
                </a:solidFill>
                <a:latin typeface="Times New Roman"/>
              </a:rPr>
              <a:t>6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09480" y="2438280"/>
            <a:ext cx="2133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6600"/>
                </a:solidFill>
                <a:latin typeface="Times New Roman"/>
              </a:rPr>
              <a:t>13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04920" y="457200"/>
            <a:ext cx="6172200" cy="100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00cc"/>
                </a:solidFill>
                <a:latin typeface="Times New Roman"/>
              </a:rPr>
              <a:t>你是这样写的吗？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33520" y="2362320"/>
            <a:ext cx="1447560" cy="144756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362320" y="2438280"/>
            <a:ext cx="1143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Times New Roman"/>
              </a:rPr>
              <a:t>－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733920" y="2362320"/>
            <a:ext cx="1447560" cy="144756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638680" y="2514600"/>
            <a:ext cx="1067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781680" y="2362320"/>
            <a:ext cx="1447920" cy="144756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81080" y="457200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934320" y="2438280"/>
            <a:ext cx="1523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6600"/>
                </a:solidFill>
                <a:latin typeface="Times New Roman"/>
              </a:rPr>
              <a:t>7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962520" y="2438280"/>
            <a:ext cx="1523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6600"/>
                </a:solidFill>
                <a:latin typeface="Times New Roman"/>
              </a:rPr>
              <a:t>6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09480" y="2438280"/>
            <a:ext cx="2133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6600"/>
                </a:solidFill>
                <a:latin typeface="Times New Roman"/>
              </a:rPr>
              <a:t>13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762120" y="0"/>
            <a:ext cx="73911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动动脑，想一想。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80880" y="1219320"/>
            <a:ext cx="8458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在       中填上适当的数，使式子符合大于和小于的要求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286000" y="1143000"/>
            <a:ext cx="914400" cy="9144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圆片" descr=""/>
          <p:cNvPicPr/>
          <p:nvPr/>
        </p:nvPicPr>
        <p:blipFill>
          <a:blip r:embed="rId1">
            <a:lum contrast="18000"/>
          </a:blip>
          <a:srcRect l="20238" t="0" r="9537" b="10861"/>
          <a:stretch/>
        </p:blipFill>
        <p:spPr>
          <a:xfrm>
            <a:off x="1752480" y="2666880"/>
            <a:ext cx="5181840" cy="396252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0" y="530532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答案有多种，只要符合要求就行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038480" y="2743200"/>
            <a:ext cx="99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038480" y="4267080"/>
            <a:ext cx="129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038480" y="5791320"/>
            <a:ext cx="838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95880" y="4191120"/>
            <a:ext cx="914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057400" y="4343400"/>
            <a:ext cx="838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762120" y="0"/>
            <a:ext cx="73911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动动脑，想一想。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80880" y="1219320"/>
            <a:ext cx="8458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在       中填上适当的数，使式子符合大于和小于的要求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286000" y="1143000"/>
            <a:ext cx="914400" cy="9144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圆片" descr=""/>
          <p:cNvPicPr/>
          <p:nvPr/>
        </p:nvPicPr>
        <p:blipFill>
          <a:blip r:embed="rId1">
            <a:lum contrast="18000"/>
          </a:blip>
          <a:srcRect l="20238" t="0" r="9537" b="10861"/>
          <a:stretch/>
        </p:blipFill>
        <p:spPr>
          <a:xfrm>
            <a:off x="1752480" y="2666880"/>
            <a:ext cx="5181840" cy="396252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0" y="530532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答案有多种，只要符合要求就行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962520" y="289548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99ff"/>
                </a:solidFill>
                <a:latin typeface="Times New Roman"/>
              </a:rPr>
              <a:t>1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962520" y="441972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99ff"/>
                </a:solidFill>
                <a:latin typeface="Times New Roman"/>
              </a:rPr>
              <a:t>1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114800" y="594360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99ff"/>
                </a:solidFill>
                <a:latin typeface="Times New Roman"/>
              </a:rPr>
              <a:t>2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095880" y="4343400"/>
            <a:ext cx="106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99ff"/>
                </a:solidFill>
                <a:latin typeface="Times New Roman"/>
              </a:rPr>
              <a:t>1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57400" y="441972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99ff"/>
                </a:solidFill>
                <a:latin typeface="Times New Roman"/>
              </a:rPr>
              <a:t>2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6T11:07:51Z</dcterms:created>
  <dc:creator>ww</dc:creator>
  <dc:description/>
  <dc:language>en-US</dc:language>
  <cp:lastModifiedBy>wang</cp:lastModifiedBy>
  <dcterms:modified xsi:type="dcterms:W3CDTF">2004-01-18T06:27:16Z</dcterms:modified>
  <cp:revision>3</cp:revision>
  <dc:subject/>
  <dc:title>PowerPoint 演示文稿</dc:title>
</cp:coreProperties>
</file>