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C373-9097-4964-BF27-9A041BB2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734F-63ED-4EF5-A005-7676FE74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AAB4-CA2C-4451-AE7A-5926917B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7620-EA7E-402E-9526-E7430BCC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E8DD-DDE9-4123-98D2-48C71868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28F-347C-464B-8F6E-17EF09DC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60EF-18BD-41FA-9EC6-B7490B1B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23E9-81A7-4E40-91E2-F83F6E11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DCC9-286E-45C1-89DC-E0BC40AB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1B97-AC64-479E-A698-4651CC31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CC2F-A153-4583-9356-A4661622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2DA-D487-494C-91EF-2BCC65EA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0EF4-D688-4EA2-A78A-04FE47AA9B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8960" y="606600"/>
            <a:ext cx="7138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口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=         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=           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=          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=         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=             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=          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=         1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=           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=          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71960" y="133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56320" y="131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608800" y="131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61280" y="131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480" y="2057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3724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4160" y="2057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7712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780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545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75400" y="277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771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56000" y="3546360"/>
            <a:ext cx="7701840" cy="2167920"/>
            <a:chOff x="756000" y="3546360"/>
            <a:chExt cx="7701840" cy="2167920"/>
          </a:xfrm>
        </p:grpSpPr>
        <p:pic>
          <p:nvPicPr>
            <p:cNvPr id="55" name="1" descr=""/>
            <p:cNvPicPr/>
            <p:nvPr/>
          </p:nvPicPr>
          <p:blipFill>
            <a:blip r:embed="rId1"/>
            <a:stretch/>
          </p:blipFill>
          <p:spPr>
            <a:xfrm>
              <a:off x="1318320" y="3702240"/>
              <a:ext cx="7139520" cy="201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56000" y="354636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594800" y="5327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41400" y="53182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11040" y="5334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85160" y="5318280"/>
            <a:ext cx="436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36440" y="5330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79400" y="51800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29280" y="530856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82320" y="5318280"/>
            <a:ext cx="436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65480" y="5332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08440" y="51814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58320" y="5310360"/>
            <a:ext cx="39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11000" y="5319720"/>
            <a:ext cx="436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8080" y="83808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1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3962520" cy="2760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44340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2" descr=""/>
          <p:cNvPicPr/>
          <p:nvPr/>
        </p:nvPicPr>
        <p:blipFill>
          <a:blip r:embed="rId2"/>
          <a:stretch/>
        </p:blipFill>
        <p:spPr>
          <a:xfrm>
            <a:off x="4967280" y="2209680"/>
            <a:ext cx="3871800" cy="2667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9040" y="144792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83040" y="144792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043520" y="1645560"/>
            <a:ext cx="1185840" cy="42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隶书"/>
                <a:ea typeface="隶书"/>
              </a:rPr>
              <a:t>十几减</a:t>
            </a:r>
            <a:r>
              <a:rPr b="1" lang="en-US" sz="6600" spc="-1" strike="noStrike">
                <a:solidFill>
                  <a:srgbClr val="ff9900"/>
                </a:solidFill>
                <a:latin typeface="隶书"/>
                <a:ea typeface="隶书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19320" y="91440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41200" y="1143000"/>
            <a:ext cx="424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校养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只              ，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只             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共养多少只兔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bt" descr=""/>
          <p:cNvPicPr/>
          <p:nvPr/>
        </p:nvPicPr>
        <p:blipFill>
          <a:blip r:embed="rId2"/>
          <a:stretch/>
        </p:blipFill>
        <p:spPr>
          <a:xfrm>
            <a:off x="4106880" y="990720"/>
            <a:ext cx="998640" cy="647640"/>
          </a:xfrm>
          <a:prstGeom prst="rect">
            <a:avLst/>
          </a:prstGeom>
          <a:ln w="0">
            <a:noFill/>
          </a:ln>
        </p:spPr>
      </p:pic>
      <p:pic>
        <p:nvPicPr>
          <p:cNvPr id="80" name="ht" descr=""/>
          <p:cNvPicPr/>
          <p:nvPr/>
        </p:nvPicPr>
        <p:blipFill>
          <a:blip r:embed="rId3"/>
          <a:stretch/>
        </p:blipFill>
        <p:spPr>
          <a:xfrm>
            <a:off x="6248520" y="990720"/>
            <a:ext cx="922320" cy="61092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2722320" y="4648320"/>
            <a:ext cx="3798720" cy="534600"/>
            <a:chOff x="2722320" y="4648320"/>
            <a:chExt cx="3798720" cy="534600"/>
          </a:xfrm>
        </p:grpSpPr>
        <p:sp>
          <p:nvSpPr>
            <p:cNvPr id="82" name=""/>
            <p:cNvSpPr/>
            <p:nvPr/>
          </p:nvSpPr>
          <p:spPr>
            <a:xfrm>
              <a:off x="4725720" y="4648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91680" y="4683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（只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22320" y="4662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0800" y="464832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70240" y="4648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17480" y="464832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349520" y="5500800"/>
            <a:ext cx="1543320" cy="521640"/>
            <a:chOff x="4349520" y="5500800"/>
            <a:chExt cx="1543320" cy="521640"/>
          </a:xfrm>
        </p:grpSpPr>
        <p:sp>
          <p:nvSpPr>
            <p:cNvPr id="89" name=""/>
            <p:cNvSpPr/>
            <p:nvPr/>
          </p:nvSpPr>
          <p:spPr>
            <a:xfrm>
              <a:off x="4349520" y="5562720"/>
              <a:ext cx="15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口答：一共养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_____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只兔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74720" y="55008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429000" y="1676520"/>
            <a:ext cx="1828800" cy="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1676520"/>
            <a:ext cx="1676520" cy="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3440" y="205740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~~~~~~~~~~~~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200400" y="2604960"/>
            <a:ext cx="998640" cy="1014480"/>
            <a:chOff x="3200400" y="2604960"/>
            <a:chExt cx="998640" cy="1014480"/>
          </a:xfrm>
        </p:grpSpPr>
        <p:pic>
          <p:nvPicPr>
            <p:cNvPr id="95" name="bt" descr=""/>
            <p:cNvPicPr/>
            <p:nvPr/>
          </p:nvPicPr>
          <p:blipFill>
            <a:blip r:embed="rId4"/>
            <a:stretch/>
          </p:blipFill>
          <p:spPr>
            <a:xfrm>
              <a:off x="3200400" y="2971800"/>
              <a:ext cx="9986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450600" y="260496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410080" y="2590920"/>
            <a:ext cx="922320" cy="992160"/>
            <a:chOff x="5410080" y="2590920"/>
            <a:chExt cx="922320" cy="992160"/>
          </a:xfrm>
        </p:grpSpPr>
        <p:pic>
          <p:nvPicPr>
            <p:cNvPr id="98" name="ht" descr=""/>
            <p:cNvPicPr/>
            <p:nvPr/>
          </p:nvPicPr>
          <p:blipFill>
            <a:blip r:embed="rId5"/>
            <a:stretch/>
          </p:blipFill>
          <p:spPr>
            <a:xfrm>
              <a:off x="5410080" y="2971800"/>
              <a:ext cx="922320" cy="6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628600" y="259092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578760" y="3802320"/>
            <a:ext cx="2287800" cy="640440"/>
            <a:chOff x="3578760" y="3802320"/>
            <a:chExt cx="2287800" cy="640440"/>
          </a:xfrm>
        </p:grpSpPr>
        <p:sp>
          <p:nvSpPr>
            <p:cNvPr id="101" name=""/>
            <p:cNvSpPr/>
            <p:nvPr/>
          </p:nvSpPr>
          <p:spPr>
            <a:xfrm rot="16246200">
              <a:off x="4646160" y="2750760"/>
              <a:ext cx="152640" cy="22860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02960" y="3983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91440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96880" y="1143000"/>
            <a:ext cx="37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校养            和              一共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白兔是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只，黑兔是几只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bt" descr=""/>
          <p:cNvPicPr/>
          <p:nvPr/>
        </p:nvPicPr>
        <p:blipFill>
          <a:blip r:embed="rId2"/>
          <a:stretch/>
        </p:blipFill>
        <p:spPr>
          <a:xfrm>
            <a:off x="3505320" y="990720"/>
            <a:ext cx="998280" cy="647640"/>
          </a:xfrm>
          <a:prstGeom prst="rect">
            <a:avLst/>
          </a:prstGeom>
          <a:ln w="0">
            <a:noFill/>
          </a:ln>
        </p:spPr>
      </p:pic>
      <p:pic>
        <p:nvPicPr>
          <p:cNvPr id="106" name="ht" descr=""/>
          <p:cNvPicPr/>
          <p:nvPr/>
        </p:nvPicPr>
        <p:blipFill>
          <a:blip r:embed="rId3"/>
          <a:stretch/>
        </p:blipFill>
        <p:spPr>
          <a:xfrm>
            <a:off x="5097600" y="990720"/>
            <a:ext cx="922320" cy="61092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2895840" y="4700520"/>
            <a:ext cx="3424320" cy="711360"/>
            <a:chOff x="2895840" y="4700520"/>
            <a:chExt cx="3424320" cy="711360"/>
          </a:xfrm>
        </p:grpSpPr>
        <p:sp>
          <p:nvSpPr>
            <p:cNvPr id="108" name=""/>
            <p:cNvSpPr/>
            <p:nvPr/>
          </p:nvSpPr>
          <p:spPr>
            <a:xfrm>
              <a:off x="4401360" y="48304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07920" y="478296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（只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95840" y="481932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62200" y="4700520"/>
              <a:ext cx="49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44160" y="4805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34880" y="4805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953520" y="5576760"/>
            <a:ext cx="2335680" cy="521640"/>
            <a:chOff x="3953520" y="5576760"/>
            <a:chExt cx="2335680" cy="521640"/>
          </a:xfrm>
        </p:grpSpPr>
        <p:sp>
          <p:nvSpPr>
            <p:cNvPr id="115" name=""/>
            <p:cNvSpPr/>
            <p:nvPr/>
          </p:nvSpPr>
          <p:spPr>
            <a:xfrm>
              <a:off x="3953520" y="5638680"/>
              <a:ext cx="23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口答：黑兔是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_____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只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99080" y="5576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4804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2" descr=""/>
          <p:cNvPicPr/>
          <p:nvPr/>
        </p:nvPicPr>
        <p:blipFill>
          <a:blip r:embed="rId4"/>
          <a:stretch/>
        </p:blipFill>
        <p:spPr>
          <a:xfrm>
            <a:off x="3429000" y="2666880"/>
            <a:ext cx="243828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533520" y="457200"/>
            <a:ext cx="1675080" cy="533160"/>
            <a:chOff x="533520" y="457200"/>
            <a:chExt cx="1675080" cy="533160"/>
          </a:xfrm>
        </p:grpSpPr>
        <p:sp>
          <p:nvSpPr>
            <p:cNvPr id="120" name=""/>
            <p:cNvSpPr/>
            <p:nvPr/>
          </p:nvSpPr>
          <p:spPr>
            <a:xfrm>
              <a:off x="533520" y="457200"/>
              <a:ext cx="1117080" cy="5331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做一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1662840" y="444240"/>
              <a:ext cx="533160" cy="5583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94480" y="675360"/>
              <a:ext cx="9324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903320" y="990720"/>
            <a:ext cx="4741920" cy="1735560"/>
            <a:chOff x="1903320" y="990720"/>
            <a:chExt cx="4741920" cy="1735560"/>
          </a:xfrm>
        </p:grpSpPr>
        <p:grpSp>
          <p:nvGrpSpPr>
            <p:cNvPr id="124" name=""/>
            <p:cNvGrpSpPr/>
            <p:nvPr/>
          </p:nvGrpSpPr>
          <p:grpSpPr>
            <a:xfrm>
              <a:off x="1903320" y="990720"/>
              <a:ext cx="4741920" cy="1186920"/>
              <a:chOff x="1903320" y="990720"/>
              <a:chExt cx="4741920" cy="1186920"/>
            </a:xfrm>
          </p:grpSpPr>
          <p:sp>
            <p:nvSpPr>
              <p:cNvPr id="125" name=""/>
              <p:cNvSpPr/>
              <p:nvPr/>
            </p:nvSpPr>
            <p:spPr>
              <a:xfrm>
                <a:off x="1903320" y="1108080"/>
                <a:ext cx="4658040" cy="10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小明家有７条　　　　　，８条　　　　　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　　一共有多少条金鱼？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" name="bj" descr=""/>
              <p:cNvPicPr/>
              <p:nvPr/>
            </p:nvPicPr>
            <p:blipFill>
              <a:blip r:embed="rId2"/>
              <a:stretch/>
            </p:blipFill>
            <p:spPr>
              <a:xfrm>
                <a:off x="3521160" y="990720"/>
                <a:ext cx="1143000" cy="60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hj" descr=""/>
              <p:cNvPicPr/>
              <p:nvPr/>
            </p:nvPicPr>
            <p:blipFill>
              <a:blip r:embed="rId3"/>
              <a:stretch/>
            </p:blipFill>
            <p:spPr>
              <a:xfrm>
                <a:off x="5537160" y="1001880"/>
                <a:ext cx="1108080" cy="674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" name=""/>
            <p:cNvGrpSpPr/>
            <p:nvPr/>
          </p:nvGrpSpPr>
          <p:grpSpPr>
            <a:xfrm>
              <a:off x="2854440" y="2313000"/>
              <a:ext cx="3087360" cy="413280"/>
              <a:chOff x="2854440" y="2313000"/>
              <a:chExt cx="3087360" cy="413280"/>
            </a:xfrm>
          </p:grpSpPr>
          <p:sp>
            <p:nvSpPr>
              <p:cNvPr id="129" name=""/>
              <p:cNvSpPr/>
              <p:nvPr/>
            </p:nvSpPr>
            <p:spPr>
              <a:xfrm>
                <a:off x="2854440" y="231300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73280" y="2354400"/>
                <a:ext cx="304920" cy="304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30480" y="2313000"/>
                <a:ext cx="38124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443120" y="232740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844880" y="2313000"/>
                <a:ext cx="38124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303880" y="231300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条）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5286240" y="2879640"/>
            <a:ext cx="13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口答：一共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条金鱼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6560" y="2311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73280" y="2292480"/>
            <a:ext cx="2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8412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23640" y="2293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01560" y="2851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68120" y="3352680"/>
            <a:ext cx="4528440" cy="1678680"/>
            <a:chOff x="1968120" y="3352680"/>
            <a:chExt cx="4528440" cy="1678680"/>
          </a:xfrm>
        </p:grpSpPr>
        <p:sp>
          <p:nvSpPr>
            <p:cNvPr id="142" name=""/>
            <p:cNvSpPr/>
            <p:nvPr/>
          </p:nvSpPr>
          <p:spPr>
            <a:xfrm>
              <a:off x="1968120" y="3470400"/>
              <a:ext cx="45284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．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小明家有　　　　　和　　　　　一共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条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　　白金鱼有７条，红金鱼有几条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" name="bj" descr=""/>
            <p:cNvPicPr/>
            <p:nvPr/>
          </p:nvPicPr>
          <p:blipFill>
            <a:blip r:embed="rId4"/>
            <a:stretch/>
          </p:blipFill>
          <p:spPr>
            <a:xfrm>
              <a:off x="2971800" y="3352680"/>
              <a:ext cx="114300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hj" descr=""/>
            <p:cNvPicPr/>
            <p:nvPr/>
          </p:nvPicPr>
          <p:blipFill>
            <a:blip r:embed="rId5"/>
            <a:stretch/>
          </p:blipFill>
          <p:spPr>
            <a:xfrm>
              <a:off x="4572000" y="3352680"/>
              <a:ext cx="110808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879640" y="4618080"/>
              <a:ext cx="3812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3489480" y="4618080"/>
              <a:ext cx="2468160" cy="413280"/>
              <a:chOff x="3489480" y="4618080"/>
              <a:chExt cx="2468160" cy="413280"/>
            </a:xfrm>
          </p:grpSpPr>
          <p:sp>
            <p:nvSpPr>
              <p:cNvPr id="147" name=""/>
              <p:cNvSpPr/>
              <p:nvPr/>
            </p:nvSpPr>
            <p:spPr>
              <a:xfrm>
                <a:off x="3489480" y="4659480"/>
                <a:ext cx="304560" cy="304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946680" y="461808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59320" y="463248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861080" y="461808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319720" y="461808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条）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"/>
          <p:cNvSpPr/>
          <p:nvPr/>
        </p:nvSpPr>
        <p:spPr>
          <a:xfrm>
            <a:off x="4754160" y="5192640"/>
            <a:ext cx="187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口答：红金鱼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条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64520" y="4608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71840" y="4378320"/>
            <a:ext cx="29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82680" y="4600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12920" y="4591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90920" y="5165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03:58:23Z</dcterms:created>
  <dc:creator>ww</dc:creator>
  <dc:description/>
  <dc:language>en-US</dc:language>
  <cp:lastModifiedBy>ccw</cp:lastModifiedBy>
  <dcterms:modified xsi:type="dcterms:W3CDTF">2004-03-09T09:59:37Z</dcterms:modified>
  <cp:revision>171</cp:revision>
  <dc:subject/>
  <dc:title>PowerPoint 演示文稿</dc:title>
</cp:coreProperties>
</file>