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60E-182B-4A8E-9E3B-03FC9B02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457-2CC0-4438-B83B-46226F8B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7696-F0B8-4972-B3A4-F0C9CE6D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5DA-2B52-45DF-BE47-400F8AD0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1658-2770-49CE-BFE5-76EB2885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C709-7069-4E11-A71B-BF8D7F2D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4E35-6ABC-469E-82EA-91F42474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6F5-459E-4172-ACFA-FAB4ACA2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121A-7E2A-4E62-A452-CA961C02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9BA-37AB-41E2-B483-473B29D2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190-BE80-4B70-88AD-3EBA71AD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8B0-EC8E-48D8-ACB7-7B686111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AF3C-22A7-4562-9162-2378167EA1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国旗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32448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14600" y="1981080"/>
            <a:ext cx="0" cy="198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1981080"/>
            <a:ext cx="3809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1981080"/>
            <a:ext cx="0" cy="198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3962520"/>
            <a:ext cx="3809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6000" y="4724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长方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35000" y="148896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请说出几号图形是长方形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3429000"/>
            <a:ext cx="121932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8741600">
            <a:off x="2742840" y="3352320"/>
            <a:ext cx="121932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4419000" y="3429000"/>
            <a:ext cx="1214280" cy="914400"/>
          </a:xfrm>
          <a:custGeom>
            <a:avLst/>
            <a:gdLst>
              <a:gd name="textAreaLeft" fmla="*/ 265680 w 1214280"/>
              <a:gd name="textAreaRight" fmla="*/ 948600 w 1214280"/>
              <a:gd name="textAreaTop" fmla="*/ 200160 h 914400"/>
              <a:gd name="textAreaBottom" fmla="*/ 7142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36" y="21600"/>
                </a:lnTo>
                <a:lnTo>
                  <a:pt x="5364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34290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3048120"/>
            <a:ext cx="6858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19051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429000" y="190512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9051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429000" y="41148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6000" y="4724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正方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45280" y="1066680"/>
            <a:ext cx="247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．沿虚线折一折，看看正方形的边长怎么样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长方形的边长怎么样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2743200"/>
            <a:ext cx="129528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86000" y="2781360"/>
            <a:ext cx="1295280" cy="1295280"/>
          </a:xfrm>
          <a:prstGeom prst="line">
            <a:avLst/>
          </a:prstGeom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2743200"/>
            <a:ext cx="1295280" cy="1295280"/>
          </a:xfrm>
          <a:prstGeom prst="line">
            <a:avLst/>
          </a:prstGeom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2857680"/>
            <a:ext cx="26668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8954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429000"/>
            <a:ext cx="266688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70040" y="4756320"/>
            <a:ext cx="35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．说一说，哪些物品的面是正方形的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哪些物品的面是长方形的．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56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长方形   正方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anchao</cp:lastModifiedBy>
  <dcterms:modified xsi:type="dcterms:W3CDTF">2003-02-25T08:21:51Z</dcterms:modified>
  <cp:revision>11</cp:revision>
  <dc:subject/>
  <dc:title>PowerPoint Presentation</dc:title>
</cp:coreProperties>
</file>