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004-480B-449B-9EBB-5EEF393E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5F3-F70F-40E2-9694-734D2614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E3F-959F-488F-B4C5-C42BC80C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127-8A86-47AA-8A36-6AE4C540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D1C-67F6-4742-B9D8-47741220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D5C-A135-436C-A1AB-E96420E6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646-DF45-4F3E-8D85-080A9B17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BB2-CFB3-4AAD-AB04-7DB59F83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EED-4C6B-4ADD-B325-C4837237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5AB-E395-4038-8DB2-E575E79E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351-1C4F-498B-A54F-25A39883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58E-F5BA-4057-838F-64F9EBA9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F479-219C-4ABC-9912-87AAF8D6D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038480"/>
            <a:ext cx="838080" cy="2286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5105520"/>
            <a:ext cx="1371600" cy="144756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257800"/>
            <a:ext cx="1295280" cy="99072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5486400"/>
            <a:ext cx="1752480" cy="990720"/>
          </a:xfrm>
          <a:prstGeom prst="cube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724280"/>
            <a:ext cx="838080" cy="17528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4191120"/>
            <a:ext cx="990360" cy="2057400"/>
          </a:xfrm>
          <a:prstGeom prst="can">
            <a:avLst>
              <a:gd name="adj" fmla="val 250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52880"/>
            <a:ext cx="609480" cy="1067040"/>
          </a:xfrm>
          <a:prstGeom prst="ca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648320"/>
            <a:ext cx="838080" cy="182880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791320"/>
            <a:ext cx="838080" cy="106668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Times New Roman"/>
              </a:rPr>
              <a:t>图形的认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847880" cy="164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4724280"/>
            <a:ext cx="9144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752480" cy="15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514520" cy="16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920" y="4876920"/>
            <a:ext cx="1415880" cy="162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867280" y="4114800"/>
            <a:ext cx="2648160" cy="1374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514600" y="5029200"/>
            <a:ext cx="230508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371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朋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514600"/>
            <a:ext cx="640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说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东西的形状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99088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1143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8380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色的粮仓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812960" cy="2081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54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8195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一块钱币也可以看作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3371760" cy="175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2880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334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包也是圆柱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95280"/>
            <a:ext cx="1904760" cy="685800"/>
          </a:xfrm>
          <a:prstGeom prst="ca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04920"/>
            <a:ext cx="1218960" cy="20574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800240" y="761760"/>
            <a:ext cx="838080" cy="20574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457200"/>
            <a:ext cx="1219320" cy="17524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819520"/>
            <a:ext cx="7924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朋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能说圆柱上下两个面是什么形状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1895760" cy="2590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162920" y="3505320"/>
            <a:ext cx="1658880" cy="297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533520"/>
            <a:ext cx="396216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它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形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都是</a:t>
            </a:r>
            <a:r>
              <a:rPr b="1" lang="zh-CN" sz="5400" spc="-1" strike="noStrike">
                <a:solidFill>
                  <a:srgbClr val="ff9966"/>
                </a:solidFill>
                <a:latin typeface="Times New Roman"/>
              </a:rPr>
              <a:t>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一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219320"/>
            <a:ext cx="304920" cy="10666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1676520"/>
            <a:ext cx="990360" cy="6094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334120" y="2438280"/>
            <a:ext cx="304560" cy="10670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676520"/>
            <a:ext cx="685800" cy="457200"/>
          </a:xfrm>
          <a:prstGeom prst="cube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1447920"/>
            <a:ext cx="685800" cy="761760"/>
          </a:xfrm>
          <a:prstGeom prst="cube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990720"/>
            <a:ext cx="609840" cy="1295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861840" cy="87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61840" cy="87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2590920"/>
            <a:ext cx="762120" cy="6094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638280" cy="65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10280" y="2438280"/>
            <a:ext cx="1143000" cy="8384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9112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方体有（   ）个        圆柱体有（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方体有（   ）个          球      有（  ）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1:27:18Z</dcterms:created>
  <dc:creator>ww</dc:creator>
  <dc:description/>
  <dc:language>en-US</dc:language>
  <cp:lastModifiedBy>ss</cp:lastModifiedBy>
  <dcterms:modified xsi:type="dcterms:W3CDTF">1999-11-16T03:20:25Z</dcterms:modified>
  <cp:revision>6</cp:revision>
  <dc:subject/>
  <dc:title>没有幻灯片标题</dc:title>
</cp:coreProperties>
</file>