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0506-7042-4D17-8911-C166516BD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FCEA-6E51-4B48-8BA0-25CC46737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2E76-44CC-4767-818C-E0B687750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C6DB-845C-437D-8023-A49B94C9A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173E-D808-45E5-9DB9-0BEEAC3F9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985D-9432-4704-8714-9C0A539FA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C38E-2DAD-425D-86D4-3F3E37984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9A65-E9A5-4D58-88CA-18B3D2D45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93C8-4F3E-4A5B-8EF4-1E28185AD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FA21-A304-4ECD-8AC5-E4BF61E9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E28B-79E0-4A2B-B5D6-A7E7A15F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B03A-DA3B-47FD-879C-B5727A75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ACDF8-9885-43DB-AA5C-84208C8A222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1371600"/>
            <a:ext cx="746784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图形的拼组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智力游戏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092" descr=""/>
          <p:cNvPicPr/>
          <p:nvPr/>
        </p:nvPicPr>
        <p:blipFill>
          <a:blip r:embed="rId1">
            <a:lum contrast="42000"/>
          </a:blip>
          <a:srcRect l="25345" t="3950" r="32314" b="85089"/>
          <a:stretch/>
        </p:blipFill>
        <p:spPr>
          <a:xfrm>
            <a:off x="0" y="0"/>
            <a:ext cx="4038480" cy="1587600"/>
          </a:xfrm>
          <a:prstGeom prst="rect">
            <a:avLst/>
          </a:prstGeom>
          <a:ln w="0">
            <a:noFill/>
          </a:ln>
        </p:spPr>
      </p:pic>
      <p:pic>
        <p:nvPicPr>
          <p:cNvPr id="43" name="092" descr=""/>
          <p:cNvPicPr/>
          <p:nvPr/>
        </p:nvPicPr>
        <p:blipFill>
          <a:blip r:embed="rId2">
            <a:lum contrast="48000"/>
          </a:blip>
          <a:srcRect l="33492" t="39042" r="38606" b="50836"/>
          <a:stretch/>
        </p:blipFill>
        <p:spPr>
          <a:xfrm>
            <a:off x="4114800" y="4952880"/>
            <a:ext cx="2209680" cy="1219320"/>
          </a:xfrm>
          <a:prstGeom prst="rect">
            <a:avLst/>
          </a:prstGeom>
          <a:ln w="0">
            <a:noFill/>
          </a:ln>
        </p:spPr>
      </p:pic>
      <p:pic>
        <p:nvPicPr>
          <p:cNvPr id="44" name="092" descr=""/>
          <p:cNvPicPr/>
          <p:nvPr/>
        </p:nvPicPr>
        <p:blipFill>
          <a:blip r:embed="rId3">
            <a:lum contrast="54000"/>
          </a:blip>
          <a:srcRect l="7444" t="16959" r="3260" b="75701"/>
          <a:stretch/>
        </p:blipFill>
        <p:spPr>
          <a:xfrm>
            <a:off x="0" y="1676520"/>
            <a:ext cx="8686800" cy="1085760"/>
          </a:xfrm>
          <a:prstGeom prst="rect">
            <a:avLst/>
          </a:prstGeom>
          <a:ln w="0">
            <a:noFill/>
          </a:ln>
        </p:spPr>
      </p:pic>
      <p:pic>
        <p:nvPicPr>
          <p:cNvPr id="45" name="092" descr=""/>
          <p:cNvPicPr/>
          <p:nvPr/>
        </p:nvPicPr>
        <p:blipFill>
          <a:blip r:embed="rId4">
            <a:lum contrast="42000"/>
          </a:blip>
          <a:srcRect l="33439" t="26757" r="39511" b="63162"/>
          <a:stretch/>
        </p:blipFill>
        <p:spPr>
          <a:xfrm>
            <a:off x="3657600" y="3048120"/>
            <a:ext cx="2286000" cy="1295280"/>
          </a:xfrm>
          <a:prstGeom prst="rect">
            <a:avLst/>
          </a:prstGeom>
          <a:ln w="0">
            <a:noFill/>
          </a:ln>
        </p:spPr>
      </p:pic>
      <p:pic>
        <p:nvPicPr>
          <p:cNvPr id="46" name="092" descr=""/>
          <p:cNvPicPr/>
          <p:nvPr/>
        </p:nvPicPr>
        <p:blipFill>
          <a:blip r:embed="rId5">
            <a:lum contrast="42000"/>
          </a:blip>
          <a:srcRect l="4526" t="41281" r="66517" b="51316"/>
          <a:stretch/>
        </p:blipFill>
        <p:spPr>
          <a:xfrm>
            <a:off x="380880" y="4952880"/>
            <a:ext cx="3505320" cy="1363680"/>
          </a:xfrm>
          <a:prstGeom prst="rect">
            <a:avLst/>
          </a:prstGeom>
          <a:ln w="0">
            <a:noFill/>
          </a:ln>
        </p:spPr>
      </p:pic>
      <p:pic>
        <p:nvPicPr>
          <p:cNvPr id="47" name="092" descr=""/>
          <p:cNvPicPr/>
          <p:nvPr/>
        </p:nvPicPr>
        <p:blipFill>
          <a:blip r:embed="rId6">
            <a:lum contrast="42000"/>
          </a:blip>
          <a:srcRect l="5071" t="30088" r="74787" b="62398"/>
          <a:stretch/>
        </p:blipFill>
        <p:spPr>
          <a:xfrm>
            <a:off x="685800" y="3048120"/>
            <a:ext cx="2286000" cy="1295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553080" y="3200400"/>
            <a:ext cx="2286000" cy="1922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你还能把它们拼成其它图形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092" descr=""/>
          <p:cNvPicPr/>
          <p:nvPr/>
        </p:nvPicPr>
        <p:blipFill>
          <a:blip r:embed="rId1">
            <a:lum contrast="42000"/>
          </a:blip>
          <a:srcRect l="25345" t="3950" r="32314" b="85089"/>
          <a:stretch/>
        </p:blipFill>
        <p:spPr>
          <a:xfrm>
            <a:off x="0" y="0"/>
            <a:ext cx="4038480" cy="158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" name=""/>
          <p:cNvGraphicFramePr/>
          <p:nvPr/>
        </p:nvGraphicFramePr>
        <p:xfrm>
          <a:off x="228600" y="1676520"/>
          <a:ext cx="8534520" cy="1334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676520"/>
                    <a:ext cx="8534520" cy="13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04920" y="3352680"/>
          <a:ext cx="2743200" cy="1073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3352680"/>
                    <a:ext cx="274320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533520" y="4952880"/>
          <a:ext cx="1904760" cy="1714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520" y="4952880"/>
                    <a:ext cx="1904760" cy="17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3657600" y="5257800"/>
          <a:ext cx="2286000" cy="1403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657600" y="5257800"/>
                    <a:ext cx="2286000" cy="14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200400" y="3429000"/>
          <a:ext cx="2057400" cy="1338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200400" y="3429000"/>
                    <a:ext cx="205740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5715000" y="3276720"/>
          <a:ext cx="2362320" cy="18288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715000" y="3276720"/>
                    <a:ext cx="23623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092" descr=""/>
          <p:cNvPicPr/>
          <p:nvPr/>
        </p:nvPicPr>
        <p:blipFill>
          <a:blip r:embed="rId1">
            <a:lum contrast="42000"/>
          </a:blip>
          <a:srcRect l="25345" t="3950" r="32314" b="85089"/>
          <a:stretch/>
        </p:blipFill>
        <p:spPr>
          <a:xfrm>
            <a:off x="0" y="0"/>
            <a:ext cx="4038480" cy="158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228600" y="1676520"/>
          <a:ext cx="8534520" cy="1334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676520"/>
                    <a:ext cx="8534520" cy="13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304920" y="3809880"/>
          <a:ext cx="4114800" cy="160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3809880"/>
                    <a:ext cx="4114800" cy="16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 flipH="1">
            <a:off x="2362320" y="4495680"/>
            <a:ext cx="1218960" cy="76212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43000" y="4419720"/>
            <a:ext cx="1295280" cy="83808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092" descr=""/>
          <p:cNvPicPr/>
          <p:nvPr/>
        </p:nvPicPr>
        <p:blipFill>
          <a:blip r:embed="rId1">
            <a:lum contrast="42000"/>
          </a:blip>
          <a:srcRect l="25345" t="3950" r="32314" b="85089"/>
          <a:stretch/>
        </p:blipFill>
        <p:spPr>
          <a:xfrm>
            <a:off x="0" y="0"/>
            <a:ext cx="4038480" cy="158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" name=""/>
          <p:cNvGraphicFramePr/>
          <p:nvPr/>
        </p:nvGraphicFramePr>
        <p:xfrm>
          <a:off x="228600" y="1676520"/>
          <a:ext cx="8534520" cy="1334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676520"/>
                    <a:ext cx="8534520" cy="13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2057400" y="3352680"/>
          <a:ext cx="33526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57400" y="3352680"/>
                    <a:ext cx="33526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2666880" y="472428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33920" y="34290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4724280"/>
            <a:ext cx="2057400" cy="15242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092" descr=""/>
          <p:cNvPicPr/>
          <p:nvPr/>
        </p:nvPicPr>
        <p:blipFill>
          <a:blip r:embed="rId1">
            <a:lum contrast="42000"/>
          </a:blip>
          <a:srcRect l="25345" t="3950" r="32314" b="85089"/>
          <a:stretch/>
        </p:blipFill>
        <p:spPr>
          <a:xfrm>
            <a:off x="0" y="0"/>
            <a:ext cx="4038480" cy="158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" name=""/>
          <p:cNvGraphicFramePr/>
          <p:nvPr/>
        </p:nvGraphicFramePr>
        <p:xfrm>
          <a:off x="228600" y="1676520"/>
          <a:ext cx="8534520" cy="1334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676520"/>
                    <a:ext cx="8534520" cy="13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2666880" y="3276720"/>
          <a:ext cx="3962520" cy="2577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666880" y="3276720"/>
                    <a:ext cx="3962520" cy="25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3276720" y="4648320"/>
            <a:ext cx="2514600" cy="152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647960" y="3352680"/>
            <a:ext cx="152280" cy="14479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092" descr=""/>
          <p:cNvPicPr/>
          <p:nvPr/>
        </p:nvPicPr>
        <p:blipFill>
          <a:blip r:embed="rId1">
            <a:lum contrast="42000"/>
          </a:blip>
          <a:srcRect l="25345" t="3950" r="32314" b="85089"/>
          <a:stretch/>
        </p:blipFill>
        <p:spPr>
          <a:xfrm>
            <a:off x="0" y="0"/>
            <a:ext cx="4038480" cy="158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" name=""/>
          <p:cNvGraphicFramePr/>
          <p:nvPr/>
        </p:nvGraphicFramePr>
        <p:xfrm>
          <a:off x="228600" y="1676520"/>
          <a:ext cx="8534520" cy="1334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676520"/>
                    <a:ext cx="8534520" cy="13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2819520" y="3429000"/>
          <a:ext cx="3809880" cy="2338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19520" y="3429000"/>
                    <a:ext cx="3809880" cy="23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 flipH="1">
            <a:off x="4114800" y="4572000"/>
            <a:ext cx="1295280" cy="10666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43400" y="3657600"/>
            <a:ext cx="106668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971800" y="4495680"/>
            <a:ext cx="2438280" cy="763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092" descr=""/>
          <p:cNvPicPr/>
          <p:nvPr/>
        </p:nvPicPr>
        <p:blipFill>
          <a:blip r:embed="rId1">
            <a:lum contrast="42000"/>
          </a:blip>
          <a:srcRect l="25345" t="3950" r="32314" b="85089"/>
          <a:stretch/>
        </p:blipFill>
        <p:spPr>
          <a:xfrm>
            <a:off x="0" y="0"/>
            <a:ext cx="4038480" cy="158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228600" y="1676520"/>
          <a:ext cx="8534520" cy="1334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676520"/>
                    <a:ext cx="8534520" cy="13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0" y="3657600"/>
          <a:ext cx="2666880" cy="2062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3657600"/>
                    <a:ext cx="2666880" cy="20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3124080" y="3048120"/>
          <a:ext cx="2533680" cy="3286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124080" y="3048120"/>
                    <a:ext cx="2533680" cy="32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3962520" y="411480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3124080"/>
            <a:ext cx="0" cy="1067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38480" y="4114800"/>
            <a:ext cx="0" cy="2057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00400" y="52578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67280" y="320040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先画出正方形，再用虚线画出三角形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6T09:09:33Z</dcterms:created>
  <dc:creator>ww</dc:creator>
  <dc:description/>
  <dc:language>en-US</dc:language>
  <cp:lastModifiedBy>wang</cp:lastModifiedBy>
  <dcterms:modified xsi:type="dcterms:W3CDTF">2004-01-13T01:44:24Z</dcterms:modified>
  <cp:revision>8</cp:revision>
  <dc:subject/>
  <dc:title>PowerPoint 演示文稿</dc:title>
</cp:coreProperties>
</file>