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609-36E3-4829-8F67-DC3117AA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0AB-C926-4475-9685-83444D4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31B-7196-450E-885D-D21A1F74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E28-701C-4EF2-948E-27B1B542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E1C-5904-4A97-8289-708D57C3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19D-C05A-4A48-883A-D1783537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86C-002E-4186-857D-E191F00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954-5F1F-4EBD-91FE-82BC10B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5B8-45D8-4264-A610-66C0C7D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3CB-16FC-43A1-9852-23C6D5F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FAB-0B5A-4FBE-96DB-76A196CA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068-8469-48DB-862C-F1FCD7E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7D4-B42D-4BDD-A9D9-7EEF321D7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00560" y="3205080"/>
            <a:ext cx="265752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多媒体课件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57080" y="3500280"/>
            <a:ext cx="2095200" cy="2369520"/>
            <a:chOff x="757080" y="3500280"/>
            <a:chExt cx="2095200" cy="2369520"/>
          </a:xfrm>
        </p:grpSpPr>
        <p:sp>
          <p:nvSpPr>
            <p:cNvPr id="43" name=""/>
            <p:cNvSpPr/>
            <p:nvPr/>
          </p:nvSpPr>
          <p:spPr>
            <a:xfrm flipH="1" rot="2833200">
              <a:off x="914040" y="3657240"/>
              <a:ext cx="76176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8120400">
              <a:off x="1295640" y="4266360"/>
              <a:ext cx="1067040" cy="1066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5421000">
              <a:off x="1066320" y="4799520"/>
              <a:ext cx="1066680" cy="106668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8871200">
              <a:off x="1600200" y="4647600"/>
              <a:ext cx="533160" cy="5331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3543800">
              <a:off x="1981080" y="5028840"/>
              <a:ext cx="533160" cy="53280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2980200">
              <a:off x="1601640" y="4419000"/>
              <a:ext cx="1064880" cy="303120"/>
            </a:xfrm>
            <a:prstGeom prst="parallelogram">
              <a:avLst>
                <a:gd name="adj" fmla="val 8771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9221600">
              <a:off x="2210040" y="4038480"/>
              <a:ext cx="533160" cy="53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65412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剪剪、拼拼、分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47040" y="4001400"/>
            <a:ext cx="2946600" cy="2315160"/>
            <a:chOff x="347040" y="4001400"/>
            <a:chExt cx="2946600" cy="2315160"/>
          </a:xfrm>
        </p:grpSpPr>
        <p:sp>
          <p:nvSpPr>
            <p:cNvPr id="52" name=""/>
            <p:cNvSpPr/>
            <p:nvPr/>
          </p:nvSpPr>
          <p:spPr>
            <a:xfrm rot="13487400">
              <a:off x="457200" y="4114440"/>
              <a:ext cx="533520" cy="53280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047600">
              <a:off x="761760" y="4495320"/>
              <a:ext cx="60948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743800">
              <a:off x="1218960" y="4114800"/>
              <a:ext cx="532800" cy="5331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8150400">
              <a:off x="913680" y="5029200"/>
              <a:ext cx="1066680" cy="1066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97200">
              <a:off x="1447560" y="4800240"/>
              <a:ext cx="1066680" cy="106632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313000">
              <a:off x="2514600" y="4800240"/>
              <a:ext cx="76140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829000">
              <a:off x="2287800" y="4343040"/>
              <a:ext cx="1064880" cy="303120"/>
            </a:xfrm>
            <a:prstGeom prst="parallelogram">
              <a:avLst>
                <a:gd name="adj" fmla="val 8771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625200" y="3576600"/>
            <a:ext cx="2094840" cy="2369520"/>
            <a:chOff x="3625200" y="3576600"/>
            <a:chExt cx="2094840" cy="2369520"/>
          </a:xfrm>
        </p:grpSpPr>
        <p:sp>
          <p:nvSpPr>
            <p:cNvPr id="60" name=""/>
            <p:cNvSpPr/>
            <p:nvPr/>
          </p:nvSpPr>
          <p:spPr>
            <a:xfrm rot="18766800">
              <a:off x="4800600" y="3733560"/>
              <a:ext cx="76176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479600">
              <a:off x="4114080" y="4343040"/>
              <a:ext cx="1066680" cy="1066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179000">
              <a:off x="4343040" y="4875840"/>
              <a:ext cx="1066680" cy="106668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728800">
              <a:off x="4343400" y="4723920"/>
              <a:ext cx="533160" cy="53352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8056200">
              <a:off x="3961800" y="5104800"/>
              <a:ext cx="533160" cy="53316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619800">
              <a:off x="3810240" y="4495320"/>
              <a:ext cx="1064880" cy="303120"/>
            </a:xfrm>
            <a:prstGeom prst="parallelogram">
              <a:avLst>
                <a:gd name="adj" fmla="val 8771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378400">
              <a:off x="3733560" y="4114800"/>
              <a:ext cx="533160" cy="53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38000" y="3928320"/>
            <a:ext cx="2779200" cy="2025000"/>
            <a:chOff x="6138000" y="3928320"/>
            <a:chExt cx="2779200" cy="2025000"/>
          </a:xfrm>
        </p:grpSpPr>
        <p:sp>
          <p:nvSpPr>
            <p:cNvPr id="68" name=""/>
            <p:cNvSpPr/>
            <p:nvPr/>
          </p:nvSpPr>
          <p:spPr>
            <a:xfrm rot="7986600">
              <a:off x="6248160" y="4038480"/>
              <a:ext cx="533520" cy="53316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4480" y="4267080"/>
              <a:ext cx="5335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66000">
              <a:off x="6247800" y="4876200"/>
              <a:ext cx="1066680" cy="1066680"/>
            </a:xfrm>
            <a:prstGeom prst="rtTriangl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000">
              <a:off x="7316280" y="4266720"/>
              <a:ext cx="1065240" cy="381240"/>
            </a:xfrm>
            <a:prstGeom prst="parallelogram">
              <a:avLst>
                <a:gd name="adj" fmla="val 6976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343000">
              <a:off x="7314840" y="4647960"/>
              <a:ext cx="761760" cy="762120"/>
            </a:xfrm>
            <a:prstGeom prst="rtTriangl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194600">
              <a:off x="7314840" y="4342680"/>
              <a:ext cx="1066680" cy="10666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21600">
              <a:off x="8381880" y="4343400"/>
              <a:ext cx="533520" cy="53352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419720" y="2590920"/>
            <a:ext cx="41148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4914720" y="5143320"/>
            <a:ext cx="1067040" cy="2057400"/>
          </a:xfrm>
          <a:custGeom>
            <a:avLst/>
            <a:gdLst/>
            <a:ahLst/>
            <a:rect l="l" t="t" r="r" b="b"/>
            <a:pathLst>
              <a:path w="672" h="1296">
                <a:moveTo>
                  <a:pt x="0" y="0"/>
                </a:moveTo>
                <a:lnTo>
                  <a:pt x="0" y="1296"/>
                </a:lnTo>
                <a:lnTo>
                  <a:pt x="672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5943600" y="4114440"/>
            <a:ext cx="2133720" cy="1066680"/>
          </a:xfrm>
          <a:custGeom>
            <a:avLst/>
            <a:gdLst/>
            <a:ahLst/>
            <a:rect l="l" t="t" r="r" b="b"/>
            <a:pathLst>
              <a:path w="1344" h="672">
                <a:moveTo>
                  <a:pt x="672" y="0"/>
                </a:moveTo>
                <a:lnTo>
                  <a:pt x="0" y="672"/>
                </a:lnTo>
                <a:lnTo>
                  <a:pt x="1344" y="672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77120" y="4647960"/>
            <a:ext cx="2057400" cy="2057400"/>
          </a:xfrm>
          <a:custGeom>
            <a:avLst/>
            <a:gdLst/>
            <a:ahLst/>
            <a:rect l="l" t="t" r="r" b="b"/>
            <a:pathLst>
              <a:path w="1296" h="1296">
                <a:moveTo>
                  <a:pt x="0" y="0"/>
                </a:moveTo>
                <a:lnTo>
                  <a:pt x="0" y="1296"/>
                </a:lnTo>
                <a:lnTo>
                  <a:pt x="1296" y="1296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6515280" y="3619440"/>
            <a:ext cx="3047760" cy="99072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624" y="624"/>
                </a:moveTo>
                <a:lnTo>
                  <a:pt x="1920" y="624"/>
                </a:lnTo>
                <a:lnTo>
                  <a:pt x="1296" y="0"/>
                </a:lnTo>
                <a:lnTo>
                  <a:pt x="0" y="0"/>
                </a:lnTo>
                <a:lnTo>
                  <a:pt x="624" y="62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3390840" y="3619440"/>
            <a:ext cx="4114800" cy="2057400"/>
          </a:xfrm>
          <a:custGeom>
            <a:avLst/>
            <a:gdLst/>
            <a:ahLst/>
            <a:rect l="l" t="t" r="r" b="b"/>
            <a:pathLst>
              <a:path w="2592" h="1296">
                <a:moveTo>
                  <a:pt x="0" y="0"/>
                </a:moveTo>
                <a:lnTo>
                  <a:pt x="1296" y="1296"/>
                </a:lnTo>
                <a:lnTo>
                  <a:pt x="25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448240" y="1561680"/>
            <a:ext cx="2057400" cy="4114800"/>
          </a:xfrm>
          <a:custGeom>
            <a:avLst/>
            <a:gdLst/>
            <a:ahLst/>
            <a:rect l="l" t="t" r="r" b="b"/>
            <a:pathLst>
              <a:path w="1296" h="2592">
                <a:moveTo>
                  <a:pt x="1296" y="0"/>
                </a:moveTo>
                <a:lnTo>
                  <a:pt x="0" y="1296"/>
                </a:lnTo>
                <a:lnTo>
                  <a:pt x="1296" y="2592"/>
                </a:lnTo>
                <a:cubicBezTo>
                  <a:pt x="1296" y="1728"/>
                  <a:pt x="1296" y="864"/>
                  <a:pt x="1296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隶书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七巧板是我们祖先发明的一种传统智力玩具。它不仅是我国人民喜爱的玩具，而且广泛流传到世界各国。玩七巧板会使你越玩越聪明。右下图是一副七巧板，它有七块小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4343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4419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6095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038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58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12408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）６号是平行四边形，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_____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号是正方形。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_______________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号是三角形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572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57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16200000">
            <a:off x="4724280" y="2438280"/>
            <a:ext cx="4114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24280" y="2438280"/>
            <a:ext cx="4114800" cy="4114800"/>
            <a:chOff x="4724280" y="2438280"/>
            <a:chExt cx="4114800" cy="4114800"/>
          </a:xfrm>
        </p:grpSpPr>
        <p:sp>
          <p:nvSpPr>
            <p:cNvPr id="103" name="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24280" y="2438280"/>
              <a:ext cx="4114800" cy="411480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781320" y="4495680"/>
            <a:ext cx="2057400" cy="2057400"/>
            <a:chOff x="6781320" y="4495680"/>
            <a:chExt cx="2057400" cy="2057400"/>
          </a:xfrm>
        </p:grpSpPr>
        <p:sp>
          <p:nvSpPr>
            <p:cNvPr id="106" name=""/>
            <p:cNvSpPr/>
            <p:nvPr/>
          </p:nvSpPr>
          <p:spPr>
            <a:xfrm flipH="1">
              <a:off x="6781320" y="4495680"/>
              <a:ext cx="2057400" cy="205740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723920" y="2437920"/>
            <a:ext cx="3048120" cy="3048120"/>
            <a:chOff x="4723920" y="2437920"/>
            <a:chExt cx="3048120" cy="3048120"/>
          </a:xfrm>
        </p:grpSpPr>
        <p:sp>
          <p:nvSpPr>
            <p:cNvPr id="109" name=""/>
            <p:cNvSpPr/>
            <p:nvPr/>
          </p:nvSpPr>
          <p:spPr>
            <a:xfrm flipH="1" flipV="1">
              <a:off x="4723920" y="2437920"/>
              <a:ext cx="3048120" cy="30481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14640" y="3428640"/>
            <a:ext cx="2591280" cy="3124080"/>
            <a:chOff x="5714640" y="3428640"/>
            <a:chExt cx="2591280" cy="3124080"/>
          </a:xfrm>
        </p:grpSpPr>
        <p:grpSp>
          <p:nvGrpSpPr>
            <p:cNvPr id="112" name=""/>
            <p:cNvGrpSpPr/>
            <p:nvPr/>
          </p:nvGrpSpPr>
          <p:grpSpPr>
            <a:xfrm>
              <a:off x="5714640" y="5486040"/>
              <a:ext cx="1066680" cy="1066680"/>
              <a:chOff x="5714640" y="5486040"/>
              <a:chExt cx="1066680" cy="1066680"/>
            </a:xfrm>
          </p:grpSpPr>
          <p:sp>
            <p:nvSpPr>
              <p:cNvPr id="113" name=""/>
              <p:cNvSpPr/>
              <p:nvPr/>
            </p:nvSpPr>
            <p:spPr>
              <a:xfrm flipH="1" flipV="1">
                <a:off x="5714640" y="5486040"/>
                <a:ext cx="1066680" cy="1066680"/>
              </a:xfrm>
              <a:prstGeom prst="line">
                <a:avLst/>
              </a:prstGeom>
              <a:ln w="93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58672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④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V="1">
              <a:off x="7848720" y="3428640"/>
              <a:ext cx="0" cy="205740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724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16200000">
            <a:off x="4724280" y="2438280"/>
            <a:ext cx="41148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752800" y="1409040"/>
            <a:ext cx="2057400" cy="4114800"/>
          </a:xfrm>
          <a:custGeom>
            <a:avLst/>
            <a:gdLst/>
            <a:ahLst/>
            <a:rect l="l" t="t" r="r" b="b"/>
            <a:pathLst>
              <a:path w="1296" h="2592">
                <a:moveTo>
                  <a:pt x="1296" y="0"/>
                </a:moveTo>
                <a:lnTo>
                  <a:pt x="0" y="1296"/>
                </a:lnTo>
                <a:lnTo>
                  <a:pt x="1296" y="2592"/>
                </a:lnTo>
                <a:cubicBezTo>
                  <a:pt x="1296" y="1728"/>
                  <a:pt x="1296" y="864"/>
                  <a:pt x="1296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219640" y="4990680"/>
            <a:ext cx="1066680" cy="2057400"/>
          </a:xfrm>
          <a:custGeom>
            <a:avLst/>
            <a:gdLst/>
            <a:ahLst/>
            <a:rect l="l" t="t" r="r" b="b"/>
            <a:pathLst>
              <a:path w="672" h="1296">
                <a:moveTo>
                  <a:pt x="0" y="0"/>
                </a:moveTo>
                <a:lnTo>
                  <a:pt x="0" y="1296"/>
                </a:lnTo>
                <a:lnTo>
                  <a:pt x="672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695400" y="3466800"/>
            <a:ext cx="4114800" cy="2057400"/>
          </a:xfrm>
          <a:custGeom>
            <a:avLst/>
            <a:gdLst/>
            <a:ahLst/>
            <a:rect l="l" t="t" r="r" b="b"/>
            <a:pathLst>
              <a:path w="2592" h="1296">
                <a:moveTo>
                  <a:pt x="0" y="0"/>
                </a:moveTo>
                <a:lnTo>
                  <a:pt x="1296" y="1296"/>
                </a:lnTo>
                <a:lnTo>
                  <a:pt x="25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6819840" y="3466800"/>
            <a:ext cx="3048120" cy="99036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624" y="624"/>
                </a:moveTo>
                <a:lnTo>
                  <a:pt x="1920" y="624"/>
                </a:lnTo>
                <a:lnTo>
                  <a:pt x="1296" y="0"/>
                </a:lnTo>
                <a:lnTo>
                  <a:pt x="0" y="0"/>
                </a:lnTo>
                <a:lnTo>
                  <a:pt x="624" y="62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781680" y="4495320"/>
            <a:ext cx="2057400" cy="2057400"/>
          </a:xfrm>
          <a:custGeom>
            <a:avLst/>
            <a:gdLst/>
            <a:ahLst/>
            <a:rect l="l" t="t" r="r" b="b"/>
            <a:pathLst>
              <a:path w="1296" h="1296">
                <a:moveTo>
                  <a:pt x="0" y="0"/>
                </a:moveTo>
                <a:lnTo>
                  <a:pt x="0" y="1296"/>
                </a:lnTo>
                <a:lnTo>
                  <a:pt x="1296" y="1296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248160" y="3961800"/>
            <a:ext cx="2133720" cy="1067040"/>
          </a:xfrm>
          <a:custGeom>
            <a:avLst/>
            <a:gdLst/>
            <a:ahLst/>
            <a:rect l="l" t="t" r="r" b="b"/>
            <a:pathLst>
              <a:path w="1344" h="672">
                <a:moveTo>
                  <a:pt x="672" y="0"/>
                </a:moveTo>
                <a:lnTo>
                  <a:pt x="0" y="672"/>
                </a:lnTo>
                <a:lnTo>
                  <a:pt x="1344" y="672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２．给画好的七巧板上色，并剪下各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在正方形纸板上，按图所示画好线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71604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让我们自已动手来做一副七巧板，好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-1828800" y="-1600200"/>
            <a:ext cx="5867280" cy="4444920"/>
            <a:chOff x="-1828800" y="-1600200"/>
            <a:chExt cx="5867280" cy="4444920"/>
          </a:xfrm>
        </p:grpSpPr>
        <p:sp>
          <p:nvSpPr>
            <p:cNvPr id="128" name=""/>
            <p:cNvSpPr/>
            <p:nvPr/>
          </p:nvSpPr>
          <p:spPr>
            <a:xfrm rot="16200000">
              <a:off x="1005120" y="115200"/>
              <a:ext cx="2727360" cy="2731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333080" y="1808280"/>
              <a:ext cx="706320" cy="1366560"/>
            </a:xfrm>
            <a:custGeom>
              <a:avLst/>
              <a:gdLst/>
              <a:ahLst/>
              <a:rect l="l" t="t" r="r" b="b"/>
              <a:pathLst>
                <a:path w="672" h="1296">
                  <a:moveTo>
                    <a:pt x="0" y="0"/>
                  </a:moveTo>
                  <a:lnTo>
                    <a:pt x="0" y="1296"/>
                  </a:lnTo>
                  <a:lnTo>
                    <a:pt x="672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2084040" y="1127160"/>
              <a:ext cx="1415880" cy="707400"/>
            </a:xfrm>
            <a:custGeom>
              <a:avLst/>
              <a:gdLst/>
              <a:ahLst/>
              <a:rect l="l" t="t" r="r" b="b"/>
              <a:pathLst>
                <a:path w="1344" h="672">
                  <a:moveTo>
                    <a:pt x="672" y="0"/>
                  </a:moveTo>
                  <a:lnTo>
                    <a:pt x="0" y="672"/>
                  </a:lnTo>
                  <a:lnTo>
                    <a:pt x="1344" y="672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2371320" y="1481040"/>
              <a:ext cx="1361880" cy="1364760"/>
            </a:xfrm>
            <a:custGeom>
              <a:avLst/>
              <a:gdLst/>
              <a:ahLst/>
              <a:rect l="l" t="t" r="r" b="b"/>
              <a:pathLst>
                <a:path w="1296" h="1296">
                  <a:moveTo>
                    <a:pt x="0" y="0"/>
                  </a:moveTo>
                  <a:lnTo>
                    <a:pt x="0" y="1296"/>
                  </a:lnTo>
                  <a:lnTo>
                    <a:pt x="1296" y="12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2395080" y="839520"/>
              <a:ext cx="2019240" cy="657000"/>
            </a:xfrm>
            <a:custGeom>
              <a:avLst/>
              <a:gdLst/>
              <a:ahLst/>
              <a:rect l="l" t="t" r="r" b="b"/>
              <a:pathLst>
                <a:path w="1920" h="624">
                  <a:moveTo>
                    <a:pt x="624" y="624"/>
                  </a:moveTo>
                  <a:lnTo>
                    <a:pt x="1920" y="624"/>
                  </a:lnTo>
                  <a:lnTo>
                    <a:pt x="1296" y="0"/>
                  </a:lnTo>
                  <a:lnTo>
                    <a:pt x="0" y="0"/>
                  </a:lnTo>
                  <a:lnTo>
                    <a:pt x="624" y="6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322560" y="797760"/>
              <a:ext cx="2727360" cy="1366560"/>
            </a:xfrm>
            <a:custGeom>
              <a:avLst/>
              <a:gdLst/>
              <a:ahLst/>
              <a:rect l="l" t="t" r="r" b="b"/>
              <a:pathLst>
                <a:path w="2592" h="1296">
                  <a:moveTo>
                    <a:pt x="0" y="0"/>
                  </a:moveTo>
                  <a:lnTo>
                    <a:pt x="1296" y="1296"/>
                  </a:lnTo>
                  <a:lnTo>
                    <a:pt x="25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1685880" y="-565920"/>
              <a:ext cx="1365480" cy="2731680"/>
            </a:xfrm>
            <a:custGeom>
              <a:avLst/>
              <a:gdLst/>
              <a:ahLst/>
              <a:rect l="l" t="t" r="r" b="b"/>
              <a:pathLst>
                <a:path w="1296" h="2592">
                  <a:moveTo>
                    <a:pt x="1296" y="0"/>
                  </a:moveTo>
                  <a:lnTo>
                    <a:pt x="0" y="1296"/>
                  </a:lnTo>
                  <a:lnTo>
                    <a:pt x="1296" y="2592"/>
                  </a:lnTo>
                  <a:cubicBezTo>
                    <a:pt x="1296" y="1728"/>
                    <a:pt x="1296" y="864"/>
                    <a:pt x="1296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22360" y="-1600200"/>
              <a:ext cx="455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cc99"/>
                  </a:solidFill>
                  <a:latin typeface="Times New Roman"/>
                  <a:ea typeface="隶书"/>
                </a:rPr>
                <a:t>    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1828800" y="-9460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99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7120" y="1281240"/>
              <a:ext cx="404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360" y="331920"/>
              <a:ext cx="5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171440"/>
              <a:ext cx="7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560" y="2286000"/>
              <a:ext cx="45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360" y="1758960"/>
              <a:ext cx="45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240" y="118728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0960" y="1077840"/>
              <a:ext cx="3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7144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191120" y="609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（２）照上面七巧板小图形的编号，写出下面两个图形中各小图形的编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3124080"/>
            <a:ext cx="4038840" cy="19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114800"/>
            <a:ext cx="9903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09680" y="3124080"/>
            <a:ext cx="198144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09680" y="3124080"/>
            <a:ext cx="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218960" y="3124080"/>
            <a:ext cx="9903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4114800"/>
            <a:ext cx="99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11480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280" y="3124080"/>
            <a:ext cx="99072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3352680"/>
            <a:ext cx="4572000" cy="1524240"/>
          </a:xfrm>
          <a:custGeom>
            <a:avLst/>
            <a:gdLst/>
            <a:ahLst/>
            <a:rect l="l" t="t" r="r" b="b"/>
            <a:pathLst>
              <a:path w="2880" h="960">
                <a:moveTo>
                  <a:pt x="0" y="0"/>
                </a:moveTo>
                <a:lnTo>
                  <a:pt x="960" y="960"/>
                </a:lnTo>
                <a:lnTo>
                  <a:pt x="2880" y="960"/>
                </a:lnTo>
                <a:lnTo>
                  <a:pt x="192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43600" y="33526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3526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43240" y="4114800"/>
            <a:ext cx="76212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352680"/>
            <a:ext cx="76212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11480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705720" y="4114800"/>
            <a:ext cx="76176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05720" y="335232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181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这是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形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181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这是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_________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形</a:t>
            </a: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019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思考：你能用其他方法拼成上面这个长方形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181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长  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51814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平行四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9118400">
            <a:off x="762120" y="35053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5627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838600">
            <a:off x="5257440" y="57150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851800">
            <a:off x="3962520" y="20574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62485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001400">
            <a:off x="60955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914400">
            <a:off x="5562720" y="47239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505320" y="62485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8958200">
            <a:off x="6400440" y="14479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2438280" y="380988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153800">
            <a:off x="228600" y="17521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838080" y="601992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17400">
            <a:off x="838080" y="510552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16800">
            <a:off x="4952520" y="624816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8065800">
            <a:off x="5486400" y="419076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396252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649000">
            <a:off x="457200" y="281916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2778600">
            <a:off x="2819520" y="617184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8150400">
            <a:off x="4723920" y="5943240"/>
            <a:ext cx="60984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24080" y="5638680"/>
            <a:ext cx="60984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3512600">
            <a:off x="75960" y="5714280"/>
            <a:ext cx="60948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2666880"/>
            <a:ext cx="60948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657240" y="3581280"/>
            <a:ext cx="60948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8190000">
            <a:off x="837720" y="4038120"/>
            <a:ext cx="609840" cy="6098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858200">
            <a:off x="685440" y="3048120"/>
            <a:ext cx="83808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864600">
            <a:off x="3581280" y="2209320"/>
            <a:ext cx="83844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920" y="3276720"/>
            <a:ext cx="83808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0075800">
            <a:off x="4266720" y="5181120"/>
            <a:ext cx="83844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295280" y="5791320"/>
            <a:ext cx="83844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3531800">
            <a:off x="2666880" y="5257440"/>
            <a:ext cx="83808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9636000">
            <a:off x="5638320" y="6095160"/>
            <a:ext cx="83844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685000">
            <a:off x="3276360" y="472392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4952880"/>
            <a:ext cx="83844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715000" y="3276720"/>
            <a:ext cx="838080" cy="8380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8182800">
            <a:off x="3276360" y="312372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0968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81080" y="640008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9131000">
            <a:off x="2666520" y="365724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5676840" y="2324160"/>
            <a:ext cx="990720" cy="304560"/>
          </a:xfrm>
          <a:prstGeom prst="parallelogram">
            <a:avLst>
              <a:gd name="adj" fmla="val 1120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95280" y="403776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66400">
            <a:off x="5142960" y="529560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rot="2775600">
            <a:off x="113400" y="537228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用七巧板可拼搭成各种人体动态、动物、植物、用具、建筑物等许多奇巧图形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让我们一起动手来拼一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8917400">
            <a:off x="8077320" y="5638680"/>
            <a:ext cx="838080" cy="8384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8124600">
            <a:off x="7467120" y="3962520"/>
            <a:ext cx="838440" cy="8380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547600">
            <a:off x="7314840" y="358128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30000">
            <a:off x="7620120" y="5714640"/>
            <a:ext cx="990360" cy="304920"/>
          </a:xfrm>
          <a:prstGeom prst="parallelogram">
            <a:avLst>
              <a:gd name="adj" fmla="val 11190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748000">
            <a:off x="8114760" y="3238560"/>
            <a:ext cx="990720" cy="304920"/>
          </a:xfrm>
          <a:prstGeom prst="parallelogram">
            <a:avLst>
              <a:gd name="adj" fmla="val 11194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838600">
            <a:off x="7695720" y="19810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600">
            <a:off x="6781680" y="5638320"/>
            <a:ext cx="838440" cy="838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680200">
            <a:off x="7543440" y="2743200"/>
            <a:ext cx="838080" cy="838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8150400">
            <a:off x="7543080" y="6171840"/>
            <a:ext cx="60948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238200">
            <a:off x="8001000" y="2590920"/>
            <a:ext cx="609480" cy="6094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551800">
            <a:off x="7543440" y="563868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3386000">
            <a:off x="7315200" y="3505320"/>
            <a:ext cx="457200" cy="4572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55627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543800" y="5181480"/>
            <a:ext cx="457200" cy="4572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65040" y="68472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隶书"/>
              </a:rPr>
              <a:t>试试看，你还能拼出什么图形，  比比谁的图案又多又好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4572000" cy="429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12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971800" y="3205080"/>
            <a:ext cx="3086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808080"/>
                  </a:outerShdw>
                </a:effectLst>
                <a:latin typeface="华文新魏"/>
              </a:rPr>
              <a:t>多媒体课件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4" name="BS00554_" descr=""/>
          <p:cNvPicPr/>
          <p:nvPr/>
        </p:nvPicPr>
        <p:blipFill>
          <a:blip r:embed="rId1"/>
          <a:stretch/>
        </p:blipFill>
        <p:spPr>
          <a:xfrm>
            <a:off x="685800" y="439272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D07311_" descr=""/>
          <p:cNvPicPr/>
          <p:nvPr/>
        </p:nvPicPr>
        <p:blipFill>
          <a:blip r:embed="rId1"/>
          <a:stretch/>
        </p:blipFill>
        <p:spPr>
          <a:xfrm>
            <a:off x="3429000" y="0"/>
            <a:ext cx="642924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3520" y="1066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Times New Roman"/>
              </a:rPr>
              <a:t>小朋友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514600"/>
            <a:ext cx="243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10:28:41Z</dcterms:created>
  <dc:creator>ww</dc:creator>
  <dc:description/>
  <dc:language>en-US</dc:language>
  <cp:lastModifiedBy>wang</cp:lastModifiedBy>
  <dcterms:modified xsi:type="dcterms:W3CDTF">2004-01-15T02:45:40Z</dcterms:modified>
  <cp:revision>38</cp:revision>
  <dc:subject/>
  <dc:title>PowerPoint 演示文稿</dc:title>
</cp:coreProperties>
</file>