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F79-FE17-48CB-A8F9-5FAE4D96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F674-A752-47CC-9A2F-A29AA768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321-6A50-4E25-96E0-B55D9414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B41B-E4CB-4039-AA4C-A470A6D6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BB9D-7724-42C1-8B1B-CDDC6B2B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4CA-6B1F-4249-90BE-45967318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F81-47F7-4812-8DA5-974558B2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CCAE-9616-4965-BEB6-82926DB6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521-E0E3-4EF1-9CE1-D5CF0D67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687-A6AC-4344-848F-BD32DB73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7910-302C-41D3-9DAC-DCB717EE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D10F-2EFD-4639-BC95-5CF73795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F10E-C3CC-4896-BA49-9443C0F737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国旗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32448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14600" y="1981080"/>
            <a:ext cx="0" cy="198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1981080"/>
            <a:ext cx="3809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1981080"/>
            <a:ext cx="0" cy="198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3962520"/>
            <a:ext cx="3809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6000" y="4724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长方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35000" y="148896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请说出几号图形是长方形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3429000"/>
            <a:ext cx="121932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8741600">
            <a:off x="2742840" y="3352320"/>
            <a:ext cx="121932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4419000" y="3429000"/>
            <a:ext cx="1214280" cy="914400"/>
          </a:xfrm>
          <a:custGeom>
            <a:avLst/>
            <a:gdLst>
              <a:gd name="textAreaLeft" fmla="*/ 265680 w 1214280"/>
              <a:gd name="textAreaRight" fmla="*/ 948600 w 1214280"/>
              <a:gd name="textAreaTop" fmla="*/ 200160 h 914400"/>
              <a:gd name="textAreaBottom" fmla="*/ 7142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36" y="21600"/>
                </a:lnTo>
                <a:lnTo>
                  <a:pt x="5364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34290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3048120"/>
            <a:ext cx="6858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190512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429000" y="190512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90512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429000" y="41148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6000" y="4724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正方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45280" y="1066680"/>
            <a:ext cx="247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．沿虚线折一折，看看正方形的边长怎么样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长方形的边长怎么样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2743200"/>
            <a:ext cx="129528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286000" y="2781360"/>
            <a:ext cx="1295280" cy="1295280"/>
          </a:xfrm>
          <a:prstGeom prst="line">
            <a:avLst/>
          </a:prstGeom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2743200"/>
            <a:ext cx="1295280" cy="1295280"/>
          </a:xfrm>
          <a:prstGeom prst="line">
            <a:avLst/>
          </a:prstGeom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2857680"/>
            <a:ext cx="26668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895480"/>
            <a:ext cx="0" cy="10670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429000"/>
            <a:ext cx="266688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70040" y="4756320"/>
            <a:ext cx="35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．说一说，哪些物品的面是正方形的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哪些物品的面是长方形的．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564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长方形   正方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</dc:creator>
  <dc:description/>
  <dc:language>en-US</dc:language>
  <cp:lastModifiedBy>yanchao</cp:lastModifiedBy>
  <dcterms:modified xsi:type="dcterms:W3CDTF">2003-02-25T08:21:51Z</dcterms:modified>
  <cp:revision>11</cp:revision>
  <dc:subject/>
  <dc:title>PowerPoint Presentation</dc:title>
</cp:coreProperties>
</file>