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463-86F5-4382-9F74-0F27CC7C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7B7-1925-4BB8-A72A-6D8FE63A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90E-69C9-428C-A1A2-B0452E3C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86F-747B-4FB6-9F89-62E439F1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CCF-6B47-43DB-AE22-DC2FB6E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02D-A0D1-435D-BF99-128B1BC3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A3A-BC3D-4080-8466-7A058ACC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030-A029-4A9E-846C-866D380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C20-4568-4565-A767-7530CEC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95A-AA84-4120-9005-1D54784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9E8-D9BC-476E-85C1-65A0421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4EE-FDC5-4D97-9908-30690D6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52C-6E41-48D9-BFC0-52531A5E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038480"/>
            <a:ext cx="838080" cy="2286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105520"/>
            <a:ext cx="137160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12952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486400"/>
            <a:ext cx="1752480" cy="990720"/>
          </a:xfrm>
          <a:prstGeom prst="cube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24280"/>
            <a:ext cx="838080" cy="17528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4191120"/>
            <a:ext cx="990360" cy="2057400"/>
          </a:xfrm>
          <a:prstGeom prst="can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52880"/>
            <a:ext cx="609480" cy="106704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648320"/>
            <a:ext cx="838080" cy="182880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791320"/>
            <a:ext cx="838080" cy="1066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Times New Roman"/>
              </a:rPr>
              <a:t>图形的认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847880" cy="164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472428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75248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1452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1415880" cy="162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4114800"/>
            <a:ext cx="2648160" cy="13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514600" y="50292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371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说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东西的形状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99088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14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8380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色的粮仓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12960" cy="2081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819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一块钱币也可以看作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3717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334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包也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95280"/>
            <a:ext cx="1904760" cy="68580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04920"/>
            <a:ext cx="1218960" cy="20574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00240" y="761760"/>
            <a:ext cx="838080" cy="2057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57200"/>
            <a:ext cx="1219320" cy="17524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8195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说圆柱上下两个面是什么形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18957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2920" y="3505320"/>
            <a:ext cx="1658880" cy="297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533520"/>
            <a:ext cx="39621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它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5400" spc="-1" strike="noStrike">
                <a:solidFill>
                  <a:srgbClr val="ff9966"/>
                </a:solidFill>
                <a:latin typeface="Times New Roman"/>
              </a:rPr>
              <a:t>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一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30492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1676520"/>
            <a:ext cx="99036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334120" y="2438280"/>
            <a:ext cx="304560" cy="10670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685800" cy="45720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1447920"/>
            <a:ext cx="685800" cy="76176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990720"/>
            <a:ext cx="609840" cy="1295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861840" cy="87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61840" cy="87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590920"/>
            <a:ext cx="76212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2438280"/>
            <a:ext cx="1143000" cy="8384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体有（   ）个        圆柱体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方体有（   ）个          球      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1:27:18Z</dcterms:created>
  <dc:creator>ww</dc:creator>
  <dc:description/>
  <dc:language>en-US</dc:language>
  <cp:lastModifiedBy>ss</cp:lastModifiedBy>
  <dcterms:modified xsi:type="dcterms:W3CDTF">1999-11-16T03:20:25Z</dcterms:modified>
  <cp:revision>6</cp:revision>
  <dc:subject/>
  <dc:title>没有幻灯片标题</dc:title>
</cp:coreProperties>
</file>