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DAC-FA39-4E1F-BC83-6CDC43F5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0D2-28CA-412C-B8E1-170C12F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E96-DBAD-4958-A79E-95BC0C3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9AA-92EF-43E1-8A34-DB95B07C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F76-1CE0-45C2-B8C7-8F86F5D3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58B-C220-462F-AD29-F25E0EA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3B1-0DD4-4D10-A7FA-AD674466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A94-C076-4A26-B758-3AF4718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864-EA7D-4F1A-9AAF-CE2CDE8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380-53A0-4885-8EB3-EFEE38D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72B-F067-4A5C-985B-AAEE1B1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69F-C8A1-4CC9-A645-C39A6A1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329D-3C32-4326-8837-593CB2C35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467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图形的拼组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智力游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pic>
        <p:nvPicPr>
          <p:cNvPr id="43" name="092" descr=""/>
          <p:cNvPicPr/>
          <p:nvPr/>
        </p:nvPicPr>
        <p:blipFill>
          <a:blip r:embed="rId2">
            <a:lum contrast="48000"/>
          </a:blip>
          <a:srcRect l="33492" t="39042" r="38606" b="50836"/>
          <a:stretch/>
        </p:blipFill>
        <p:spPr>
          <a:xfrm>
            <a:off x="4114800" y="4952880"/>
            <a:ext cx="220968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092" descr=""/>
          <p:cNvPicPr/>
          <p:nvPr/>
        </p:nvPicPr>
        <p:blipFill>
          <a:blip r:embed="rId3">
            <a:lum contrast="54000"/>
          </a:blip>
          <a:srcRect l="7444" t="16959" r="3260" b="75701"/>
          <a:stretch/>
        </p:blipFill>
        <p:spPr>
          <a:xfrm>
            <a:off x="0" y="1676520"/>
            <a:ext cx="868680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092" descr=""/>
          <p:cNvPicPr/>
          <p:nvPr/>
        </p:nvPicPr>
        <p:blipFill>
          <a:blip r:embed="rId4">
            <a:lum contrast="42000"/>
          </a:blip>
          <a:srcRect l="33439" t="26757" r="39511" b="63162"/>
          <a:stretch/>
        </p:blipFill>
        <p:spPr>
          <a:xfrm>
            <a:off x="3657600" y="30481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092" descr=""/>
          <p:cNvPicPr/>
          <p:nvPr/>
        </p:nvPicPr>
        <p:blipFill>
          <a:blip r:embed="rId5">
            <a:lum contrast="42000"/>
          </a:blip>
          <a:srcRect l="4526" t="41281" r="66517" b="51316"/>
          <a:stretch/>
        </p:blipFill>
        <p:spPr>
          <a:xfrm>
            <a:off x="380880" y="4952880"/>
            <a:ext cx="3505320" cy="1363680"/>
          </a:xfrm>
          <a:prstGeom prst="rect">
            <a:avLst/>
          </a:prstGeom>
          <a:ln w="0">
            <a:noFill/>
          </a:ln>
        </p:spPr>
      </p:pic>
      <p:pic>
        <p:nvPicPr>
          <p:cNvPr id="47" name="092" descr=""/>
          <p:cNvPicPr/>
          <p:nvPr/>
        </p:nvPicPr>
        <p:blipFill>
          <a:blip r:embed="rId6">
            <a:lum contrast="42000"/>
          </a:blip>
          <a:srcRect l="5071" t="30088" r="74787" b="62398"/>
          <a:stretch/>
        </p:blipFill>
        <p:spPr>
          <a:xfrm>
            <a:off x="685800" y="304812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200400"/>
            <a:ext cx="2286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还能把它们拼成其它图形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352680"/>
          <a:ext cx="274320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352680"/>
                    <a:ext cx="27432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3520" y="4952880"/>
          <a:ext cx="1904760" cy="1714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952880"/>
                    <a:ext cx="19047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657600" y="5257800"/>
          <a:ext cx="2286000" cy="14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57600" y="5257800"/>
                    <a:ext cx="22860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00400" y="3429000"/>
          <a:ext cx="2057400" cy="133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0400" y="3429000"/>
                    <a:ext cx="20574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715000" y="3276720"/>
          <a:ext cx="2362320" cy="182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5000" y="3276720"/>
                    <a:ext cx="236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04920" y="3809880"/>
          <a:ext cx="4114800" cy="16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809880"/>
                    <a:ext cx="41148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2362320" y="4495680"/>
            <a:ext cx="1218960" cy="7621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4197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057400" y="3352680"/>
          <a:ext cx="33526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52680"/>
                    <a:ext cx="33526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6668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724280"/>
            <a:ext cx="2057400" cy="1524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666880" y="3276720"/>
          <a:ext cx="3962520" cy="25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3276720"/>
                    <a:ext cx="396252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76720" y="4648320"/>
            <a:ext cx="251460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647960" y="3352680"/>
            <a:ext cx="152280" cy="144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19520" y="3429000"/>
          <a:ext cx="3809880" cy="233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3429000"/>
                    <a:ext cx="380988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 flipH="1">
            <a:off x="4114800" y="4572000"/>
            <a:ext cx="1295280" cy="1066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657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4495680"/>
            <a:ext cx="24382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92" descr=""/>
          <p:cNvPicPr/>
          <p:nvPr/>
        </p:nvPicPr>
        <p:blipFill>
          <a:blip r:embed="rId1">
            <a:lum contrast="42000"/>
          </a:blip>
          <a:srcRect l="25345" t="3950" r="32314" b="85089"/>
          <a:stretch/>
        </p:blipFill>
        <p:spPr>
          <a:xfrm>
            <a:off x="0" y="0"/>
            <a:ext cx="4038480" cy="15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28600" y="1676520"/>
          <a:ext cx="853452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5345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3657600"/>
          <a:ext cx="2666880" cy="20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657600"/>
                    <a:ext cx="26668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124080" y="3048120"/>
          <a:ext cx="2533680" cy="32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3048120"/>
                    <a:ext cx="25336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962520" y="41148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1148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257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2004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画出正方形，再用虚线画出三角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9:09:33Z</dcterms:created>
  <dc:creator>ww</dc:creator>
  <dc:description/>
  <dc:language>en-US</dc:language>
  <cp:lastModifiedBy>wang</cp:lastModifiedBy>
  <dcterms:modified xsi:type="dcterms:W3CDTF">2004-01-13T01:44:24Z</dcterms:modified>
  <cp:revision>8</cp:revision>
  <dc:subject/>
  <dc:title>PowerPoint 演示文稿</dc:title>
</cp:coreProperties>
</file>