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8B4-59F3-4A62-864A-38E37352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805-9E0F-4C71-8B8A-787B771E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3B4-2616-40A6-8D89-4E667892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699-6846-4003-BB9E-CD56697A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C55-7230-4D8B-A3D4-6275AED7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925-1914-4D12-9D83-4ED712F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BED-90A0-4265-9931-75078393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98D-229A-4475-B324-C8ECF7DF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359-EF6D-4035-AB6F-A631058A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485-5921-4A94-BF45-DA78B4B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992-4B57-49D2-B5BC-5227CB0A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24A-CE2A-4E56-AED4-FCD5356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1AE9-D2FA-47C4-9CB9-CF2B3BA40E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国旗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3244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1460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98108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981080"/>
            <a:ext cx="0" cy="19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962520"/>
            <a:ext cx="380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5000" y="14889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请说出几号图形是长方形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42900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741600">
            <a:off x="2742840" y="3352320"/>
            <a:ext cx="12193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419000" y="3429000"/>
            <a:ext cx="1214280" cy="914400"/>
          </a:xfrm>
          <a:custGeom>
            <a:avLst/>
            <a:gdLst>
              <a:gd name="textAreaLeft" fmla="*/ 265680 w 1214280"/>
              <a:gd name="textAreaRight" fmla="*/ 948600 w 1214280"/>
              <a:gd name="textAreaTop" fmla="*/ 200160 h 914400"/>
              <a:gd name="textAreaBottom" fmla="*/ 7142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36" y="21600"/>
                </a:lnTo>
                <a:lnTo>
                  <a:pt x="5364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3429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048120"/>
            <a:ext cx="6858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29000" y="190512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9051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4114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600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正方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45280" y="1066680"/>
            <a:ext cx="24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沿虚线折一折，看看正方形的边长怎么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形的边长怎么样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743200"/>
            <a:ext cx="12952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0" y="278136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743200"/>
            <a:ext cx="1295280" cy="129528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857680"/>
            <a:ext cx="26668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8954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42900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0040" y="4756320"/>
            <a:ext cx="35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．说一说，哪些物品的面是正方形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哪些物品的面是长方形的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5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长方形   正方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</dc:creator>
  <dc:description/>
  <dc:language>en-US</dc:language>
  <cp:lastModifiedBy>yanchao</cp:lastModifiedBy>
  <dcterms:modified xsi:type="dcterms:W3CDTF">2003-02-25T08:21:51Z</dcterms:modified>
  <cp:revision>11</cp:revision>
  <dc:subject/>
  <dc:title>PowerPoint Presentation</dc:title>
</cp:coreProperties>
</file>