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76D2-E7BC-44B4-99FB-8A6A9AE7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1224-F013-41EC-98AB-4CAF979F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28B6-74D1-41DA-B891-19B1F26BB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21C1-0F9E-4866-A17A-E910A8B75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52A0-3963-4E4D-981E-40563446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103D-1612-47CB-867D-34C0B003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CCAD-CF89-4CEF-8B4C-3481EA7C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BB48-417F-49AA-9219-0F011AA5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987F-F324-402F-B9A9-F320A82D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9035-8EE9-44A3-AD61-3ACC532D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85DA-61B0-4A8B-8DF9-9658D4F0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DC53-B703-438D-BBBB-00DE7D46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1736-F236-4BAF-9EA1-F87564AA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BFAB-89BF-4277-8FC2-A82379B4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30B3-64FF-4623-A849-7D5F6AC8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2FA2-92E0-4D27-8D39-F9EABEB5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5733-BD89-4618-8BA4-CB53138D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216A-34CA-4EE4-90FC-410736C9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9BB5-9842-4E0F-8B45-5131D04A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3887-509B-4EB3-B134-42DF9AEA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011A-E8A9-408F-AC7E-3ABFEF97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B530-8AC7-4B4A-AFB0-DC596D3D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A41A-9D4D-40DC-9A2A-A4E95358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B039-1825-4D37-BCC5-3BD7E6A4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B1D9-166B-4B89-A997-7D4864557A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C7B5-75AC-42C8-BF02-896D2E8EC7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83808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间单位进率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362320"/>
            <a:ext cx="6324480" cy="1752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世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月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09:13:06Z</dcterms:created>
  <dc:creator>ww</dc:creator>
  <dc:description/>
  <dc:language>en-US</dc:language>
  <cp:lastModifiedBy>wang</cp:lastModifiedBy>
  <dcterms:modified xsi:type="dcterms:W3CDTF">2004-01-08T04:05:19Z</dcterms:modified>
  <cp:revision>2</cp:revision>
  <dc:subject/>
  <dc:title>PowerPoint 演示文稿</dc:title>
</cp:coreProperties>
</file>